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510C7-D50D-423C-85BC-29D09E361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C1663-6DE2-4CFE-BE95-35379B8EB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B9322-CB67-42DC-983C-30CE5894B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36AD4-9ECF-4523-A1A8-48150F016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C48FE-EBB9-4D26-9D6B-59F400A64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1D3DD-8FA1-4F38-AD12-5ED6BB5F3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38708-CC44-4C55-9ED1-7756C66E4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B8B0F-BC68-46D9-98F5-C484183D6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28EAF-BB15-4E80-B79A-6FAE9F802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6405A-30B7-48B7-98CF-5DF3D03DF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B4C91-AF4A-4F77-AFA1-1C58A7907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FAA1F-BEA1-4EFA-AA12-8DB90C2C8C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D2F3C-5B49-45F1-8EF7-334CB34BA11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Stencil"/>
              </a:rPr>
              <a:t>16.2 Women and the movement</a:t>
            </a:r>
            <a:endParaRPr b="0" lang="en-US" sz="4300" spc="-1" strike="noStrike">
              <a:solidFill>
                <a:srgbClr val="000000"/>
              </a:solidFill>
              <a:latin typeface="Calibri"/>
            </a:endParaRPr>
          </a:p>
        </p:txBody>
      </p:sp>
      <p:sp>
        <p:nvSpPr>
          <p:cNvPr id="42" name="TextBox 3"/>
          <p:cNvSpPr/>
          <p:nvPr/>
        </p:nvSpPr>
        <p:spPr>
          <a:xfrm>
            <a:off x="228600" y="1752480"/>
            <a:ext cx="86868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6.2 discuss the evolution of women’s roles in public life during the Progressive Era. On your own sheet of paper discuss women’s roles in education, employment and their political involvement at the time. Make sure to include important figure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xt, create a timeline of the suffrage movement. Make sure you include all important figures, events, dates, laws, etc. Your timeline must be creative and colorful. It must have at least three pictures and should not be on lined notebook pap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14:18:06Z</dcterms:created>
  <dc:creator>IT Clone User</dc:creator>
  <dc:description/>
  <dc:language>en-US</dc:language>
  <cp:lastModifiedBy>IT Clone User</cp:lastModifiedBy>
  <dcterms:modified xsi:type="dcterms:W3CDTF">2009-10-15T14:19:39Z</dcterms:modified>
  <cp:revision>1</cp:revision>
  <dc:subject/>
  <dc:title>16.2 Women and the movement</dc:title>
</cp:coreProperties>
</file>