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23D-83C2-4CD0-A80F-37662542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59E-3DAB-47C2-8242-0A93AD69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95CE-9A9B-47C0-BB6E-ECFD7208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088-3A54-4984-99C1-032DD455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A550-2A7A-48C0-8707-45EA1E9D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E7F-AF02-4E1E-8F47-E6DDFB54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F1F-FAD7-41B1-9BAB-20490B44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BD39-0B63-4DA8-B072-D4E5D74B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CBD-F047-49E8-B68F-964C5D82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B35-7F28-4C2B-9E33-E57754DF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F79-B3DB-4DE3-B06B-A1E575BD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CAB-BB04-4B4C-96E6-467C7D58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3935-E3A6-4B08-A861-1F33871F0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9/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up the definition of capitalism in your book’s glossary; based on what the book tells you and what you know about American society today, what are some advantages and disadvantages to capitalis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0"/>
          <a:ext cx="9144000" cy="70405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ot or Strik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use of r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ot/strik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’t reacti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s on nati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 Railroad Strik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ymarket Rio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stead Strik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llman Strik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9/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to page 493. Read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ativists Respon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. What was the purpose of the Chinese Exclusion Act and the Gentlemen's Agre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9/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to page 497. Read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lass Differenc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. How was life different for different classes? How did Industrialization create a class socie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orm, Corruption,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olitics in the Gilded 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strial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rowth of new ___________ makes some very ________ and some very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theor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Darwinis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Gosp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media.ebaumsworld.com/picture/SomeAsshole/SocialDarwinism.png"/>
          <p:cNvPicPr/>
          <p:nvPr/>
        </p:nvPicPr>
        <p:blipFill>
          <a:blip r:embed="rId1"/>
          <a:srcRect l="8925" t="7690" r="11077" b="7690"/>
          <a:stretch/>
        </p:blipFill>
        <p:spPr>
          <a:xfrm>
            <a:off x="4370400" y="2438280"/>
            <a:ext cx="4773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tical Machin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FORM (good things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76520"/>
            <a:ext cx="404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s have______ in the community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ched out to 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ed the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d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in wi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ed find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 ________on holiday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’s the cat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143000"/>
            <a:ext cx="40417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RUPTION (not so good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4720" y="1676520"/>
            <a:ext cx="404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M bosses ________ v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te early, vote often!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ke referring to voter _______ in Chica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sses encourage people to vo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sses demand________ if constituencies want to keep their job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sses _____________ people to stay in pow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ndal Strikes Ol’ Uly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1920" y="1143000"/>
            <a:ext cx="4496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ysses Grant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presidency is riddled with _______. Most famous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edit Mobili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cand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t Modilier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 chargers taxpay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a $ goes to stockholders, company bosses an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z.about.com/d/americanhistory/1/0/m/9/18_grant_1.jpg"/>
          <p:cNvPicPr/>
          <p:nvPr/>
        </p:nvPicPr>
        <p:blipFill>
          <a:blip r:embed="rId1"/>
          <a:stretch/>
        </p:blipFill>
        <p:spPr>
          <a:xfrm>
            <a:off x="4648320" y="1371600"/>
            <a:ext cx="2857320" cy="352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www.sonofthesouth.net/leefoundation/civil-war/1864/general-grant.jpg"/>
          <p:cNvPicPr/>
          <p:nvPr/>
        </p:nvPicPr>
        <p:blipFill>
          <a:blip r:embed="rId2"/>
          <a:srcRect l="30585" t="31473" r="12150" b="0"/>
          <a:stretch/>
        </p:blipFill>
        <p:spPr>
          <a:xfrm>
            <a:off x="6324480" y="3352680"/>
            <a:ext cx="2514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blican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1920" y="1143000"/>
            <a:ext cx="4496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therford Hayes,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nts to end the spoils system, (: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es forbids his employees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mes Garfield,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works to end corruption. His presidency is short becau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www.visitingdc.com/images/rutherford-hayes-picture.jpg"/>
          <p:cNvPicPr/>
          <p:nvPr/>
        </p:nvPicPr>
        <p:blipFill>
          <a:blip r:embed="rId1"/>
          <a:stretch/>
        </p:blipFill>
        <p:spPr>
          <a:xfrm>
            <a:off x="4800600" y="1447920"/>
            <a:ext cx="2433600" cy="2361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banknotegallery.com/Sortby/Sortbypics/garfield.jpg"/>
          <p:cNvPicPr/>
          <p:nvPr/>
        </p:nvPicPr>
        <p:blipFill>
          <a:blip r:embed="rId2"/>
          <a:stretch/>
        </p:blipFill>
        <p:spPr>
          <a:xfrm>
            <a:off x="6477120" y="3200400"/>
            <a:ext cx="22399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9/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228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 is one of the only major Democratic countries with only 2 major political parties, (Democrats and Republicans). Why do you think third parties, (The Green Party, Reform Party, Libertarian Party…), aren’t successful here? What purpose do you believe they serv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can’t answer the first couple of questions tell me which of the 2 major parties you identify with and wh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eople’s Pa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tional Grange, Farmer’s Alliance and the Populist Par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 Capit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Second Industrial Rev and the Start of Big Busi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al G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7617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 1800s _________ call for re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’t pay off ________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Rs charge high ra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athetic groups provide _____ for farmers= 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shed gov’t to regula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C 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reated to regulat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alphabetilately.com/Trains/1323.jpg"/>
          <p:cNvPicPr/>
          <p:nvPr/>
        </p:nvPicPr>
        <p:blipFill>
          <a:blip r:embed="rId1"/>
          <a:stretch/>
        </p:blipFill>
        <p:spPr>
          <a:xfrm>
            <a:off x="5410080" y="1371600"/>
            <a:ext cx="3000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er’s All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240" y="7617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iance has same goals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one new go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iance wants more _______ in circ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870s money is backed by ______; FA wants $ to be backed by _______ al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old and Silver standard failed b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www.irwinator.com/126/w280.JPG"/>
          <p:cNvPicPr/>
          <p:nvPr/>
        </p:nvPicPr>
        <p:blipFill>
          <a:blip r:embed="rId1"/>
          <a:stretch/>
        </p:blipFill>
        <p:spPr>
          <a:xfrm>
            <a:off x="5029200" y="871560"/>
            <a:ext cx="359100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ist Pa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240" y="114264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uraged by their success in 1890 FA members form a political party call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im to be the party of “plain ________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nebraskastudies.org/0600/media/0601_030001.gif"/>
          <p:cNvPicPr/>
          <p:nvPr/>
        </p:nvPicPr>
        <p:blipFill>
          <a:blip r:embed="rId1"/>
          <a:srcRect l="4447" t="6093" r="6500" b="8757"/>
          <a:stretch/>
        </p:blipFill>
        <p:spPr>
          <a:xfrm>
            <a:off x="4735440" y="2362320"/>
            <a:ext cx="4179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different kind of r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dustrial R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180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am and water power repla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pl produce products in __________ instead of from 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dustrial R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 180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power repla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innovations in transpor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s are produced ______er &amp; ______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’s a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TEE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300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iam Kelly, an AMERICAN, invents a w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ethod makes steel easy and _____ to produ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 becomes the world’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steel mat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forums.chargers.com/image.php?u=71681&amp;dateline=1233719948"/>
          <p:cNvPicPr/>
          <p:nvPr/>
        </p:nvPicPr>
        <p:blipFill>
          <a:blip r:embed="rId1"/>
          <a:stretch/>
        </p:blipFill>
        <p:spPr>
          <a:xfrm>
            <a:off x="4952880" y="26668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9/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government’s role in business? Should big business be regulated by government? Why/why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 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BI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Busi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titrust, sweatshops, labor unions and rio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te business…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ignore the wor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240" y="11430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’t ha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aissez-fai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’t becomes nervous about the pow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Sherman Antitrust 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laws trusts b/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laws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’t ignores the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historyteacher.net/AHAP/images/BigBusiness.JPG"/>
          <p:cNvPicPr/>
          <p:nvPr/>
        </p:nvPicPr>
        <p:blipFill>
          <a:blip r:embed="rId1"/>
          <a:stretch/>
        </p:blipFill>
        <p:spPr>
          <a:xfrm>
            <a:off x="4648320" y="2666880"/>
            <a:ext cx="4267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ers and working cond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11430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y workers were _________,________ and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ing conditions were horr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hour + 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 day work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red workers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eatsho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humanities.uci.edu/history/ucihp/hot/images/sweatshop.jpg"/>
          <p:cNvPicPr/>
          <p:nvPr/>
        </p:nvPicPr>
        <p:blipFill>
          <a:blip r:embed="rId1"/>
          <a:srcRect l="0" t="0" r="15938" b="0"/>
          <a:stretch/>
        </p:blipFill>
        <p:spPr>
          <a:xfrm>
            <a:off x="4294080" y="2743200"/>
            <a:ext cx="484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WE WANT?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ise of labor un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240" y="13716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 of  the first labor un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sonable 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f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ights of Labor was most powerful. Work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lity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takver.com/history/lh_gifs/kol_seal.gif"/>
          <p:cNvPicPr/>
          <p:nvPr/>
        </p:nvPicPr>
        <p:blipFill>
          <a:blip r:embed="rId1"/>
          <a:stretch/>
        </p:blipFill>
        <p:spPr>
          <a:xfrm>
            <a:off x="4294080" y="2133720"/>
            <a:ext cx="4849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3:07:37Z</dcterms:created>
  <dc:creator>IT Clone User</dc:creator>
  <dc:description/>
  <dc:language>en-US</dc:language>
  <cp:lastModifiedBy>IT Clone User</cp:lastModifiedBy>
  <dcterms:modified xsi:type="dcterms:W3CDTF">2009-09-29T12:05:57Z</dcterms:modified>
  <cp:revision>219</cp:revision>
  <dc:subject/>
  <dc:title>American Capitolism</dc:title>
</cp:coreProperties>
</file>