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A41-B7A7-4FF3-89F9-A6E2893D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478-9DEC-4C0A-AF15-F61E7E8F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0D2-3500-43C3-8A59-B40950D3A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6BC-CDAE-4562-9ABF-A33E3FE8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CC3-2635-4F24-8CC5-B04C944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863-F793-454F-BF7A-42E23A30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8AD1-E72A-48F6-869A-845B6E93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27C-0EC0-444D-AE7B-5D7FF462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C2C-A34B-4E63-B851-C65007D9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FBE6-10AE-4F28-9E9C-697C769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B64-6621-4E35-B6C9-009203FE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5B23-1095-428A-9C15-C45A430F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9D20-B33C-493C-9643-656B33F8F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up the definition of capitalism in your book’s glossary; based on what the book tells you and what you know about American society today, what are some advantages and disadvantages to capitalis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7040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t or Strik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use of r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ot/strik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ov’t reacti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s on nati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at Railroad Stri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ymarket Rio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stead Stri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llman Strik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page 493. Read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ativists Respo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. What was the purpose of the Chinese Exclusion Act and the Gentlemen's Agre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2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to page 497. Read the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lass Differenc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tion. How was life different for different classes? How did Industrialization create a class societ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orm, Corruption,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Politics in the Gilded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ustrial Socie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rowth of new ___________ makes some very ________ and some very 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theor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Darwinis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Gosp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media.ebaumsworld.com/picture/SomeAsshole/SocialDarwinism.png"/>
          <p:cNvPicPr/>
          <p:nvPr/>
        </p:nvPicPr>
        <p:blipFill>
          <a:blip r:embed="rId1"/>
          <a:srcRect l="8925" t="7690" r="11077" b="7690"/>
          <a:stretch/>
        </p:blipFill>
        <p:spPr>
          <a:xfrm>
            <a:off x="4370400" y="2438280"/>
            <a:ext cx="47736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litical Machin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FORM (good things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76520"/>
            <a:ext cx="4040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fessionals have______ in the community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ched out to 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ed th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d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________in wi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ed fi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________on holidays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’s the catc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720" y="1143000"/>
            <a:ext cx="40417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RUPTION (not so good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4720" y="1676520"/>
            <a:ext cx="404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M bosses ________ v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te early, vote often!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ke referring to voter _______ in Chicag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ses encourage people to vo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ses demand________ if constituencies want to keep their job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sses _____________ people to stay in pow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andal Strikes Ol’ Uly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51920" y="1143000"/>
            <a:ext cx="4496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ysses Grant i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s presidency is riddled with _______. Most famous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edit Mobili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cand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dit Modilier 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M chargers taxpay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ra $ goes to stockholders, company bosses an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z.about.com/d/americanhistory/1/0/m/9/18_grant_1.jpg"/>
          <p:cNvPicPr/>
          <p:nvPr/>
        </p:nvPicPr>
        <p:blipFill>
          <a:blip r:embed="rId1"/>
          <a:stretch/>
        </p:blipFill>
        <p:spPr>
          <a:xfrm>
            <a:off x="4648320" y="1371600"/>
            <a:ext cx="2857320" cy="352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www.sonofthesouth.net/leefoundation/civil-war/1864/general-grant.jpg"/>
          <p:cNvPicPr/>
          <p:nvPr/>
        </p:nvPicPr>
        <p:blipFill>
          <a:blip r:embed="rId2"/>
          <a:srcRect l="30585" t="31473" r="12150" b="0"/>
          <a:stretch/>
        </p:blipFill>
        <p:spPr>
          <a:xfrm>
            <a:off x="6324480" y="3352680"/>
            <a:ext cx="2514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ublican Re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1920" y="1143000"/>
            <a:ext cx="4496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therford Hayes,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ts to end the spoils system, (: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yes forbids his employe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mes Garfield,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works to end corruption. His presidency is short becau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www.visitingdc.com/images/rutherford-hayes-picture.jpg"/>
          <p:cNvPicPr/>
          <p:nvPr/>
        </p:nvPicPr>
        <p:blipFill>
          <a:blip r:embed="rId1"/>
          <a:stretch/>
        </p:blipFill>
        <p:spPr>
          <a:xfrm>
            <a:off x="4800600" y="1447920"/>
            <a:ext cx="2433600" cy="2361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ttp://banknotegallery.com/Sortby/Sortbypics/garfield.jpg"/>
          <p:cNvPicPr/>
          <p:nvPr/>
        </p:nvPicPr>
        <p:blipFill>
          <a:blip r:embed="rId2"/>
          <a:stretch/>
        </p:blipFill>
        <p:spPr>
          <a:xfrm>
            <a:off x="6477120" y="3200400"/>
            <a:ext cx="223992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2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 is one of the only major Democratic countries with only 2 major political parties, (Democrats and Republicans). Why do you think third parties, (The Green Party, Reform Party, Libertarian Party…), aren’t successful here? What purpose do you believe they serv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can’t answer the first couple of questions tell me which of the 2 major parties you identify with and wh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People’s Pa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National Grange, Farmer’s Alliance and the Populist Par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Capital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Second Industrial Rev and the Start of Big Busin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ional Gr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te 1800s _________ call for re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’t pay off ________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Rs charge high ra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mpathetic groups provide _____ for farmers= 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shed gov’t to regula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C 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reated to regulat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alphabetilately.com/Trains/1323.jpg"/>
          <p:cNvPicPr/>
          <p:nvPr/>
        </p:nvPicPr>
        <p:blipFill>
          <a:blip r:embed="rId1"/>
          <a:stretch/>
        </p:blipFill>
        <p:spPr>
          <a:xfrm>
            <a:off x="5410080" y="1371600"/>
            <a:ext cx="3000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’s Al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28240" y="76176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iance has same goals 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one new go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iance wants more _______ in circ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870s money is backed by ______; FA wants $ to be backed by _______ als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old and Silver standard failed b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irwinator.com/126/w280.JPG"/>
          <p:cNvPicPr/>
          <p:nvPr/>
        </p:nvPicPr>
        <p:blipFill>
          <a:blip r:embed="rId1"/>
          <a:stretch/>
        </p:blipFill>
        <p:spPr>
          <a:xfrm>
            <a:off x="5029200" y="871560"/>
            <a:ext cx="35910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ist Par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240" y="1142640"/>
            <a:ext cx="4419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uraged by their success in 1890 FA members form a political party call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amp;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im to be the party of “plain ________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nebraskastudies.org/0600/media/0601_030001.gif"/>
          <p:cNvPicPr/>
          <p:nvPr/>
        </p:nvPicPr>
        <p:blipFill>
          <a:blip r:embed="rId1"/>
          <a:srcRect l="4447" t="6093" r="6500" b="8757"/>
          <a:stretch/>
        </p:blipFill>
        <p:spPr>
          <a:xfrm>
            <a:off x="4735440" y="2362320"/>
            <a:ext cx="4179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different kind of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dustrial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18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am and water power repla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l produce products in __________ instead of from 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ndustrial Rev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 1800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power repla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innovations in transporta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s are produced ______er &amp; ______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’s a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STEE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3000"/>
            <a:ext cx="4114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Kelly, an AMERICAN, invents a w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method makes steel easy and _____ to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erica becomes the world’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steel ma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forums.chargers.com/image.php?u=71681&amp;dateline=1233719948"/>
          <p:cNvPicPr/>
          <p:nvPr/>
        </p:nvPicPr>
        <p:blipFill>
          <a:blip r:embed="rId1"/>
          <a:stretch/>
        </p:blipFill>
        <p:spPr>
          <a:xfrm>
            <a:off x="4952880" y="26668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ournal 9/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government’s role in business? Should big business be regulated by government? Why/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erican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BIG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Busi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ntitrust, sweatshops, labor unions and rio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gulate business…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t ignore the work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’t ha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aissez-fai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’t becomes nervous about the pow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eate Sherman Antitrust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aws trusts b/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laws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v’t ignores the 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historyteacher.net/AHAP/images/BigBusiness.JPG"/>
          <p:cNvPicPr/>
          <p:nvPr/>
        </p:nvPicPr>
        <p:blipFill>
          <a:blip r:embed="rId1"/>
          <a:stretch/>
        </p:blipFill>
        <p:spPr>
          <a:xfrm>
            <a:off x="4648320" y="2666880"/>
            <a:ext cx="426708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ers and working cond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y workers were _________,________ and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ing conditions were horr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hour + 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 day work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red workers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eatshop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humanities.uci.edu/history/ucihp/hot/images/sweatshop.jpg"/>
          <p:cNvPicPr/>
          <p:nvPr/>
        </p:nvPicPr>
        <p:blipFill>
          <a:blip r:embed="rId1"/>
          <a:srcRect l="0" t="0" r="15938" b="0"/>
          <a:stretch/>
        </p:blipFill>
        <p:spPr>
          <a:xfrm>
            <a:off x="4294080" y="2743200"/>
            <a:ext cx="48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 WE WANT?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ise of labor un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24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al of  the first labor un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rt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sonable 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nights of Labor was most powerful. Work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ality i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takver.com/history/lh_gifs/kol_seal.gif"/>
          <p:cNvPicPr/>
          <p:nvPr/>
        </p:nvPicPr>
        <p:blipFill>
          <a:blip r:embed="rId1"/>
          <a:stretch/>
        </p:blipFill>
        <p:spPr>
          <a:xfrm>
            <a:off x="4294080" y="2133720"/>
            <a:ext cx="4849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07:37Z</dcterms:created>
  <dc:creator>IT Clone User</dc:creator>
  <dc:description/>
  <dc:language>en-US</dc:language>
  <cp:lastModifiedBy>IT Clone User</cp:lastModifiedBy>
  <dcterms:modified xsi:type="dcterms:W3CDTF">2009-09-29T12:05:57Z</dcterms:modified>
  <cp:revision>219</cp:revision>
  <dc:subject/>
  <dc:title>American Capitolism</dc:title>
</cp:coreProperties>
</file>