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0D94-459A-4375-8320-CBFF6CB5F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B070-C70B-47D7-A7F2-99F475DC8A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A01-47BC-4315-9F57-AEF6D1CD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8D53-B27B-4D0C-BE74-6407C33B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7BA-B1E6-4BBB-B87E-6E5E2E51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5C3-5E8B-4F72-A480-8E6251E6C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C33A-2255-4DD2-BE51-08AA9529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B73EB-4621-4838-BD6F-EDDF75FB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17F3-8846-4FE3-8299-5A5593E9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D18D-8833-4D10-A318-C7520413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A21-D001-4B1B-A0A0-415501BD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8E8D-206F-4FC1-84A0-EC095AA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5F1B-E070-428C-870B-E4F0C5C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500D-58B0-4926-B2CE-C50A4480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6592-EB6D-4A49-88D9-733228A1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52B3-AE69-408B-B32D-EEB0C9E6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0B7D-BFAA-47C9-B336-DC455E44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C141-46DA-469B-ABE2-05AD8F08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B71D-2496-457A-9A0D-E0548D2D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3BB6-2170-420C-9AF3-9D939CF9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0789-1CDC-4AF1-A4EB-5BF48069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EA56-F3BF-4D1E-8D9A-372F3438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A83CF-10BF-497E-A9E0-292FAB2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30E5A-7AF6-4B29-8D86-FADE861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151-D3E7-430E-A676-7BFD8520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6B0E9-92D5-4938-8058-3244EC5E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BE335-4302-4D94-A527-F3914DF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44F6-5E4F-465F-BD2A-77A9ADB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04A87-DF98-4E9A-BD21-EF9EBFF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E4020-A078-4D00-8CC0-05458F79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0316-32B9-464E-96A1-FC2DFDA8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11E0B-928B-4170-A71F-039610B9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9AD39-9AF8-40EB-AE39-F60E5414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5B93-2D20-45E4-8EC8-E1973F7F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327C9-2EED-44AE-9FAE-F82CE00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A43-539C-4561-955F-CDC023A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4B15A-0ACE-47D2-B79E-5B6D1F03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BBB8-38DE-4254-B3D2-297F025F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426A6-5D71-465E-B92C-B41A8554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D0F7-BFF8-4DE4-B725-8056D9C6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9D37D-9C14-429E-A3A3-294E3ABD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1865D-136E-4EE2-8F49-FBC8214D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A2B5-D8BE-40A1-94C7-9C6770FE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0CDA0-2CD2-46CA-93DC-E9EC57F7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50FC4-E244-4417-B27A-AF98E284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70696-3854-4830-B905-C0900B1F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B01E-EA8F-4641-B6DD-4E1F91F3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EAD70-E6F7-4500-8D68-5E110276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195C-0BF9-471A-83EC-7A75BD46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606BE-C808-47BB-89C9-1F8E732B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C24A-1845-4D9B-8AD2-D1919880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DFE8-218C-446B-AE6C-BF6995D4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264EE-AE7B-4745-8C3C-ED03726E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01873-EC72-4A97-BFDC-518DF53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DE0C0-F6B2-4E06-A71F-6B555EB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F1E48-78A2-4590-B1AE-AB302E4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DBF8A-F729-4216-A457-28AD3FA10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C2A-07DC-4F31-A6F9-B3D1A711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4471-6A1D-4D73-BE08-C72BD1B6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2D70F-8090-432B-BF18-2DC31A19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3F37F-E742-4AF5-BFEF-1D2D7F4C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4378-FA24-41CC-B6D7-69EFF840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78750-7DD7-4A55-B2B1-464E1FC7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92A89-752D-4211-97E7-B52923E2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841AC-2668-468B-B3B2-405C7798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22026-DC4C-4342-AEE9-A2F939E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35374-E71B-40BC-A609-E4EA6AE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B052C-8AA1-4562-A8EC-83F05DB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EA5-049E-48EE-9A49-955D5F4E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018D-FC78-477D-BF43-C7177BD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5C39-A330-49F7-8B4D-C88D37AA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F2117-BC36-4BEB-B5B1-A55A90E5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43933-9726-48C4-8C6A-9CA50CB58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E2F90-4EF1-4FDC-B18B-734044B5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AB2F9-398A-497D-952D-A690B25D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4BE62-91AA-4D0C-A326-DA79B5A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F64D-FD67-4000-B794-6C71DA69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F9960-9DE0-4459-97CB-0C73CE5B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697D-4E1C-41C6-86F4-5A9CEFD5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480F-69CF-4737-AE64-96CD4F20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7D13-69F0-4D08-83AD-7B05E6D2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103C7-813D-4DF4-8BE8-151C28B5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21D0A-0A15-4E60-B2E9-4F8514F6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7DA8E-C09F-47CE-AA02-BDA5084E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6B099-0610-4DE7-BDE7-59A4AC2D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A48C-C17F-4298-9CB6-1C06D269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DF54-C52B-4173-9B45-C57AE4FD6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FB41-5B07-425B-9DA7-A7D0E67486A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B07D-9ADA-413F-81CA-374DC8E93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FE26-398E-4FC9-852B-B74A419329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7E28-E012-47B7-9C83-4C4CB9040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8747-303D-4C99-93F3-6BF4E85977E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F7D2-1D0A-4163-A32D-0F77DE697BB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457200" y="301680"/>
            <a:ext cx="5638680" cy="6556320"/>
          </a:xfrm>
          <a:prstGeom prst="rect">
            <a:avLst/>
          </a:prstGeom>
          <a:ln w="0">
            <a:noFill/>
          </a:ln>
        </p:spPr>
      </p:pic>
      <p:cxnSp>
        <p:nvCxnSpPr>
          <p:cNvPr id="309" name="Straight Arrow Connector 5"/>
          <p:cNvCxnSpPr/>
          <p:nvPr/>
        </p:nvCxnSpPr>
        <p:spPr>
          <a:xfrm flipH="1" flipV="1">
            <a:off x="2437920" y="1371240"/>
            <a:ext cx="4191840" cy="1448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0" name="Straight Arrow Connector 13"/>
          <p:cNvCxnSpPr/>
          <p:nvPr/>
        </p:nvCxnSpPr>
        <p:spPr>
          <a:xfrm flipH="1">
            <a:off x="1676520" y="533520"/>
            <a:ext cx="4953240" cy="457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1" name="Straight Arrow Connector 15"/>
          <p:cNvCxnSpPr/>
          <p:nvPr/>
        </p:nvCxnSpPr>
        <p:spPr>
          <a:xfrm flipH="1">
            <a:off x="1218960" y="837000"/>
            <a:ext cx="5334480" cy="7628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/>
          <p:nvPr/>
        </p:nvCxnSpPr>
        <p:spPr>
          <a:xfrm flipH="1" flipV="1">
            <a:off x="1294920" y="1980360"/>
            <a:ext cx="5334480" cy="2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3" name="Straight Arrow Connector 20"/>
          <p:cNvCxnSpPr/>
          <p:nvPr/>
        </p:nvCxnSpPr>
        <p:spPr>
          <a:xfrm flipH="1" flipV="1">
            <a:off x="761760" y="2514600"/>
            <a:ext cx="5868000" cy="26672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4" name="Straight Arrow Connector 22"/>
          <p:cNvCxnSpPr/>
          <p:nvPr/>
        </p:nvCxnSpPr>
        <p:spPr>
          <a:xfrm flipH="1" flipV="1">
            <a:off x="2742480" y="1065960"/>
            <a:ext cx="3886920" cy="2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5" name="Straight Arrow Connector 24"/>
          <p:cNvCxnSpPr/>
          <p:nvPr/>
        </p:nvCxnSpPr>
        <p:spPr>
          <a:xfrm flipH="1">
            <a:off x="2742480" y="2284920"/>
            <a:ext cx="381060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6" name="Straight Arrow Connector 26"/>
          <p:cNvCxnSpPr/>
          <p:nvPr/>
        </p:nvCxnSpPr>
        <p:spPr>
          <a:xfrm flipH="1" flipV="1">
            <a:off x="761760" y="2666520"/>
            <a:ext cx="5868000" cy="2743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7" name="Straight Arrow Connector 28"/>
          <p:cNvCxnSpPr>
            <a:stCxn id="318" idx="1"/>
          </p:cNvCxnSpPr>
          <p:nvPr/>
        </p:nvCxnSpPr>
        <p:spPr>
          <a:xfrm flipH="1" flipV="1">
            <a:off x="837360" y="2742480"/>
            <a:ext cx="5716080" cy="3877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9" name="Straight Arrow Connector 30"/>
          <p:cNvCxnSpPr/>
          <p:nvPr/>
        </p:nvCxnSpPr>
        <p:spPr>
          <a:xfrm flipH="1" flipV="1">
            <a:off x="1066320" y="3047760"/>
            <a:ext cx="5563440" cy="1829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0" name="Straight Arrow Connector 32"/>
          <p:cNvCxnSpPr/>
          <p:nvPr/>
        </p:nvCxnSpPr>
        <p:spPr>
          <a:xfrm flipH="1" flipV="1">
            <a:off x="1218960" y="3276000"/>
            <a:ext cx="541080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18" name="TextBox 34"/>
          <p:cNvSpPr/>
          <p:nvPr/>
        </p:nvSpPr>
        <p:spPr>
          <a:xfrm>
            <a:off x="6553080" y="333360"/>
            <a:ext cx="25909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estern Saha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vory Coa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urita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 Bissa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o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erra Leo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amb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eni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Straight Arrow Connector 43"/>
          <p:cNvCxnSpPr/>
          <p:nvPr/>
        </p:nvCxnSpPr>
        <p:spPr>
          <a:xfrm flipH="1">
            <a:off x="1828080" y="1370520"/>
            <a:ext cx="4801320" cy="7628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2" name="Straight Arrow Connector 47"/>
          <p:cNvCxnSpPr/>
          <p:nvPr/>
        </p:nvCxnSpPr>
        <p:spPr>
          <a:xfrm flipH="1" flipV="1">
            <a:off x="1828080" y="2742840"/>
            <a:ext cx="4801320" cy="1448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3" name="Straight Arrow Connector 50"/>
          <p:cNvCxnSpPr/>
          <p:nvPr/>
        </p:nvCxnSpPr>
        <p:spPr>
          <a:xfrm flipH="1">
            <a:off x="1447200" y="1752480"/>
            <a:ext cx="5105880" cy="1372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4" name="Straight Arrow Connector 52"/>
          <p:cNvCxnSpPr/>
          <p:nvPr/>
        </p:nvCxnSpPr>
        <p:spPr>
          <a:xfrm flipH="1" flipV="1">
            <a:off x="1828080" y="3123720"/>
            <a:ext cx="4801320" cy="6105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5" name="Straight Arrow Connector 54"/>
          <p:cNvCxnSpPr/>
          <p:nvPr/>
        </p:nvCxnSpPr>
        <p:spPr>
          <a:xfrm flipH="1" flipV="1">
            <a:off x="1980720" y="3047760"/>
            <a:ext cx="4649040" cy="9151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6" name="Straight Arrow Connector 56"/>
          <p:cNvCxnSpPr/>
          <p:nvPr/>
        </p:nvCxnSpPr>
        <p:spPr>
          <a:xfrm flipH="1" flipV="1">
            <a:off x="2133360" y="2971440"/>
            <a:ext cx="4496400" cy="2743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7" name="Straight Arrow Connector 58"/>
          <p:cNvCxnSpPr/>
          <p:nvPr/>
        </p:nvCxnSpPr>
        <p:spPr>
          <a:xfrm flipH="1" flipV="1">
            <a:off x="1218960" y="2894760"/>
            <a:ext cx="5334480" cy="1600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8" name="Straight Arrow Connector 60"/>
          <p:cNvCxnSpPr/>
          <p:nvPr/>
        </p:nvCxnSpPr>
        <p:spPr>
          <a:xfrm flipH="1">
            <a:off x="2590560" y="2590920"/>
            <a:ext cx="4039200" cy="3052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pic>
        <p:nvPicPr>
          <p:cNvPr id="329" name="Rectangle 23" descr=""/>
          <p:cNvPicPr/>
          <p:nvPr/>
        </p:nvPicPr>
        <p:blipFill>
          <a:blip r:embed="rId2"/>
          <a:stretch/>
        </p:blipFill>
        <p:spPr>
          <a:xfrm>
            <a:off x="73080" y="4475160"/>
            <a:ext cx="602280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8" dur="1" fill="hold"/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457200" y="301680"/>
            <a:ext cx="6095880" cy="65563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4"/>
          <p:cNvSpPr/>
          <p:nvPr/>
        </p:nvSpPr>
        <p:spPr>
          <a:xfrm>
            <a:off x="6553080" y="333360"/>
            <a:ext cx="25909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estern Saha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vory Coa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urita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 Bissa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o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erra Leo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amb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eni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2666880" y="8380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2133720" y="1219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27432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752480" y="19810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1447920" y="990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838080" y="15238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1066680" y="19051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685800" y="2362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533520" y="3276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1" name="Straight Arrow Connector 15"/>
          <p:cNvCxnSpPr/>
          <p:nvPr/>
        </p:nvCxnSpPr>
        <p:spPr>
          <a:xfrm flipV="1">
            <a:off x="609480" y="2666160"/>
            <a:ext cx="76680" cy="686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42" name="TextBox 16"/>
          <p:cNvSpPr/>
          <p:nvPr/>
        </p:nvSpPr>
        <p:spPr>
          <a:xfrm>
            <a:off x="76212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Straight Arrow Connector 18"/>
          <p:cNvCxnSpPr>
            <a:stCxn id="342" idx="0"/>
          </p:cNvCxnSpPr>
          <p:nvPr/>
        </p:nvCxnSpPr>
        <p:spPr>
          <a:xfrm flipH="1" flipV="1">
            <a:off x="837720" y="2742480"/>
            <a:ext cx="115200" cy="6102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44" name="TextBox 19"/>
          <p:cNvSpPr/>
          <p:nvPr/>
        </p:nvSpPr>
        <p:spPr>
          <a:xfrm>
            <a:off x="990720" y="2666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990720" y="3352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6" name="Straight Arrow Connector 22"/>
          <p:cNvCxnSpPr>
            <a:stCxn id="345" idx="0"/>
          </p:cNvCxnSpPr>
          <p:nvPr/>
        </p:nvCxnSpPr>
        <p:spPr>
          <a:xfrm flipH="1" flipV="1">
            <a:off x="1067760" y="3047760"/>
            <a:ext cx="75240" cy="3052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47" name="TextBox 24"/>
          <p:cNvSpPr/>
          <p:nvPr/>
        </p:nvSpPr>
        <p:spPr>
          <a:xfrm>
            <a:off x="1143000" y="304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3716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18288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90512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Straight Arrow Connector 29"/>
          <p:cNvCxnSpPr/>
          <p:nvPr/>
        </p:nvCxnSpPr>
        <p:spPr>
          <a:xfrm flipV="1">
            <a:off x="2133720" y="3123720"/>
            <a:ext cx="38880" cy="288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52" name="TextBox 31"/>
          <p:cNvSpPr/>
          <p:nvPr/>
        </p:nvSpPr>
        <p:spPr>
          <a:xfrm>
            <a:off x="2133720" y="2743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32"/>
          <p:cNvSpPr/>
          <p:nvPr/>
        </p:nvSpPr>
        <p:spPr>
          <a:xfrm>
            <a:off x="2590920" y="2819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25"/>
          <p:cNvSpPr/>
          <p:nvPr/>
        </p:nvSpPr>
        <p:spPr>
          <a:xfrm>
            <a:off x="18288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0" y="304920"/>
            <a:ext cx="5376960" cy="6251400"/>
          </a:xfrm>
          <a:prstGeom prst="rect">
            <a:avLst/>
          </a:prstGeom>
          <a:ln w="0">
            <a:noFill/>
          </a:ln>
        </p:spPr>
      </p:pic>
      <p:cxnSp>
        <p:nvCxnSpPr>
          <p:cNvPr id="356" name="Straight Arrow Connector 5"/>
          <p:cNvCxnSpPr/>
          <p:nvPr/>
        </p:nvCxnSpPr>
        <p:spPr>
          <a:xfrm flipH="1">
            <a:off x="2590200" y="838080"/>
            <a:ext cx="2819880" cy="6105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7" name="Straight Arrow Connector 13"/>
          <p:cNvCxnSpPr/>
          <p:nvPr/>
        </p:nvCxnSpPr>
        <p:spPr>
          <a:xfrm flipH="1" flipV="1">
            <a:off x="4190760" y="2361600"/>
            <a:ext cx="1219680" cy="229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8" name="Straight Arrow Connector 15"/>
          <p:cNvCxnSpPr/>
          <p:nvPr/>
        </p:nvCxnSpPr>
        <p:spPr>
          <a:xfrm flipH="1">
            <a:off x="2437560" y="1065600"/>
            <a:ext cx="3048840" cy="20577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9" name="Straight Arrow Connector 18"/>
          <p:cNvCxnSpPr/>
          <p:nvPr/>
        </p:nvCxnSpPr>
        <p:spPr>
          <a:xfrm flipH="1">
            <a:off x="3428280" y="1371600"/>
            <a:ext cx="1981800" cy="766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0" name="Straight Arrow Connector 22"/>
          <p:cNvCxnSpPr/>
          <p:nvPr/>
        </p:nvCxnSpPr>
        <p:spPr>
          <a:xfrm flipH="1">
            <a:off x="2743200" y="533520"/>
            <a:ext cx="2667240" cy="16768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3580920" y="2284920"/>
            <a:ext cx="1829520" cy="229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2" name="Straight Arrow Connector 28"/>
          <p:cNvCxnSpPr/>
          <p:nvPr/>
        </p:nvCxnSpPr>
        <p:spPr>
          <a:xfrm flipH="1">
            <a:off x="2209320" y="1751400"/>
            <a:ext cx="3201120" cy="16772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63" name="TextBox 34"/>
          <p:cNvSpPr/>
          <p:nvPr/>
        </p:nvSpPr>
        <p:spPr>
          <a:xfrm>
            <a:off x="5334120" y="333360"/>
            <a:ext cx="40384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ha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by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mero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quatorial Guin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d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ritr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entral African Republic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omal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mocratic Republic of the Con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ab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bin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jibout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4" name="Straight Arrow Connector 43"/>
          <p:cNvCxnSpPr/>
          <p:nvPr/>
        </p:nvCxnSpPr>
        <p:spPr>
          <a:xfrm flipH="1">
            <a:off x="2894760" y="2818440"/>
            <a:ext cx="251532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5" name="Straight Arrow Connector 21"/>
          <p:cNvCxnSpPr/>
          <p:nvPr/>
        </p:nvCxnSpPr>
        <p:spPr>
          <a:xfrm flipH="1">
            <a:off x="3809160" y="3123000"/>
            <a:ext cx="1600920" cy="305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6" name="Straight Arrow Connector 23"/>
          <p:cNvCxnSpPr/>
          <p:nvPr/>
        </p:nvCxnSpPr>
        <p:spPr>
          <a:xfrm flipH="1" flipV="1">
            <a:off x="4266360" y="3047760"/>
            <a:ext cx="1143720" cy="381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7" name="Straight Arrow Connector 25"/>
          <p:cNvCxnSpPr/>
          <p:nvPr/>
        </p:nvCxnSpPr>
        <p:spPr>
          <a:xfrm flipH="1">
            <a:off x="2590200" y="1981080"/>
            <a:ext cx="2896200" cy="1524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8" name="Straight Arrow Connector 32"/>
          <p:cNvCxnSpPr/>
          <p:nvPr/>
        </p:nvCxnSpPr>
        <p:spPr>
          <a:xfrm flipH="1" flipV="1">
            <a:off x="4571640" y="3428280"/>
            <a:ext cx="915120" cy="305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9" name="Straight Arrow Connector 33"/>
          <p:cNvCxnSpPr/>
          <p:nvPr/>
        </p:nvCxnSpPr>
        <p:spPr>
          <a:xfrm flipH="1" flipV="1">
            <a:off x="4114440" y="3580560"/>
            <a:ext cx="1296000" cy="381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0" name="Straight Arrow Connector 34"/>
          <p:cNvCxnSpPr/>
          <p:nvPr/>
        </p:nvCxnSpPr>
        <p:spPr>
          <a:xfrm flipH="1" flipV="1">
            <a:off x="3200040" y="3885840"/>
            <a:ext cx="2210400" cy="381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1" name="Straight Arrow Connector 35"/>
          <p:cNvCxnSpPr/>
          <p:nvPr/>
        </p:nvCxnSpPr>
        <p:spPr>
          <a:xfrm flipH="1" flipV="1">
            <a:off x="2361960" y="3580920"/>
            <a:ext cx="3124800" cy="9914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2" name="Straight Arrow Connector 42"/>
          <p:cNvCxnSpPr/>
          <p:nvPr/>
        </p:nvCxnSpPr>
        <p:spPr>
          <a:xfrm flipH="1" flipV="1">
            <a:off x="2361960" y="3962160"/>
            <a:ext cx="3124800" cy="8388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3" name="Straight Arrow Connector 45"/>
          <p:cNvCxnSpPr/>
          <p:nvPr/>
        </p:nvCxnSpPr>
        <p:spPr>
          <a:xfrm flipH="1" flipV="1">
            <a:off x="4571640" y="2666880"/>
            <a:ext cx="915120" cy="2439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pic>
        <p:nvPicPr>
          <p:cNvPr id="374" name="Rectangle 49" descr=""/>
          <p:cNvPicPr/>
          <p:nvPr/>
        </p:nvPicPr>
        <p:blipFill>
          <a:blip r:embed="rId2"/>
          <a:stretch/>
        </p:blipFill>
        <p:spPr>
          <a:xfrm>
            <a:off x="-304920" y="4552920"/>
            <a:ext cx="602316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410080" y="304560"/>
            <a:ext cx="327672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ngol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Namibi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wand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Burundi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dagascar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Botswan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Zimbabwe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anzani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Zambi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lawi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zambique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sotho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waziland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76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0" y="304920"/>
            <a:ext cx="5376960" cy="6251400"/>
          </a:xfrm>
          <a:prstGeom prst="rect">
            <a:avLst/>
          </a:prstGeom>
          <a:ln w="0">
            <a:noFill/>
          </a:ln>
        </p:spPr>
      </p:pic>
      <p:cxnSp>
        <p:nvCxnSpPr>
          <p:cNvPr id="377" name="Straight Arrow Connector 4"/>
          <p:cNvCxnSpPr/>
          <p:nvPr/>
        </p:nvCxnSpPr>
        <p:spPr>
          <a:xfrm flipH="1">
            <a:off x="2666520" y="609480"/>
            <a:ext cx="2896560" cy="3810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8" name="Straight Arrow Connector 7"/>
          <p:cNvCxnSpPr/>
          <p:nvPr/>
        </p:nvCxnSpPr>
        <p:spPr>
          <a:xfrm flipH="1">
            <a:off x="2590200" y="990720"/>
            <a:ext cx="2972520" cy="4115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9" name="Straight Arrow Connector 8"/>
          <p:cNvCxnSpPr/>
          <p:nvPr/>
        </p:nvCxnSpPr>
        <p:spPr>
          <a:xfrm flipH="1">
            <a:off x="3657240" y="1447920"/>
            <a:ext cx="1905840" cy="22104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0" name="Straight Arrow Connector 9"/>
          <p:cNvCxnSpPr/>
          <p:nvPr/>
        </p:nvCxnSpPr>
        <p:spPr>
          <a:xfrm flipH="1">
            <a:off x="2971080" y="1828800"/>
            <a:ext cx="2515320" cy="40392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1" name="Straight Arrow Connector 10"/>
          <p:cNvCxnSpPr/>
          <p:nvPr/>
        </p:nvCxnSpPr>
        <p:spPr>
          <a:xfrm flipH="1">
            <a:off x="3657240" y="2284920"/>
            <a:ext cx="1905840" cy="1524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2" name="Straight Arrow Connector 11"/>
          <p:cNvCxnSpPr/>
          <p:nvPr/>
        </p:nvCxnSpPr>
        <p:spPr>
          <a:xfrm flipH="1">
            <a:off x="4799880" y="2743200"/>
            <a:ext cx="762840" cy="22104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3" name="Straight Arrow Connector 12"/>
          <p:cNvCxnSpPr/>
          <p:nvPr/>
        </p:nvCxnSpPr>
        <p:spPr>
          <a:xfrm flipH="1">
            <a:off x="3047400" y="3123000"/>
            <a:ext cx="2515320" cy="21344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4" name="Straight Arrow Connector 13"/>
          <p:cNvCxnSpPr/>
          <p:nvPr/>
        </p:nvCxnSpPr>
        <p:spPr>
          <a:xfrm flipH="1">
            <a:off x="3580920" y="3581280"/>
            <a:ext cx="1982160" cy="1524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5" name="Straight Arrow Connector 14"/>
          <p:cNvCxnSpPr/>
          <p:nvPr/>
        </p:nvCxnSpPr>
        <p:spPr>
          <a:xfrm flipH="1" flipV="1">
            <a:off x="3885840" y="3885480"/>
            <a:ext cx="175320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6" name="Straight Arrow Connector 15"/>
          <p:cNvCxnSpPr/>
          <p:nvPr/>
        </p:nvCxnSpPr>
        <p:spPr>
          <a:xfrm flipH="1">
            <a:off x="3351960" y="4494600"/>
            <a:ext cx="2210760" cy="229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7" name="Straight Arrow Connector 17"/>
          <p:cNvCxnSpPr/>
          <p:nvPr/>
        </p:nvCxnSpPr>
        <p:spPr>
          <a:xfrm flipH="1">
            <a:off x="3428280" y="5713920"/>
            <a:ext cx="213444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8" name="Straight Arrow Connector 18"/>
          <p:cNvCxnSpPr/>
          <p:nvPr/>
        </p:nvCxnSpPr>
        <p:spPr>
          <a:xfrm flipH="1" flipV="1">
            <a:off x="3809160" y="5257800"/>
            <a:ext cx="1753560" cy="766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9" name="Straight Arrow Connector 19"/>
          <p:cNvCxnSpPr/>
          <p:nvPr/>
        </p:nvCxnSpPr>
        <p:spPr>
          <a:xfrm flipH="1" flipV="1">
            <a:off x="3657240" y="5638320"/>
            <a:ext cx="1905840" cy="5342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90" name="Straight Arrow Connector 20"/>
          <p:cNvCxnSpPr/>
          <p:nvPr/>
        </p:nvCxnSpPr>
        <p:spPr>
          <a:xfrm flipH="1" flipV="1">
            <a:off x="3885480" y="4571640"/>
            <a:ext cx="1677240" cy="381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pic>
        <p:nvPicPr>
          <p:cNvPr id="391" name="Rectangle 34" descr=""/>
          <p:cNvPicPr/>
          <p:nvPr/>
        </p:nvPicPr>
        <p:blipFill>
          <a:blip r:embed="rId2"/>
          <a:stretch/>
        </p:blipFill>
        <p:spPr>
          <a:xfrm>
            <a:off x="-304920" y="55440"/>
            <a:ext cx="6023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2" dur="1" fill="hold"/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2:07:18Z</dcterms:created>
  <dc:creator>Breanna Haehn</dc:creator>
  <dc:description/>
  <dc:language>en-US</dc:language>
  <cp:lastModifiedBy>TPS</cp:lastModifiedBy>
  <dcterms:modified xsi:type="dcterms:W3CDTF">2009-02-27T21:00:16Z</dcterms:modified>
  <cp:revision>304</cp:revision>
  <dc:subject/>
  <dc:title>The Age of Exploration</dc:title>
</cp:coreProperties>
</file>