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CF16-D3C9-44A7-8258-2181A5994B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A73D-D2C7-4F89-838C-A1DADF42AC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6C70-EB5F-4CB6-8FCA-55872416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B119-C53E-4B6E-8E17-6DD007FF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CE92-E37A-4B57-A0F0-D33C3D5D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3E5-C173-4E08-944C-2A108342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BCE5-1D46-405A-9F26-245F979C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E8C4-4A88-4291-94F2-67DB7AB9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77C3-4A3B-430A-9E80-70EEBAB8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13BF-3E4C-4056-A1DE-6A7D246E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0097-5E34-4EBF-ABE0-202D4675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5BA08-58FD-4F3E-8F9A-1996AC99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3B64-4394-4851-9D71-DF362315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7AA-DF34-4913-A795-9DC6843E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7AA9-0D35-4BD5-BC3D-B3E6A6E1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40C0-EA23-413E-82B9-25581627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A238-ADF4-4F14-BCDC-C6386644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D224-6C38-47F9-9ECC-9E639902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34AF-B0AD-4C95-8898-030DAD02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B828-5D20-4D46-BEB7-7435C0C9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66C81-FAF2-4600-9E59-156D8471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410A0-396A-40F5-BD90-871388FD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CF99E-6981-4596-92F8-6CB46694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FAF6-DAFC-4F60-B040-5307375BD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A2E6-A600-41C2-94A7-4FE813B1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39C1-F46B-4157-9050-B135E4853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692C-B50F-4215-82FE-48007D87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8DB5E-3C96-4516-81E3-51A97FCC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4AF40-0B24-42CC-B19E-FF458B60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2488-F888-401D-9553-B0E6BE95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FEC2-83EC-4A06-8FB2-2DF286CA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8FE91-99F6-44C8-9B40-2E3E3CD9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AFFCB-C061-47EC-8392-D1525C9F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1C4E5-A539-403D-9725-F5B0AA19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5C90-0C73-4633-86EF-B2902748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E43-3637-4BCF-A2E5-4C105795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7099-D38A-4863-ACF8-844AB7C1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61997-1F7A-4F36-9E9D-31D58BB0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D980-8C3D-409F-A962-93312C38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FFED-E1AF-4F69-AE9C-1F443946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19EC0-34EF-45C6-89E2-D8F02C53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5A115-B2E8-47D0-A6CF-E401327E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6FC13-EF16-4F18-B969-92F42CA4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6E802-47FF-47E1-9A73-1A3538F1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D3503-F3CA-4BA0-80B6-D08B67064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2D50-2854-4144-9B6D-C3F4CD00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228D-9A6C-4CC4-A1DC-B094F0703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7351D-F5C2-422E-93BA-C07A1071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3CC01-60E0-46FB-BBEA-1216DB75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72354-2F31-4E00-A869-E42BD218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2E2CC-CF1A-4ED1-B61C-2F449DBC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BCEB5-AC78-4C99-A6D1-797CC631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C3C8D-2D5D-4F5E-ACFD-FEB3D218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A2760-3E87-4B21-8455-02451677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C7B47-E107-47AD-A813-95335A21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1B6D3-7968-46A7-8945-28DD6E1D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FB40F-AFFB-410F-B305-17F6DB2D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6FBF-44D3-474F-A8C8-3908DA74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FD5EA-57B4-4D9A-84DA-8D316D03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98982-2454-4835-9E7C-CD12AAFB6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06F48-22CD-41A3-ABE2-E76366FB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480A0-C161-4C27-B8F4-4AC786DF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ABA00-BE16-4E89-9D71-8BC5295A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070EB-B903-48F9-9B53-3645EBC3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B719A-9492-4094-8160-FF769E89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A8143-0C66-403F-90B7-709806A2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750CB-9F16-4CEC-BBFC-DC51E5A0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C6FCF-130D-49E2-9061-812BAC03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C08-CDEF-49AA-9F80-3CA21D83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15684-D1D4-42AB-9AD4-7F988789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88B0E-3C6B-4A8B-BD71-7E82A06F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4BB28-A915-4144-BD2A-05AA996D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3E388-4278-45DC-A5CF-CF5C9391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5B4E4-9A12-4FEC-9627-9803F6EC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963C1C-3A6E-41FA-BF25-420B72AE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7FA3E-F68B-4664-B3B4-AB649E13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0AB80-FD4D-4FF7-9AF3-77448B35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8B901-EACF-4E2D-B3C7-B00F0F74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12A2E-DFF0-47F1-B2B3-BAE5189E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B50-0443-45E2-B5FD-DE9C858F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60EFC-B06D-4B76-B594-44167910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A4429-B923-4ED7-84B2-400047F1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43AB0-F89E-4E3B-B294-7BF317E8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17D17-4689-4A58-96B6-47FB0177C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69111-8F21-4082-BA80-03716D7F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A52-CEAD-465B-9184-EF749989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6F97-E11A-40AD-B03A-6F2881E05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4D7E-0C35-4D45-A0C5-3123ED247E4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12BC-7367-4502-AF3B-37CCB8E9F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F0EC-2468-4CB1-A4F7-604AB9B987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4055-808A-4F02-BE6B-F7C4F9F82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46B6-1109-466C-843F-74F49F45079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alibri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EE98-1168-4E3E-B0ED-7DC97ABD99E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Content Placeholder 3" descr="africa map.jpg"/>
          <p:cNvPicPr/>
          <p:nvPr/>
        </p:nvPicPr>
        <p:blipFill>
          <a:blip r:embed="rId1"/>
          <a:stretch/>
        </p:blipFill>
        <p:spPr>
          <a:xfrm>
            <a:off x="457200" y="301680"/>
            <a:ext cx="5638680" cy="6556320"/>
          </a:xfrm>
          <a:prstGeom prst="rect">
            <a:avLst/>
          </a:prstGeom>
          <a:ln w="0">
            <a:noFill/>
          </a:ln>
        </p:spPr>
      </p:pic>
      <p:cxnSp>
        <p:nvCxnSpPr>
          <p:cNvPr id="309" name="Straight Arrow Connector 5"/>
          <p:cNvCxnSpPr/>
          <p:nvPr/>
        </p:nvCxnSpPr>
        <p:spPr>
          <a:xfrm flipH="1" flipV="1">
            <a:off x="2437920" y="1371240"/>
            <a:ext cx="4191840" cy="14486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0" name="Straight Arrow Connector 13"/>
          <p:cNvCxnSpPr/>
          <p:nvPr/>
        </p:nvCxnSpPr>
        <p:spPr>
          <a:xfrm flipH="1">
            <a:off x="1676520" y="533520"/>
            <a:ext cx="4953240" cy="4579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1" name="Straight Arrow Connector 15"/>
          <p:cNvCxnSpPr/>
          <p:nvPr/>
        </p:nvCxnSpPr>
        <p:spPr>
          <a:xfrm flipH="1">
            <a:off x="1218960" y="837000"/>
            <a:ext cx="5334480" cy="7628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2" name="Straight Arrow Connector 18"/>
          <p:cNvCxnSpPr/>
          <p:nvPr/>
        </p:nvCxnSpPr>
        <p:spPr>
          <a:xfrm flipH="1" flipV="1">
            <a:off x="1294920" y="1980360"/>
            <a:ext cx="5334480" cy="25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3" name="Straight Arrow Connector 20"/>
          <p:cNvCxnSpPr/>
          <p:nvPr/>
        </p:nvCxnSpPr>
        <p:spPr>
          <a:xfrm flipH="1" flipV="1">
            <a:off x="761760" y="2514600"/>
            <a:ext cx="5868000" cy="26672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4" name="Straight Arrow Connector 22"/>
          <p:cNvCxnSpPr/>
          <p:nvPr/>
        </p:nvCxnSpPr>
        <p:spPr>
          <a:xfrm flipH="1" flipV="1">
            <a:off x="2742480" y="1065960"/>
            <a:ext cx="3886920" cy="25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5" name="Straight Arrow Connector 24"/>
          <p:cNvCxnSpPr/>
          <p:nvPr/>
        </p:nvCxnSpPr>
        <p:spPr>
          <a:xfrm flipH="1">
            <a:off x="2742480" y="2284920"/>
            <a:ext cx="3810600" cy="153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6" name="Straight Arrow Connector 26"/>
          <p:cNvCxnSpPr/>
          <p:nvPr/>
        </p:nvCxnSpPr>
        <p:spPr>
          <a:xfrm flipH="1" flipV="1">
            <a:off x="761760" y="2666520"/>
            <a:ext cx="5868000" cy="27439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7" name="Straight Arrow Connector 28"/>
          <p:cNvCxnSpPr>
            <a:stCxn id="318" idx="1"/>
          </p:cNvCxnSpPr>
          <p:nvPr/>
        </p:nvCxnSpPr>
        <p:spPr>
          <a:xfrm flipH="1" flipV="1">
            <a:off x="837360" y="2742480"/>
            <a:ext cx="5716080" cy="3877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19" name="Straight Arrow Connector 30"/>
          <p:cNvCxnSpPr/>
          <p:nvPr/>
        </p:nvCxnSpPr>
        <p:spPr>
          <a:xfrm flipH="1" flipV="1">
            <a:off x="1066320" y="3047760"/>
            <a:ext cx="5563440" cy="18295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0" name="Straight Arrow Connector 32"/>
          <p:cNvCxnSpPr/>
          <p:nvPr/>
        </p:nvCxnSpPr>
        <p:spPr>
          <a:xfrm flipH="1" flipV="1">
            <a:off x="1218960" y="3276000"/>
            <a:ext cx="5410800" cy="153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18" name="TextBox 34"/>
          <p:cNvSpPr/>
          <p:nvPr/>
        </p:nvSpPr>
        <p:spPr>
          <a:xfrm>
            <a:off x="6553080" y="333360"/>
            <a:ext cx="259092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rocc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estern Saha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unis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al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vory Coas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auritan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ig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ig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lg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uinea Bissa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b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han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og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urkina Fas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uine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erra Leo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neg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amb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eni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1" name="Straight Arrow Connector 43"/>
          <p:cNvCxnSpPr/>
          <p:nvPr/>
        </p:nvCxnSpPr>
        <p:spPr>
          <a:xfrm flipH="1">
            <a:off x="1828080" y="1370520"/>
            <a:ext cx="4801320" cy="7628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2" name="Straight Arrow Connector 47"/>
          <p:cNvCxnSpPr/>
          <p:nvPr/>
        </p:nvCxnSpPr>
        <p:spPr>
          <a:xfrm flipH="1" flipV="1">
            <a:off x="1828080" y="2742840"/>
            <a:ext cx="4801320" cy="14486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3" name="Straight Arrow Connector 50"/>
          <p:cNvCxnSpPr/>
          <p:nvPr/>
        </p:nvCxnSpPr>
        <p:spPr>
          <a:xfrm flipH="1">
            <a:off x="1447200" y="1752480"/>
            <a:ext cx="5105880" cy="13723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4" name="Straight Arrow Connector 52"/>
          <p:cNvCxnSpPr/>
          <p:nvPr/>
        </p:nvCxnSpPr>
        <p:spPr>
          <a:xfrm flipH="1" flipV="1">
            <a:off x="1828080" y="3123720"/>
            <a:ext cx="4801320" cy="6105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5" name="Straight Arrow Connector 54"/>
          <p:cNvCxnSpPr/>
          <p:nvPr/>
        </p:nvCxnSpPr>
        <p:spPr>
          <a:xfrm flipH="1" flipV="1">
            <a:off x="1980720" y="3047760"/>
            <a:ext cx="4649040" cy="9151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6" name="Straight Arrow Connector 56"/>
          <p:cNvCxnSpPr/>
          <p:nvPr/>
        </p:nvCxnSpPr>
        <p:spPr>
          <a:xfrm flipH="1" flipV="1">
            <a:off x="2133360" y="2971440"/>
            <a:ext cx="4496400" cy="27439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7" name="Straight Arrow Connector 58"/>
          <p:cNvCxnSpPr/>
          <p:nvPr/>
        </p:nvCxnSpPr>
        <p:spPr>
          <a:xfrm flipH="1" flipV="1">
            <a:off x="1218960" y="2894760"/>
            <a:ext cx="5334480" cy="16009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28" name="Straight Arrow Connector 60"/>
          <p:cNvCxnSpPr/>
          <p:nvPr/>
        </p:nvCxnSpPr>
        <p:spPr>
          <a:xfrm flipH="1">
            <a:off x="2590560" y="2590920"/>
            <a:ext cx="4039200" cy="30528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pic>
        <p:nvPicPr>
          <p:cNvPr id="329" name="Rectangle 23" descr=""/>
          <p:cNvPicPr/>
          <p:nvPr/>
        </p:nvPicPr>
        <p:blipFill>
          <a:blip r:embed="rId2"/>
          <a:stretch/>
        </p:blipFill>
        <p:spPr>
          <a:xfrm>
            <a:off x="73080" y="4475160"/>
            <a:ext cx="6022800" cy="193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8" dur="1" fill="hold"/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Content Placeholder 3" descr="africa map.jpg"/>
          <p:cNvPicPr/>
          <p:nvPr/>
        </p:nvPicPr>
        <p:blipFill>
          <a:blip r:embed="rId1"/>
          <a:stretch/>
        </p:blipFill>
        <p:spPr>
          <a:xfrm>
            <a:off x="457200" y="301680"/>
            <a:ext cx="6095880" cy="65563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34"/>
          <p:cNvSpPr/>
          <p:nvPr/>
        </p:nvSpPr>
        <p:spPr>
          <a:xfrm>
            <a:off x="6553080" y="333360"/>
            <a:ext cx="259092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orocc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estern Sahar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unis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al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vory Coas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auritan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ige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ig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lg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uinea Bissau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ber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han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Tog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urkina Fas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uine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ierra Leon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eneg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amb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Beni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Box 5"/>
          <p:cNvSpPr/>
          <p:nvPr/>
        </p:nvSpPr>
        <p:spPr>
          <a:xfrm>
            <a:off x="2666880" y="8380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6"/>
          <p:cNvSpPr/>
          <p:nvPr/>
        </p:nvSpPr>
        <p:spPr>
          <a:xfrm>
            <a:off x="2133720" y="1219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2743200" y="20574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1752480" y="19810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Box 9"/>
          <p:cNvSpPr/>
          <p:nvPr/>
        </p:nvSpPr>
        <p:spPr>
          <a:xfrm>
            <a:off x="1447920" y="990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838080" y="152388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1066680" y="19051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685800" y="23623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13"/>
          <p:cNvSpPr/>
          <p:nvPr/>
        </p:nvSpPr>
        <p:spPr>
          <a:xfrm>
            <a:off x="533520" y="3276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1" name="Straight Arrow Connector 15"/>
          <p:cNvCxnSpPr/>
          <p:nvPr/>
        </p:nvCxnSpPr>
        <p:spPr>
          <a:xfrm flipV="1">
            <a:off x="609480" y="2666160"/>
            <a:ext cx="76680" cy="6865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42" name="TextBox 16"/>
          <p:cNvSpPr/>
          <p:nvPr/>
        </p:nvSpPr>
        <p:spPr>
          <a:xfrm>
            <a:off x="76212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3" name="Straight Arrow Connector 18"/>
          <p:cNvCxnSpPr>
            <a:stCxn id="342" idx="0"/>
          </p:cNvCxnSpPr>
          <p:nvPr/>
        </p:nvCxnSpPr>
        <p:spPr>
          <a:xfrm flipH="1" flipV="1">
            <a:off x="837720" y="2742480"/>
            <a:ext cx="115200" cy="6102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44" name="TextBox 19"/>
          <p:cNvSpPr/>
          <p:nvPr/>
        </p:nvSpPr>
        <p:spPr>
          <a:xfrm>
            <a:off x="990720" y="266688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20"/>
          <p:cNvSpPr/>
          <p:nvPr/>
        </p:nvSpPr>
        <p:spPr>
          <a:xfrm>
            <a:off x="990720" y="335268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46" name="Straight Arrow Connector 22"/>
          <p:cNvCxnSpPr>
            <a:stCxn id="345" idx="0"/>
          </p:cNvCxnSpPr>
          <p:nvPr/>
        </p:nvCxnSpPr>
        <p:spPr>
          <a:xfrm flipH="1" flipV="1">
            <a:off x="1067760" y="3047760"/>
            <a:ext cx="75240" cy="30528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47" name="TextBox 24"/>
          <p:cNvSpPr/>
          <p:nvPr/>
        </p:nvSpPr>
        <p:spPr>
          <a:xfrm>
            <a:off x="1143000" y="3048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25"/>
          <p:cNvSpPr/>
          <p:nvPr/>
        </p:nvSpPr>
        <p:spPr>
          <a:xfrm>
            <a:off x="1371600" y="2971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26"/>
          <p:cNvSpPr/>
          <p:nvPr/>
        </p:nvSpPr>
        <p:spPr>
          <a:xfrm>
            <a:off x="1828800" y="29718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27"/>
          <p:cNvSpPr/>
          <p:nvPr/>
        </p:nvSpPr>
        <p:spPr>
          <a:xfrm>
            <a:off x="1905120" y="3429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1" name="Straight Arrow Connector 29"/>
          <p:cNvCxnSpPr/>
          <p:nvPr/>
        </p:nvCxnSpPr>
        <p:spPr>
          <a:xfrm flipV="1">
            <a:off x="2133720" y="3123720"/>
            <a:ext cx="38880" cy="288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52" name="TextBox 31"/>
          <p:cNvSpPr/>
          <p:nvPr/>
        </p:nvSpPr>
        <p:spPr>
          <a:xfrm>
            <a:off x="2133720" y="2743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Box 32"/>
          <p:cNvSpPr/>
          <p:nvPr/>
        </p:nvSpPr>
        <p:spPr>
          <a:xfrm>
            <a:off x="2590920" y="28195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25"/>
          <p:cNvSpPr/>
          <p:nvPr/>
        </p:nvSpPr>
        <p:spPr>
          <a:xfrm>
            <a:off x="1828800" y="2514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3" descr="africa map.jpg"/>
          <p:cNvPicPr/>
          <p:nvPr/>
        </p:nvPicPr>
        <p:blipFill>
          <a:blip r:embed="rId1"/>
          <a:stretch/>
        </p:blipFill>
        <p:spPr>
          <a:xfrm>
            <a:off x="0" y="304920"/>
            <a:ext cx="5376960" cy="6251400"/>
          </a:xfrm>
          <a:prstGeom prst="rect">
            <a:avLst/>
          </a:prstGeom>
          <a:ln w="0">
            <a:noFill/>
          </a:ln>
        </p:spPr>
      </p:pic>
      <p:cxnSp>
        <p:nvCxnSpPr>
          <p:cNvPr id="356" name="Straight Arrow Connector 5"/>
          <p:cNvCxnSpPr/>
          <p:nvPr/>
        </p:nvCxnSpPr>
        <p:spPr>
          <a:xfrm flipH="1">
            <a:off x="2590200" y="838080"/>
            <a:ext cx="2819880" cy="6105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57" name="Straight Arrow Connector 13"/>
          <p:cNvCxnSpPr/>
          <p:nvPr/>
        </p:nvCxnSpPr>
        <p:spPr>
          <a:xfrm flipH="1" flipV="1">
            <a:off x="4190760" y="2361600"/>
            <a:ext cx="1219680" cy="2293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58" name="Straight Arrow Connector 15"/>
          <p:cNvCxnSpPr/>
          <p:nvPr/>
        </p:nvCxnSpPr>
        <p:spPr>
          <a:xfrm flipH="1">
            <a:off x="2437560" y="1065600"/>
            <a:ext cx="3048840" cy="20577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59" name="Straight Arrow Connector 18"/>
          <p:cNvCxnSpPr/>
          <p:nvPr/>
        </p:nvCxnSpPr>
        <p:spPr>
          <a:xfrm flipH="1">
            <a:off x="3428280" y="1371600"/>
            <a:ext cx="1981800" cy="7668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0" name="Straight Arrow Connector 22"/>
          <p:cNvCxnSpPr/>
          <p:nvPr/>
        </p:nvCxnSpPr>
        <p:spPr>
          <a:xfrm flipH="1">
            <a:off x="2743200" y="533520"/>
            <a:ext cx="2667240" cy="167688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3580920" y="2284920"/>
            <a:ext cx="1829520" cy="2293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2" name="Straight Arrow Connector 28"/>
          <p:cNvCxnSpPr/>
          <p:nvPr/>
        </p:nvCxnSpPr>
        <p:spPr>
          <a:xfrm flipH="1">
            <a:off x="2209320" y="1751400"/>
            <a:ext cx="3201120" cy="16772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sp>
        <p:nvSpPr>
          <p:cNvPr id="363" name="TextBox 34"/>
          <p:cNvSpPr/>
          <p:nvPr/>
        </p:nvSpPr>
        <p:spPr>
          <a:xfrm>
            <a:off x="5334120" y="333360"/>
            <a:ext cx="403848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had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iby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amero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quatorial Guine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g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uda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ritre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entral African Republic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Ugan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thiop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Somali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Keny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emocratic Republic of the Congo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Gabon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abinda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jibouti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4" name="Straight Arrow Connector 43"/>
          <p:cNvCxnSpPr/>
          <p:nvPr/>
        </p:nvCxnSpPr>
        <p:spPr>
          <a:xfrm flipH="1">
            <a:off x="2894760" y="2818440"/>
            <a:ext cx="2515320" cy="153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5" name="Straight Arrow Connector 21"/>
          <p:cNvCxnSpPr/>
          <p:nvPr/>
        </p:nvCxnSpPr>
        <p:spPr>
          <a:xfrm flipH="1">
            <a:off x="3809160" y="3123000"/>
            <a:ext cx="1600920" cy="3056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6" name="Straight Arrow Connector 23"/>
          <p:cNvCxnSpPr/>
          <p:nvPr/>
        </p:nvCxnSpPr>
        <p:spPr>
          <a:xfrm flipH="1" flipV="1">
            <a:off x="4266360" y="3047760"/>
            <a:ext cx="1143720" cy="3816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7" name="Straight Arrow Connector 25"/>
          <p:cNvCxnSpPr/>
          <p:nvPr/>
        </p:nvCxnSpPr>
        <p:spPr>
          <a:xfrm flipH="1">
            <a:off x="2590200" y="1981080"/>
            <a:ext cx="2896200" cy="15249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8" name="Straight Arrow Connector 32"/>
          <p:cNvCxnSpPr/>
          <p:nvPr/>
        </p:nvCxnSpPr>
        <p:spPr>
          <a:xfrm flipH="1" flipV="1">
            <a:off x="4571640" y="3428280"/>
            <a:ext cx="915120" cy="3056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69" name="Straight Arrow Connector 33"/>
          <p:cNvCxnSpPr/>
          <p:nvPr/>
        </p:nvCxnSpPr>
        <p:spPr>
          <a:xfrm flipH="1" flipV="1">
            <a:off x="4114440" y="3580560"/>
            <a:ext cx="1296000" cy="3819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0" name="Straight Arrow Connector 34"/>
          <p:cNvCxnSpPr/>
          <p:nvPr/>
        </p:nvCxnSpPr>
        <p:spPr>
          <a:xfrm flipH="1" flipV="1">
            <a:off x="3200040" y="3885840"/>
            <a:ext cx="2210400" cy="3816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1" name="Straight Arrow Connector 35"/>
          <p:cNvCxnSpPr/>
          <p:nvPr/>
        </p:nvCxnSpPr>
        <p:spPr>
          <a:xfrm flipH="1" flipV="1">
            <a:off x="2361960" y="3580920"/>
            <a:ext cx="3124800" cy="9914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2" name="Straight Arrow Connector 42"/>
          <p:cNvCxnSpPr/>
          <p:nvPr/>
        </p:nvCxnSpPr>
        <p:spPr>
          <a:xfrm flipH="1" flipV="1">
            <a:off x="2361960" y="3962160"/>
            <a:ext cx="3124800" cy="8388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3" name="Straight Arrow Connector 45"/>
          <p:cNvCxnSpPr/>
          <p:nvPr/>
        </p:nvCxnSpPr>
        <p:spPr>
          <a:xfrm flipH="1" flipV="1">
            <a:off x="4571640" y="2666880"/>
            <a:ext cx="915120" cy="2439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pic>
        <p:nvPicPr>
          <p:cNvPr id="374" name="Rectangle 49" descr=""/>
          <p:cNvPicPr/>
          <p:nvPr/>
        </p:nvPicPr>
        <p:blipFill>
          <a:blip r:embed="rId2"/>
          <a:stretch/>
        </p:blipFill>
        <p:spPr>
          <a:xfrm>
            <a:off x="-304920" y="4552920"/>
            <a:ext cx="602316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4" dur="1" fill="hold"/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5410080" y="304560"/>
            <a:ext cx="3276720" cy="61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Angol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Namibi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Rwand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outh Afric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Burundi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dagascar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Botswan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Zimbabwe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Tanzani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Zambia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alawi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Mozambique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Lesotho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mbria"/>
              </a:rPr>
              <a:t>Swaziland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43160" indent="-378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76" name="Content Placeholder 3" descr="africa map.jpg"/>
          <p:cNvPicPr/>
          <p:nvPr/>
        </p:nvPicPr>
        <p:blipFill>
          <a:blip r:embed="rId1"/>
          <a:stretch/>
        </p:blipFill>
        <p:spPr>
          <a:xfrm>
            <a:off x="0" y="304920"/>
            <a:ext cx="5376960" cy="6251400"/>
          </a:xfrm>
          <a:prstGeom prst="rect">
            <a:avLst/>
          </a:prstGeom>
          <a:ln w="0">
            <a:noFill/>
          </a:ln>
        </p:spPr>
      </p:pic>
      <p:cxnSp>
        <p:nvCxnSpPr>
          <p:cNvPr id="377" name="Straight Arrow Connector 4"/>
          <p:cNvCxnSpPr/>
          <p:nvPr/>
        </p:nvCxnSpPr>
        <p:spPr>
          <a:xfrm flipH="1">
            <a:off x="2666520" y="609480"/>
            <a:ext cx="2896560" cy="38109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8" name="Straight Arrow Connector 7"/>
          <p:cNvCxnSpPr/>
          <p:nvPr/>
        </p:nvCxnSpPr>
        <p:spPr>
          <a:xfrm flipH="1">
            <a:off x="2590200" y="990720"/>
            <a:ext cx="2972520" cy="41155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79" name="Straight Arrow Connector 8"/>
          <p:cNvCxnSpPr/>
          <p:nvPr/>
        </p:nvCxnSpPr>
        <p:spPr>
          <a:xfrm flipH="1">
            <a:off x="3657240" y="1447920"/>
            <a:ext cx="1905840" cy="22104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0" name="Straight Arrow Connector 9"/>
          <p:cNvCxnSpPr/>
          <p:nvPr/>
        </p:nvCxnSpPr>
        <p:spPr>
          <a:xfrm flipH="1">
            <a:off x="2971080" y="1828800"/>
            <a:ext cx="2515320" cy="40392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1" name="Straight Arrow Connector 10"/>
          <p:cNvCxnSpPr/>
          <p:nvPr/>
        </p:nvCxnSpPr>
        <p:spPr>
          <a:xfrm flipH="1">
            <a:off x="3657240" y="2284920"/>
            <a:ext cx="1905840" cy="15246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2" name="Straight Arrow Connector 11"/>
          <p:cNvCxnSpPr/>
          <p:nvPr/>
        </p:nvCxnSpPr>
        <p:spPr>
          <a:xfrm flipH="1">
            <a:off x="4799880" y="2743200"/>
            <a:ext cx="762840" cy="22104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3" name="Straight Arrow Connector 12"/>
          <p:cNvCxnSpPr/>
          <p:nvPr/>
        </p:nvCxnSpPr>
        <p:spPr>
          <a:xfrm flipH="1">
            <a:off x="3047400" y="3123000"/>
            <a:ext cx="2515320" cy="21344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4" name="Straight Arrow Connector 13"/>
          <p:cNvCxnSpPr/>
          <p:nvPr/>
        </p:nvCxnSpPr>
        <p:spPr>
          <a:xfrm flipH="1">
            <a:off x="3580920" y="3581280"/>
            <a:ext cx="1982160" cy="152496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5" name="Straight Arrow Connector 14"/>
          <p:cNvCxnSpPr/>
          <p:nvPr/>
        </p:nvCxnSpPr>
        <p:spPr>
          <a:xfrm flipH="1" flipV="1">
            <a:off x="3885840" y="3885480"/>
            <a:ext cx="1753200" cy="153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6" name="Straight Arrow Connector 15"/>
          <p:cNvCxnSpPr/>
          <p:nvPr/>
        </p:nvCxnSpPr>
        <p:spPr>
          <a:xfrm flipH="1">
            <a:off x="3351960" y="4494600"/>
            <a:ext cx="2210760" cy="22932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7" name="Straight Arrow Connector 17"/>
          <p:cNvCxnSpPr/>
          <p:nvPr/>
        </p:nvCxnSpPr>
        <p:spPr>
          <a:xfrm flipH="1">
            <a:off x="3428280" y="5713920"/>
            <a:ext cx="2134440" cy="1530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8" name="Straight Arrow Connector 18"/>
          <p:cNvCxnSpPr/>
          <p:nvPr/>
        </p:nvCxnSpPr>
        <p:spPr>
          <a:xfrm flipH="1" flipV="1">
            <a:off x="3809160" y="5257800"/>
            <a:ext cx="1753560" cy="7668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89" name="Straight Arrow Connector 19"/>
          <p:cNvCxnSpPr/>
          <p:nvPr/>
        </p:nvCxnSpPr>
        <p:spPr>
          <a:xfrm flipH="1" flipV="1">
            <a:off x="3657240" y="5638320"/>
            <a:ext cx="1905840" cy="53424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cxnSp>
        <p:nvCxnSpPr>
          <p:cNvPr id="390" name="Straight Arrow Connector 20"/>
          <p:cNvCxnSpPr/>
          <p:nvPr/>
        </p:nvCxnSpPr>
        <p:spPr>
          <a:xfrm flipH="1" flipV="1">
            <a:off x="3885480" y="4571640"/>
            <a:ext cx="1677240" cy="381600"/>
          </a:xfrm>
          <a:prstGeom prst="straightConnector1">
            <a:avLst/>
          </a:prstGeom>
          <a:ln w="9360">
            <a:solidFill>
              <a:srgbClr val="ff2489"/>
            </a:solidFill>
            <a:miter/>
            <a:tailEnd len="med" type="arrow" w="med"/>
          </a:ln>
        </p:spPr>
      </p:cxnSp>
      <p:pic>
        <p:nvPicPr>
          <p:cNvPr id="391" name="Rectangle 34" descr=""/>
          <p:cNvPicPr/>
          <p:nvPr/>
        </p:nvPicPr>
        <p:blipFill>
          <a:blip r:embed="rId2"/>
          <a:stretch/>
        </p:blipFill>
        <p:spPr>
          <a:xfrm>
            <a:off x="-304920" y="55440"/>
            <a:ext cx="60231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12" dur="1" fill="hold"/>
                                  <p:tgtEl>
                                    <p:spTgt spid="3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2:07:18Z</dcterms:created>
  <dc:creator>Breanna Haehn</dc:creator>
  <dc:description/>
  <dc:language>en-US</dc:language>
  <cp:lastModifiedBy>TPS</cp:lastModifiedBy>
  <dcterms:modified xsi:type="dcterms:W3CDTF">2009-02-27T21:00:16Z</dcterms:modified>
  <cp:revision>304</cp:revision>
  <dc:subject/>
  <dc:title>The Age of Exploration</dc:title>
</cp:coreProperties>
</file>