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2362-7CA2-4413-856B-FC141F37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8C0-FE51-47E2-B12B-67311D88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872FF-DFC6-4721-8A37-EB6F793A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CC56D-1C39-404C-9D0E-9A399407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541DB-F6C4-4C51-AA8F-79BBD876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015F2-F205-4237-91C2-AB084618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14A08-FF59-4E63-972F-57E73992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DC8BF-5E4F-4AA3-9620-8F5468DA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CB237-C0EC-4634-8103-6453BC10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699B93-2197-4E7F-98E1-5E2AB79E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E6E4F-2D72-4255-B245-618D2EEC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E73-FE60-429B-9852-3237B32D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3894-21CD-4921-840A-9EBE68BB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E5E3-534C-49C2-A67F-377D2C90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C936-8250-4427-A183-07C9B3F2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4071-108F-47F9-A427-9DBE7510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7051-4E0D-43C2-A0C9-44AD07E0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6DE4-2E40-4CB1-8D20-E4E65E7D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BC5B-202B-4ED8-A078-E6D7C7F8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B0EE-176C-43A4-9566-359F99A1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9581-5D58-402F-981C-0147CE42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D4B2-2201-45EE-8233-72E04744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95AA-349F-4112-8A6D-D8D51B9C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2FF6-F033-4EFF-AFC6-B73D02C1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EFF7-F341-42A1-AC50-5475D46D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D3B0-3045-41D2-AD59-5D330F0E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B598-B52A-4927-8CDC-669B7552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E7F8E-4C7C-40F6-A52D-F9966841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038D-6BAB-481A-BB88-632C5C9A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7405-535A-40B1-9AE8-C6AF6F22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FC7F3-8E7F-4DBB-9006-E4256B67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4BC-E91B-4AFA-9BA6-DD2F8676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31656-140A-46F3-80DC-DA6A6578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D1CF-6BBD-492D-B1B9-8A6DC4B3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45B96-FA9B-4D26-8B3E-7B434435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2ADBB-5A0C-4B6B-80FF-0E92E2DE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B5670-D3E0-4AD3-881A-789519E1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8904-7C9B-4888-A660-DA5B542D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B9DD-D80B-4827-8463-52DCAEFF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0C83-F7AD-4683-AB4B-B1FD6CE6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A3D3E-25D1-43AE-B2F6-1827FA75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E5951-2470-4F00-B142-28723D6F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A8C4-CA30-4207-BDC3-C99A8091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8C9F-8018-4C71-A8B1-BF670F00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BAE5-DB2D-4BBA-981C-CD671D76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37562-7C31-45E2-AD09-ABA4C8CD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C0894-B2B9-4EC7-B63C-7C0E29C7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08CE2-CFC3-4795-AE44-3895EBB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4EF9C-4408-4103-AD18-F1136880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8D4C9-DF8F-456E-B0E3-6B55C338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0E6B0-C788-4237-B3F2-22F32C80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7953-C6C1-4B5C-AEA5-5F696B7CD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FDF49-4D84-48CB-9EAE-6378F2DF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6ECF-EB06-4786-8698-9C16B935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F81B-BE25-47C3-8DE7-074C16E4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A8AD8-8B11-4F7E-A580-1EB71999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1314B-5C1A-446B-A74B-D77E8595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64C16-081D-45AF-9F0C-AD078CA8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4A5D4-5219-4B75-9A3A-21982E9E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2044F-E86E-4EB9-9270-FA2946CC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3DDCC-7FEF-4C21-9A2A-AF13612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D56E2-3E2B-4368-A545-521C1EDA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A6807-00DF-4D3A-BCDE-971C9C1C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DE45F-C635-4FA2-8D83-25D865FA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5F8-E046-4E9F-8448-3C02857B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B838-C5F4-4C26-BE08-57EA7DD0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CBD03-185E-47AD-9F91-774C9E9D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4808B-9B53-4F6D-B588-5B5537C0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5D18B-B565-45FF-946E-34912230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634C6-35E8-44A3-9A2A-7B8C3069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2E175-C7D2-430E-B752-1ACDA885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FE4B8-9BA9-44E1-B269-75629ED6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E7965-0CE5-4954-9FEA-66A3897B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38B08-2590-401D-BC0B-0E28C190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6D75D-1667-4A4D-BB1F-142F0239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CDE-B1AB-4D9E-B903-6F28D1B5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2BC10-B38B-4F0C-ACA0-A4C475CA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24E6E-FE34-4022-8A05-8A66F368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14F33-F0B3-40F2-9A57-CB571058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9931F-1C55-4C71-9465-B24EC40E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13C10-03FD-4892-B56E-BBD9504F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D6B56-12B5-484E-A252-4DD33DB1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D55A4-CEB7-4146-8454-9831F9B2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598FC-C4B8-4C08-A216-AEBB82B0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D4FF-4736-49F9-A4B4-5284D9EC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92CA8-0385-4322-93E5-3F3ACFB0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B95-C3D0-4231-9DAE-B47A86E9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961E6-3C28-4942-B29E-4C6D37F9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D9F35-6AD8-49C0-B168-D7F3AC3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1EE63-C67D-4D28-B45B-C03645D7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BEDA1-08CF-47EE-9074-CF722A31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762D59-86B5-4176-85C9-B07756B4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9473D-B4A2-45A6-80DD-3437D1CFE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93775-3838-4C44-A58C-0B56444C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E3C7D-97AB-410E-89A2-96429CA1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E86B3-B65C-43CD-8261-9BE4285B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3F578-930C-43F8-9DB6-02E614E3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4D89-DA4D-4251-ACEC-C47CFCEB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90D51-C463-4912-A12F-AE6EB2A8B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2C5F1-7478-40B9-8862-DB11E73F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DB0CD-98AB-4A44-A0D9-5166683F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7AD8F-DBD1-4BAB-AB28-F19C3F4A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3B90D9-1901-4988-A78E-BF8061A0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49CF4-88DD-49A1-9476-6E5FA691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C7199-93FB-4B6B-8D81-7098843B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EDE8D-9107-44E7-BDDA-8D3689CC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FBAC1-ABF9-4595-8B38-A214FF00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F841E-D7EC-4C7B-B671-07150F48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C239-EEDC-4791-8469-67113994067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518E-6338-4605-84DA-BBF07742614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8FD6-AF72-47FB-844D-20AD23C56C6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F80-D544-4D78-B67F-BF4BD3D9BA6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EB63-72D8-4184-8302-38FC8AE5171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BA64-1197-4BB5-9CED-91AE38D446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9140-FDE7-4D72-A022-EE74B2DB973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6D19-1129-485C-B635-2FFA93D23C4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D390-E5D1-4AB0-86CB-245037F403C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1" name="Picture 5" descr="http://sillysoft.net/plugins/images/Africa%201660_thumb800.jpg"/>
          <p:cNvPicPr/>
          <p:nvPr/>
        </p:nvPicPr>
        <p:blipFill>
          <a:blip r:embed="rId2"/>
          <a:stretch/>
        </p:blipFill>
        <p:spPr>
          <a:xfrm>
            <a:off x="1542960" y="109440"/>
            <a:ext cx="60008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Swahili: The ‘Hellenistic’ culture of Africa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velops first in _____ 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ixture of cultural aspects fro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______ _______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________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antu culture/languag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5" descr="http://www.freewebs.com/eastafricankingdoms/khanga.jpg"/>
          <p:cNvPicPr/>
          <p:nvPr/>
        </p:nvPicPr>
        <p:blipFill>
          <a:blip r:embed="rId1"/>
          <a:stretch/>
        </p:blipFill>
        <p:spPr>
          <a:xfrm>
            <a:off x="3809880" y="1676520"/>
            <a:ext cx="53341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87440" y="-6480"/>
            <a:ext cx="7980120" cy="12747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228600" y="114264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versity in___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ast desert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ertile savannas or ____________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ivers and sea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highland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frica is rich i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1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2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3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http://www.ecoworld.org/articles/images/feller_africa_africa.jpg"/>
          <p:cNvPicPr/>
          <p:nvPr/>
        </p:nvPicPr>
        <p:blipFill>
          <a:blip r:embed="rId2"/>
          <a:stretch/>
        </p:blipFill>
        <p:spPr>
          <a:xfrm>
            <a:off x="4699080" y="1295280"/>
            <a:ext cx="418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87440" y="-6480"/>
            <a:ext cx="7980120" cy="1274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28240" y="91440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one time the Sahara Desert wa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climate change dried out the __________in a process called ______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pl who lived there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se ppl spoke a common language called___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5" descr="http://gossamerstrands.com/Hist100/100images/000f2413.jpg"/>
          <p:cNvPicPr/>
          <p:nvPr/>
        </p:nvPicPr>
        <p:blipFill>
          <a:blip r:embed="rId2"/>
          <a:stretch/>
        </p:blipFill>
        <p:spPr>
          <a:xfrm>
            <a:off x="502920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07880" y="-6480"/>
            <a:ext cx="7980480" cy="12747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151920" y="990720"/>
            <a:ext cx="4343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bia, also called ________,had contact w/ _______ thru trad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bia fell under ______contro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ventually Nubia gains their________ actually having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ery influenced by Egyp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5" descr="http://www.crystalinks.com/nubianpyramids.jpg"/>
          <p:cNvPicPr/>
          <p:nvPr/>
        </p:nvPicPr>
        <p:blipFill>
          <a:blip r:embed="rId2"/>
          <a:stretch/>
        </p:blipFill>
        <p:spPr>
          <a:xfrm>
            <a:off x="5715000" y="4038480"/>
            <a:ext cx="2952720" cy="2381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http://oi.uchicago.edu/museum/nubia/i/SCAN_01B_CPR_MTA.jpg"/>
          <p:cNvPicPr/>
          <p:nvPr/>
        </p:nvPicPr>
        <p:blipFill>
          <a:blip r:embed="rId3"/>
          <a:stretch/>
        </p:blipFill>
        <p:spPr>
          <a:xfrm>
            <a:off x="4648320" y="1219320"/>
            <a:ext cx="38098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87440" y="146160"/>
            <a:ext cx="7980120" cy="12747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152280" y="1066680"/>
            <a:ext cx="4572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Ghana becomes influential thru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________was traded in Afric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________was nearly as valuable as gol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lso traded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______-______trade line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ing of Ghana collects taxes for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5" descr="http://www.blackpast.org/files/blackpast_images/ghana.jpg"/>
          <p:cNvPicPr/>
          <p:nvPr/>
        </p:nvPicPr>
        <p:blipFill>
          <a:blip r:embed="rId2"/>
          <a:stretch/>
        </p:blipFill>
        <p:spPr>
          <a:xfrm>
            <a:off x="4572000" y="2057400"/>
            <a:ext cx="41054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87440" y="-6480"/>
            <a:ext cx="7980120" cy="1274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560" y="83808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umbi Saleh made up of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irst town wa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second town wa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uslim_________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rom north of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th towns very_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2" descr="http://lexicorient.com/mauritania/photos/kumbi-saleh01.jpg"/>
          <p:cNvPicPr/>
          <p:nvPr/>
        </p:nvPicPr>
        <p:blipFill>
          <a:blip r:embed="rId2"/>
          <a:stretch/>
        </p:blipFill>
        <p:spPr>
          <a:xfrm>
            <a:off x="5715000" y="1920960"/>
            <a:ext cx="3048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ad the handout and answer the following question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rom Battutah’s descriptions, what’s the desert lik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y are camels the only way to cross the desert, (this information is not explicitly in the text…you will have to use some background knowledge to answer this)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The Kingdom of Mali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648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li’s powerful _____ take over _______&amp; _______trade rou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nsa Musa is Mali’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xpands Mali’s ______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rought _______ to the kingdo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nverted to_______ and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moted religious _____________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5" descr="http://www.edunetconnect.com/cat/timemachine/images/25_10.jpg"/>
          <p:cNvPicPr/>
          <p:nvPr/>
        </p:nvPicPr>
        <p:blipFill>
          <a:blip r:embed="rId1"/>
          <a:stretch/>
        </p:blipFill>
        <p:spPr>
          <a:xfrm>
            <a:off x="4572000" y="2209680"/>
            <a:ext cx="4587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Songhai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sputes over succession in Mali cause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ne of these group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nghai takes control of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ventually a ______ dynasty develo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/f the collapse of Songhai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5" descr="http://www.kidspast.com/images/Songhai.jpg"/>
          <p:cNvPicPr/>
          <p:nvPr/>
        </p:nvPicPr>
        <p:blipFill>
          <a:blip r:embed="rId1"/>
          <a:stretch/>
        </p:blipFill>
        <p:spPr>
          <a:xfrm>
            <a:off x="4168800" y="2590920"/>
            <a:ext cx="4670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3:35:05Z</dcterms:created>
  <dc:creator>Christine Sturges</dc:creator>
  <dc:description/>
  <dc:language>en-US</dc:language>
  <cp:lastModifiedBy>TPS</cp:lastModifiedBy>
  <dcterms:modified xsi:type="dcterms:W3CDTF">2009-01-28T15:12:12Z</dcterms:modified>
  <cp:revision>69</cp:revision>
  <dc:subject/>
  <dc:title>Ancient Africa</dc:title>
</cp:coreProperties>
</file>