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8.png" ContentType="image/png"/>
  <Override PartName="/ppt/media/image15.jpeg" ContentType="image/jpeg"/>
  <Override PartName="/ppt/media/image14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.jpeg" ContentType="image/jpeg"/>
  <Override PartName="/ppt/media/image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E3B6-7EB6-443B-B848-8E8A1B2AE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2A00-8456-4AA5-8735-1FBE00AB7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23CCA5-4962-42FB-879C-D7399E169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5A831C-0FD7-46B6-B328-FA2AD6DD1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C79A12-09E2-474E-B0AA-8C08CD423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C8F0AE-A444-4052-874D-3428B100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4EDE95-09F9-4DCD-8234-06F7C51A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77AFBE-BD92-4101-BB8F-0333E58B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8A09E5-F569-4D01-9192-B017844F7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850F9E-845D-4F7F-8D42-5BA395C11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BDA40A-4D51-4226-BFFB-DC1FBBFC9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BE02-727F-4318-BABD-7591F06DD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3D82-B6E5-4C59-8E52-675CFB167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01EDE-01E3-4D71-8218-56A23D455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3F432-36F4-42DB-90F0-6F5A98D42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FD745-118E-4627-88DA-BA86E050D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33F78-5342-4DEF-904A-13FCFCD5F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DE7AD-B49E-482B-9372-C48D37A31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4D19C-B015-4703-BBB2-2BCAF9AEF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AFC07-A2D0-44A7-B5AB-67D546D8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6EA7-7497-4C73-879C-ECDB63D21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D4FF7-1049-4AE1-A81A-F4B3335B6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119C0-402F-4A19-A5D2-6B30CD47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53EF6-2102-4886-9534-62DEDEA85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5B0BE-68DA-41D1-91B3-4AD2AE5B2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ED30A-05E3-44D9-957A-5149506E0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11CCE-529E-4A05-8C46-AF4D05F85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2952C-C69D-4B1E-BC49-D28740EB1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16F4D-E3B4-4E52-B893-3A0BDFCE2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8FFC8-FB18-4771-AF49-D6F55DD58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35813-9434-47EE-AF51-E84BB5341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90F4-3C84-43DF-A8E4-B06567DCA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08094-543A-431E-8327-F5A5856E3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90500-93F3-4EB4-88BE-AC580916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73023-77FA-42E1-AE3B-8728B1D3A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D4B12-3544-4B2C-8D91-9070E49B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FB38E-375F-4CB6-A23C-8713F0D5D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E2449-2734-4DD6-9809-6D0C43129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44AA0-E1B4-4BE9-9BFC-E8E7B4A07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259AD-3821-4086-8C23-343EFCC69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B6D38-51F8-4178-AD46-0422323C1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A32B9-59EA-4B94-8FAD-945C58CF5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985D-1A70-4BD4-B112-C55714607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2FC7B-76EC-4EC9-B831-FA1BAEDC8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D6E7A-8898-4F4B-B667-3A3214737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9501F-459B-40D0-9354-FC233D205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4520A-C3D1-40EB-A25B-F45210E3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57546-4D37-45AD-95A6-5DA0B4369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7043B-10D8-47B7-ACB5-CE74DC094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F7458-FD6D-4479-AB5B-D4A537758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6F92F-0FEA-4636-A86F-B148A1157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CCEED-AA5D-4D63-91EA-212918370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169A5F-8E4E-40FB-8080-7073CE820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5827-88D1-4B0A-97AF-F4C17E5AD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150C61-2CAF-4AB1-B6A8-22AC7C9FD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571047-EF9B-4AAF-8C7C-EE0673DE4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6E036-9427-410B-AD6B-23CADFFA2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F322F4-4824-4D8A-B42B-F0747800A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0947DD-CD58-4345-917B-F780370F4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69B2F8-6BC3-440B-BBCE-1442FA5A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3455F6-5BE9-4EF9-8C90-B0375BAF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50223-B6F1-4624-BDDD-04AF1FA2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E5103-51C6-4C84-A468-C1DBE2E14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E75441-790C-4042-AED3-6D0F80F46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0B5A-7E92-43FA-AA28-286B3FCD0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C22D8-937B-41C3-B0BB-733C8319D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6C6BAA-3E44-4E46-B94E-C50564F67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7FF4C-DFDD-4C8D-9C1C-1A0C22DF5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07472A-05AC-4312-99C7-3DD4312E7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8ED005-0AC9-4AE4-A7D9-86167ED83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E5BE23-458B-4F49-AA21-AE7570D38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5F3E51-AD8C-4CCA-8CFD-5119666E2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88DF48-960E-4081-83E9-ADDE018D7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D0A945-67A9-410C-A0A3-BFD31B21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DCC5D-9F17-47F7-87B3-D87EC149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74D4-B76B-42F6-A422-9F3F6CF4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EEA154-38A3-4141-A767-1673D983C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9021A8-280A-4769-B733-5454163C9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097CC8-75D0-479E-B3EC-59B1B1FDB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BD0B3E-819D-4C5C-8334-1EBBC1AED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77DF4F-CA48-451D-983E-6B5F1A119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68FA2F-EB69-4C44-A950-CD4A2581F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7D29F6-F09E-47DE-B3AA-A41CA812E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D87C85-708B-4102-BF39-CE8DE6A5A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4FB70A-D069-47EA-984C-A89BCDD3B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6F3D10-DD20-4AF2-9446-5E527F96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6B17-ABD5-4904-9285-FEA59A80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35B107-B598-45D9-BBA1-E47E2622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8129AA-F693-47EF-8F26-E75DC5B7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F2DFA8-5DB3-4FC0-8BFD-3B6AD9EBB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E48D59-BECE-41B5-B8C9-C03253B83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A2B837-C4A0-4053-AC6A-FFD1D5D39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9CD0E3-ECB4-48EA-8AC0-719BE098A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711811-B437-4250-B222-497DEA0DC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DCF5DA-FC74-4EEC-AB15-16788AE80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BC35AE-633A-4FEF-B33A-91600A15F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803942-3BBA-4BB1-9240-4C8D6537E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88CA-CD2C-40A1-8981-C4615118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AE663C-0D78-4229-B45A-71528D695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EA4C2B-EFDF-477D-9658-F82CF777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9CBEBE-3622-4FA9-9BFD-A1B5F8CEF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91BBA0-C848-4DB8-8555-4AA77AF13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E04C1A-1C48-4064-9939-74AA58C0D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26B8B1-F9A5-444F-96B2-9FAFCB158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A4B653-32BC-4239-ACFE-5372A5C66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93E2F0-C871-4126-AF56-079E7996D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C232DC-5EF4-4556-8A3E-D98754CC8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EBB66B-9943-401E-A365-FDEEE90F4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ank Gothic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nk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nk Gothic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82C89-45DC-47B9-AD72-05D828AB1A6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ank Gothic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ank Gothic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ank Gothic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nk Gothic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nk Gothic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63011-BFC6-45EB-9DF7-6868A0C0BEC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ank Gothic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ank Gothic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ank Gothic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nk Gothic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nk Gothic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855AF-7A96-4963-8D45-51050028A2B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ank Gothic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nk Gothic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nk Gothic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CDF5B-28D8-4EBA-A23C-6C3162FE2C7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ank Gothic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nk Gothic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nk Gothic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92114-B8E7-4360-9396-C5A1E6C4DA5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nk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nk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6EE81-AF36-415B-8D5C-E5433BC9291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ank Gothic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nk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nk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9EAF9-DF48-476B-86FF-E28FD3A386E3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nk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nk Gothic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3F724-ED69-4B35-994B-B68213AAC98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nk Gothic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ank Gothic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007DC-10A3-4EA5-B273-7BF4CF02F16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2" descr=""/>
          <p:cNvPicPr/>
          <p:nvPr/>
        </p:nvPicPr>
        <p:blipFill>
          <a:blip r:embed="rId1"/>
          <a:stretch/>
        </p:blipFill>
        <p:spPr>
          <a:xfrm>
            <a:off x="182520" y="4761000"/>
            <a:ext cx="8663040" cy="132228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3329"/>
              </a:solidFill>
              <a:latin typeface="Franklin Gothic Book"/>
            </a:endParaRPr>
          </a:p>
        </p:txBody>
      </p:sp>
      <p:pic>
        <p:nvPicPr>
          <p:cNvPr id="401" name="Picture 5" descr="http://sillysoft.net/plugins/images/Africa%201660_thumb800.jpg"/>
          <p:cNvPicPr/>
          <p:nvPr/>
        </p:nvPicPr>
        <p:blipFill>
          <a:blip r:embed="rId2"/>
          <a:stretch/>
        </p:blipFill>
        <p:spPr>
          <a:xfrm>
            <a:off x="1542960" y="109440"/>
            <a:ext cx="600084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Swahili: The ‘Hellenistic’ culture of Africa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Develops first in _____ ______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Mixture of cultural aspects from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______ _______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________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Bantu culture/language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8" name="Picture 5" descr="http://www.freewebs.com/eastafricankingdoms/khanga.jpg"/>
          <p:cNvPicPr/>
          <p:nvPr/>
        </p:nvPicPr>
        <p:blipFill>
          <a:blip r:embed="rId1"/>
          <a:stretch/>
        </p:blipFill>
        <p:spPr>
          <a:xfrm>
            <a:off x="3809880" y="1676520"/>
            <a:ext cx="533412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Title 1" descr=""/>
          <p:cNvPicPr/>
          <p:nvPr/>
        </p:nvPicPr>
        <p:blipFill>
          <a:blip r:embed="rId1"/>
          <a:stretch/>
        </p:blipFill>
        <p:spPr>
          <a:xfrm>
            <a:off x="487440" y="-6480"/>
            <a:ext cx="7980120" cy="127476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228600" y="1142640"/>
            <a:ext cx="4572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Diversity in_________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Vast deserts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Fertile savannas or ____________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Rivers and seas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The highlands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frica is rich in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1)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2)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3)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4" name="Picture 2" descr="http://www.ecoworld.org/articles/images/feller_africa_africa.jpg"/>
          <p:cNvPicPr/>
          <p:nvPr/>
        </p:nvPicPr>
        <p:blipFill>
          <a:blip r:embed="rId2"/>
          <a:stretch/>
        </p:blipFill>
        <p:spPr>
          <a:xfrm>
            <a:off x="4699080" y="1295280"/>
            <a:ext cx="4186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87440" y="-6480"/>
            <a:ext cx="7980120" cy="127476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228240" y="914400"/>
            <a:ext cx="4800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t one time the Sahara Desert was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 climate change dried out the __________in a process called ______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e ppl who lived there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ese ppl spoke a common language called_________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7" name="Picture 5" descr="http://gossamerstrands.com/Hist100/100images/000f2413.jpg"/>
          <p:cNvPicPr/>
          <p:nvPr/>
        </p:nvPicPr>
        <p:blipFill>
          <a:blip r:embed="rId2"/>
          <a:stretch/>
        </p:blipFill>
        <p:spPr>
          <a:xfrm>
            <a:off x="5029200" y="1981080"/>
            <a:ext cx="39625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Rectangle 2" descr=""/>
          <p:cNvPicPr/>
          <p:nvPr/>
        </p:nvPicPr>
        <p:blipFill>
          <a:blip r:embed="rId1"/>
          <a:stretch/>
        </p:blipFill>
        <p:spPr>
          <a:xfrm>
            <a:off x="407880" y="-6480"/>
            <a:ext cx="7980480" cy="127476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151920" y="990720"/>
            <a:ext cx="4343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Nubia, also called ________,had contact w/ _______ thru trade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Nubia fell under ______control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Eventually Nubia gains their________ actually having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Very influenced by Egyp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0" name="Picture 5" descr="http://www.crystalinks.com/nubianpyramids.jpg"/>
          <p:cNvPicPr/>
          <p:nvPr/>
        </p:nvPicPr>
        <p:blipFill>
          <a:blip r:embed="rId2"/>
          <a:stretch/>
        </p:blipFill>
        <p:spPr>
          <a:xfrm>
            <a:off x="5715000" y="4038480"/>
            <a:ext cx="2952720" cy="23814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7" descr="http://oi.uchicago.edu/museum/nubia/i/SCAN_01B_CPR_MTA.jpg"/>
          <p:cNvPicPr/>
          <p:nvPr/>
        </p:nvPicPr>
        <p:blipFill>
          <a:blip r:embed="rId3"/>
          <a:stretch/>
        </p:blipFill>
        <p:spPr>
          <a:xfrm>
            <a:off x="4648320" y="1219320"/>
            <a:ext cx="380988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487440" y="146160"/>
            <a:ext cx="7980120" cy="127476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152280" y="1066680"/>
            <a:ext cx="45720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Ghana becomes influential thru______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________was traded in Africa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________was nearly as valuable as gold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Also traded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The ______-______trade lines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King of Ghana collects taxes for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4" name="Picture 5" descr="http://www.blackpast.org/files/blackpast_images/ghana.jpg"/>
          <p:cNvPicPr/>
          <p:nvPr/>
        </p:nvPicPr>
        <p:blipFill>
          <a:blip r:embed="rId2"/>
          <a:stretch/>
        </p:blipFill>
        <p:spPr>
          <a:xfrm>
            <a:off x="4572000" y="2057400"/>
            <a:ext cx="410544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Title 1" descr=""/>
          <p:cNvPicPr/>
          <p:nvPr/>
        </p:nvPicPr>
        <p:blipFill>
          <a:blip r:embed="rId1"/>
          <a:stretch/>
        </p:blipFill>
        <p:spPr>
          <a:xfrm>
            <a:off x="487440" y="-6480"/>
            <a:ext cx="7980120" cy="127476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304560" y="838080"/>
            <a:ext cx="42670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Kumbi Saleh made up of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First town was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The second town was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Muslim_________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From north of: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Both towns very_______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7" name="Picture 2" descr="http://lexicorient.com/mauritania/photos/kumbi-saleh01.jpg"/>
          <p:cNvPicPr/>
          <p:nvPr/>
        </p:nvPicPr>
        <p:blipFill>
          <a:blip r:embed="rId2"/>
          <a:stretch/>
        </p:blipFill>
        <p:spPr>
          <a:xfrm>
            <a:off x="5715000" y="1920960"/>
            <a:ext cx="304812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Read the handout and answer the following questions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rom Battutah’s descriptions, what’s the desert like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Why are camels the only way to cross the desert, (this information is not explicitly in the text…you will have to use some background knowledge to answer this)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The Kingdom of Mali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6483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Mali’s powerful _____ take over _______&amp; _______trade route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Mansa Musa is Mali’s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Expands Mali’s ______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Brought _______ to the kingdom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Converted to_______ and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Promoted religious _____________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2" name="Picture 5" descr="http://www.edunetconnect.com/cat/timemachine/images/25_10.jpg"/>
          <p:cNvPicPr/>
          <p:nvPr/>
        </p:nvPicPr>
        <p:blipFill>
          <a:blip r:embed="rId1"/>
          <a:stretch/>
        </p:blipFill>
        <p:spPr>
          <a:xfrm>
            <a:off x="4572000" y="2209680"/>
            <a:ext cx="458784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Songhai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44197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Disputes over succession in Mali cause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One of these groups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onghai takes control of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Eventually a ______ dynasty develop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B/f the collapse of Songhai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5" name="Picture 5" descr="http://www.kidspast.com/images/Songhai.jpg"/>
          <p:cNvPicPr/>
          <p:nvPr/>
        </p:nvPicPr>
        <p:blipFill>
          <a:blip r:embed="rId1"/>
          <a:stretch/>
        </p:blipFill>
        <p:spPr>
          <a:xfrm>
            <a:off x="4168800" y="2590920"/>
            <a:ext cx="46702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2T03:35:05Z</dcterms:created>
  <dc:creator>Christine Sturges</dc:creator>
  <dc:description/>
  <dc:language>en-US</dc:language>
  <cp:lastModifiedBy>TPS</cp:lastModifiedBy>
  <dcterms:modified xsi:type="dcterms:W3CDTF">2009-01-28T15:12:12Z</dcterms:modified>
  <cp:revision>69</cp:revision>
  <dc:subject/>
  <dc:title>Ancient Africa</dc:title>
</cp:coreProperties>
</file>