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CE6-68B8-4BDF-B212-86704299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B38D-2768-4F6A-984D-28EF2D54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D5D5-36F4-4F14-A170-9748D6A9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24BB-47EC-4F07-85AF-24C01C52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229-ED8A-433F-9EEE-54B56E5D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247-39A5-40F4-AE98-49C21ECA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EF86-0962-484E-A2CC-479C2F7D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878-3DD2-42A6-B100-7A782895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B37-6623-4639-9584-1250D1D6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CC-DD35-4DA3-A4A1-50AB562E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0DB-1F6A-4C67-908C-BD59191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491F-E5E1-4682-8B79-DC5D4002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6E7F-B35E-452F-BA12-80E08B50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243. read the short section about the Missouri Compromise.  Why could Missouri simply be admitted to the US as a slave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yne-Webster deb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http://www.senate.gov/artandhistory/history/resources/graphic/medium/HayneRobert.jpg"/>
          <p:cNvPicPr/>
          <p:nvPr/>
        </p:nvPicPr>
        <p:blipFill>
          <a:blip r:embed="rId1"/>
          <a:srcRect l="11283" t="3930" r="4105" b="11772"/>
          <a:stretch/>
        </p:blipFill>
        <p:spPr>
          <a:xfrm>
            <a:off x="0" y="2895480"/>
            <a:ext cx="2817720" cy="403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95480" y="2819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states could declare unjust laws null and v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www.historyplace.com/specials/calendar/docs-pix/daniel-webster.jpg"/>
          <p:cNvPicPr/>
          <p:nvPr/>
        </p:nvPicPr>
        <p:blipFill>
          <a:blip r:embed="rId2"/>
          <a:stretch/>
        </p:blipFill>
        <p:spPr>
          <a:xfrm>
            <a:off x="5772240" y="2857680"/>
            <a:ext cx="337176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743200" y="1447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Liberty and union…one and inseparabl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rew Jackson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ttp://members.tripod.com/~CARIART/Andrew_Jackson.jpg"/>
          <p:cNvPicPr/>
          <p:nvPr/>
        </p:nvPicPr>
        <p:blipFill>
          <a:blip r:embed="rId1"/>
          <a:stretch/>
        </p:blipFill>
        <p:spPr>
          <a:xfrm>
            <a:off x="457200" y="1752480"/>
            <a:ext cx="3208320" cy="510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content.answers.com/main/content/wp/en/5/59/Andrew_Jackson_Statue_Nashville.jpg"/>
          <p:cNvPicPr/>
          <p:nvPr/>
        </p:nvPicPr>
        <p:blipFill>
          <a:blip r:embed="rId2"/>
          <a:stretch/>
        </p:blipFill>
        <p:spPr>
          <a:xfrm>
            <a:off x="3733920" y="1727280"/>
            <a:ext cx="54100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_____________ makes him a war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 for __________ in 1824 but loses to John Quincy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he runs as a “_______________” and wins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freepages.genealogy.rootsweb.com/~jganis/AndrewJackson/AJbirthplace.jpg"/>
          <p:cNvPicPr/>
          <p:nvPr/>
        </p:nvPicPr>
        <p:blipFill>
          <a:blip r:embed="rId1"/>
          <a:srcRect l="10133" t="10121" r="0" b="11738"/>
          <a:stretch/>
        </p:blipFill>
        <p:spPr>
          <a:xfrm>
            <a:off x="495288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www.constitutioncenter.org/timeline/flash/assets/asset_upload_file186_12012.jpg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kson fills the white house with his__________ this is called the ________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s perceived as a ______ ______. People will say the gov’t is run by ______ ______=Jacksonian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31" descr="http://www.americaslibrary.gov/assets/aa/jackson/aa_jackson_subj_e.jpg"/>
          <p:cNvPicPr/>
          <p:nvPr/>
        </p:nvPicPr>
        <p:blipFill>
          <a:blip r:embed="rId1"/>
          <a:stretch/>
        </p:blipFill>
        <p:spPr>
          <a:xfrm>
            <a:off x="5022720" y="1981080"/>
            <a:ext cx="305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signed in 1830 removing the 5 _________________ to Indian Territory in modern day 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n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ok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e Treaty”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irwinator.com/126/w39.jpg"/>
          <p:cNvPicPr/>
          <p:nvPr/>
        </p:nvPicPr>
        <p:blipFill>
          <a:blip r:embed="rId1"/>
          <a:srcRect l="17330" t="1822" r="17712" b="9415"/>
          <a:stretch/>
        </p:blipFill>
        <p:spPr>
          <a:xfrm>
            <a:off x="4495680" y="2646360"/>
            <a:ext cx="472464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http://www.constitutioncenter.org/timeline/flash/assets/asset_upload_file186_12012.jpg"/>
          <p:cNvPicPr/>
          <p:nvPr/>
        </p:nvPicPr>
        <p:blipFill>
          <a:blip r:embed="rId1"/>
          <a:stretch/>
        </p:blipFill>
        <p:spPr>
          <a:xfrm>
            <a:off x="380880" y="3276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freepages.genealogy.rootsweb.com/~jganis/AndrewJackson/AJbirthplace.jpg"/>
          <p:cNvPicPr/>
          <p:nvPr/>
        </p:nvPicPr>
        <p:blipFill>
          <a:blip r:embed="rId2"/>
          <a:srcRect l="10133" t="10121" r="0" b="11738"/>
          <a:stretch/>
        </p:blipFill>
        <p:spPr>
          <a:xfrm>
            <a:off x="4038480" y="3276720"/>
            <a:ext cx="4876920" cy="36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cherokee-indian-art.com/images/Cherokee%20Trail%20Of%20Tears.jpg"/>
          <p:cNvPicPr/>
          <p:nvPr/>
        </p:nvPicPr>
        <p:blipFill>
          <a:blip r:embed="rId3"/>
          <a:srcRect l="0" t="38572" r="0" b="0"/>
          <a:stretch/>
        </p:blipFill>
        <p:spPr>
          <a:xfrm>
            <a:off x="380880" y="103320"/>
            <a:ext cx="8458200" cy="317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we know about Jack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 and Con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3962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ve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oil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National B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rif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www.archives.gov/exhibits/treasures_of_congress/Images/page_9/30a.jpg"/>
          <p:cNvPicPr/>
          <p:nvPr/>
        </p:nvPicPr>
        <p:blipFill>
          <a:blip r:embed="rId1"/>
          <a:srcRect l="9371" t="9187" r="10426" b="2855"/>
          <a:stretch/>
        </p:blipFill>
        <p:spPr>
          <a:xfrm>
            <a:off x="5029200" y="1066680"/>
            <a:ext cx="38178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6/6a/AJ~bank.JPG/400px-AJ~bank.JPG"/>
          <p:cNvPicPr/>
          <p:nvPr/>
        </p:nvPicPr>
        <p:blipFill>
          <a:blip r:embed="rId1"/>
          <a:srcRect l="0" t="0" r="20006" b="0"/>
          <a:stretch/>
        </p:blipFill>
        <p:spPr>
          <a:xfrm>
            <a:off x="4191120" y="1981080"/>
            <a:ext cx="495288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National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got 20 year char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is strict constitution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compares bank to hydra mon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riff controver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iff placed of British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thern merchants like this b/c it makes their goods less expensive than British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rners hated this b/c, though the American goods were cheaper than the British goods with the tariff, they were still expensive…more so than the British goods had been w/o the 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45:14Z</dcterms:created>
  <dc:creator>TPS</dc:creator>
  <dc:description/>
  <dc:language>en-US</dc:language>
  <cp:lastModifiedBy>TPS</cp:lastModifiedBy>
  <dcterms:modified xsi:type="dcterms:W3CDTF">2008-11-20T21:24:28Z</dcterms:modified>
  <cp:revision>12</cp:revision>
  <dc:subject/>
  <dc:title>Andrew Jackson’s Legacy</dc:title>
</cp:coreProperties>
</file>