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5EF-2854-4F1D-A523-FF4AA90D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B085-0B5F-4CBD-BE47-6DE0E37B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5521-CEE7-43E6-8D69-0CF1CAD3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122-A932-469E-A320-B4194B33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75F-0F27-4446-AD2E-74429CDF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639-1A30-4709-B5E7-20362564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BB2D-C83F-4052-9FEE-A968A2D7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015A-A887-4D06-95C2-FAA77661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307-C408-4389-B6CC-8A753622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B74-AC5B-4D25-9139-6FDE53C9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E99-6C34-4C7E-95D2-03EF7422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FF4-063A-474B-B551-E1919816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C336-FA87-4DB7-A1B7-165F5CF30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URNAL 11/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n to page 243. read the short section about the Missouri Compromise.  Why could Missouri simply be admitted to the US as a slave st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yne-Webster deb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http://www.senate.gov/artandhistory/history/resources/graphic/medium/HayneRobert.jpg"/>
          <p:cNvPicPr/>
          <p:nvPr/>
        </p:nvPicPr>
        <p:blipFill>
          <a:blip r:embed="rId1"/>
          <a:srcRect l="11283" t="3930" r="4105" b="11772"/>
          <a:stretch/>
        </p:blipFill>
        <p:spPr>
          <a:xfrm>
            <a:off x="0" y="2895480"/>
            <a:ext cx="2817720" cy="4038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2895480" y="2819520"/>
            <a:ext cx="243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id states could declare unjust laws null and vo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http://www.historyplace.com/specials/calendar/docs-pix/daniel-webster.jpg"/>
          <p:cNvPicPr/>
          <p:nvPr/>
        </p:nvPicPr>
        <p:blipFill>
          <a:blip r:embed="rId2"/>
          <a:stretch/>
        </p:blipFill>
        <p:spPr>
          <a:xfrm>
            <a:off x="5772240" y="2857680"/>
            <a:ext cx="3371760" cy="4000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2743200" y="14479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Liberty and union…one and inseparabl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rew Jackson’s Leg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http://members.tripod.com/~CARIART/Andrew_Jackson.jpg"/>
          <p:cNvPicPr/>
          <p:nvPr/>
        </p:nvPicPr>
        <p:blipFill>
          <a:blip r:embed="rId1"/>
          <a:stretch/>
        </p:blipFill>
        <p:spPr>
          <a:xfrm>
            <a:off x="457200" y="1752480"/>
            <a:ext cx="3208320" cy="5105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http://content.answers.com/main/content/wp/en/5/59/Andrew_Jackson_Statue_Nashville.jpg"/>
          <p:cNvPicPr/>
          <p:nvPr/>
        </p:nvPicPr>
        <p:blipFill>
          <a:blip r:embed="rId2"/>
          <a:stretch/>
        </p:blipFill>
        <p:spPr>
          <a:xfrm>
            <a:off x="3733920" y="1727280"/>
            <a:ext cx="5410080" cy="51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cksonian 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4114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ttle of _____________ makes him a war h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s for __________ in 1824 but loses to John Quincy Ad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28 he runs as a “_______________” and wins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http://freepages.genealogy.rootsweb.com/~jganis/AndrewJackson/AJbirthplace.jpg"/>
          <p:cNvPicPr/>
          <p:nvPr/>
        </p:nvPicPr>
        <p:blipFill>
          <a:blip r:embed="rId1"/>
          <a:srcRect l="10133" t="10121" r="0" b="11738"/>
          <a:stretch/>
        </p:blipFill>
        <p:spPr>
          <a:xfrm>
            <a:off x="4952880" y="990720"/>
            <a:ext cx="4191120" cy="314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http://www.constitutioncenter.org/timeline/flash/assets/asset_upload_file186_12012.jpg"/>
          <p:cNvPicPr/>
          <p:nvPr/>
        </p:nvPicPr>
        <p:blipFill>
          <a:blip r:embed="rId2"/>
          <a:stretch/>
        </p:blipFill>
        <p:spPr>
          <a:xfrm>
            <a:off x="571500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cksonian Democr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ckson fills the white house with his__________ this is called the ________ 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is perceived as a ______ ______. People will say the gov’t is run by ______ ______=Jacksonian Democ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31" descr="http://www.americaslibrary.gov/assets/aa/jackson/aa_jackson_subj_e.jpg"/>
          <p:cNvPicPr/>
          <p:nvPr/>
        </p:nvPicPr>
        <p:blipFill>
          <a:blip r:embed="rId1"/>
          <a:stretch/>
        </p:blipFill>
        <p:spPr>
          <a:xfrm>
            <a:off x="5022720" y="1981080"/>
            <a:ext cx="3059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an Removal 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14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 signed in 1830 removing the 5 _________________ to Indian Territory in modern day _____________ b/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in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rok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ke Treaty” w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29" descr="http://www.irwinator.com/126/w39.jpg"/>
          <p:cNvPicPr/>
          <p:nvPr/>
        </p:nvPicPr>
        <p:blipFill>
          <a:blip r:embed="rId1"/>
          <a:srcRect l="17330" t="1822" r="17712" b="9415"/>
          <a:stretch/>
        </p:blipFill>
        <p:spPr>
          <a:xfrm>
            <a:off x="4495680" y="2646360"/>
            <a:ext cx="472464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http://www.constitutioncenter.org/timeline/flash/assets/asset_upload_file186_12012.jpg"/>
          <p:cNvPicPr/>
          <p:nvPr/>
        </p:nvPicPr>
        <p:blipFill>
          <a:blip r:embed="rId1"/>
          <a:stretch/>
        </p:blipFill>
        <p:spPr>
          <a:xfrm>
            <a:off x="380880" y="327672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freepages.genealogy.rootsweb.com/~jganis/AndrewJackson/AJbirthplace.jpg"/>
          <p:cNvPicPr/>
          <p:nvPr/>
        </p:nvPicPr>
        <p:blipFill>
          <a:blip r:embed="rId2"/>
          <a:srcRect l="10133" t="10121" r="0" b="11738"/>
          <a:stretch/>
        </p:blipFill>
        <p:spPr>
          <a:xfrm>
            <a:off x="4038480" y="3276720"/>
            <a:ext cx="4876920" cy="365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www.cherokee-indian-art.com/images/Cherokee%20Trail%20Of%20Tears.jpg"/>
          <p:cNvPicPr/>
          <p:nvPr/>
        </p:nvPicPr>
        <p:blipFill>
          <a:blip r:embed="rId3"/>
          <a:srcRect l="0" t="38572" r="0" b="0"/>
          <a:stretch/>
        </p:blipFill>
        <p:spPr>
          <a:xfrm>
            <a:off x="380880" y="103320"/>
            <a:ext cx="8458200" cy="3173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do we know about Jacks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ckson and Con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3962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 vet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oils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ian Removal A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ond National Ba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riff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http://www.archives.gov/exhibits/treasures_of_congress/Images/page_9/30a.jpg"/>
          <p:cNvPicPr/>
          <p:nvPr/>
        </p:nvPicPr>
        <p:blipFill>
          <a:blip r:embed="rId1"/>
          <a:srcRect l="9371" t="9187" r="10426" b="2855"/>
          <a:stretch/>
        </p:blipFill>
        <p:spPr>
          <a:xfrm>
            <a:off x="5029200" y="1066680"/>
            <a:ext cx="381780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http://upload.wikimedia.org/wikipedia/commons/thumb/6/6a/AJ~bank.JPG/400px-AJ~bank.JPG"/>
          <p:cNvPicPr/>
          <p:nvPr/>
        </p:nvPicPr>
        <p:blipFill>
          <a:blip r:embed="rId1"/>
          <a:srcRect l="0" t="0" r="20006" b="0"/>
          <a:stretch/>
        </p:blipFill>
        <p:spPr>
          <a:xfrm>
            <a:off x="4191120" y="1981080"/>
            <a:ext cx="4952880" cy="3762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National 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got 20 year char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ckson is strict constitutiona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ckson compares bank to hydra mons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riff controver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riff placed of British im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rthern merchants like this b/c it makes their goods less expensive than British g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therners hated this b/c, though the American goods were cheaper than the British goods with the tariff, they were still expensive…more so than the British goods had been w/o the t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22:45:14Z</dcterms:created>
  <dc:creator>TPS</dc:creator>
  <dc:description/>
  <dc:language>en-US</dc:language>
  <cp:lastModifiedBy>TPS</cp:lastModifiedBy>
  <dcterms:modified xsi:type="dcterms:W3CDTF">2008-11-20T21:34:57Z</dcterms:modified>
  <cp:revision>12</cp:revision>
  <dc:subject/>
  <dc:title>Andrew Jackson’s Legacy</dc:title>
</cp:coreProperties>
</file>