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A38-3391-473D-B898-9A9DF76E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368-1609-406F-B336-B914730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2C8-4693-4799-B53E-A9D892EB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1D02-37A1-4653-B6DA-616BA9DD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B47-C8F8-41DE-AC1C-7B9AEC90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9B1-F050-41D3-ADD3-640D3DDE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3EB-9200-4EF5-ADC4-8F1B58D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B0D-7F41-4476-9429-0F0E9618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86E-60CA-4996-B7C6-4276C89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CD5-1044-41BC-A178-9F386827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810D-6D7D-439C-8DC8-B75625D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48BD-E04E-48CA-8116-EF8762D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9DC7-05A2-433F-93D3-E5564EC33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1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urn to page 243. read the short section about the Missouri Compromise.  Why could Missouri simply be admitted to the US as a slave st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yne-Webster deb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" descr="http://www.senate.gov/artandhistory/history/resources/graphic/medium/HayneRobert.jpg"/>
          <p:cNvPicPr/>
          <p:nvPr/>
        </p:nvPicPr>
        <p:blipFill>
          <a:blip r:embed="rId1"/>
          <a:srcRect l="11283" t="3930" r="4105" b="11772"/>
          <a:stretch/>
        </p:blipFill>
        <p:spPr>
          <a:xfrm>
            <a:off x="0" y="2895480"/>
            <a:ext cx="2817720" cy="4038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895480" y="2819520"/>
            <a:ext cx="24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id states could declare unjust laws null and vo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http://www.historyplace.com/specials/calendar/docs-pix/daniel-webster.jpg"/>
          <p:cNvPicPr/>
          <p:nvPr/>
        </p:nvPicPr>
        <p:blipFill>
          <a:blip r:embed="rId2"/>
          <a:stretch/>
        </p:blipFill>
        <p:spPr>
          <a:xfrm>
            <a:off x="5772240" y="2857680"/>
            <a:ext cx="337176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2743200" y="1447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Liberty and union…one and inseparable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rew Jackson’s Leg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http://members.tripod.com/~CARIART/Andrew_Jackson.jpg"/>
          <p:cNvPicPr/>
          <p:nvPr/>
        </p:nvPicPr>
        <p:blipFill>
          <a:blip r:embed="rId1"/>
          <a:stretch/>
        </p:blipFill>
        <p:spPr>
          <a:xfrm>
            <a:off x="457200" y="1752480"/>
            <a:ext cx="3208320" cy="510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http://content.answers.com/main/content/wp/en/5/59/Andrew_Jackson_Statue_Nashville.jpg"/>
          <p:cNvPicPr/>
          <p:nvPr/>
        </p:nvPicPr>
        <p:blipFill>
          <a:blip r:embed="rId2"/>
          <a:stretch/>
        </p:blipFill>
        <p:spPr>
          <a:xfrm>
            <a:off x="3733920" y="1727280"/>
            <a:ext cx="5410080" cy="51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ttle of _____________ makes him a war h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s for __________ in 1824 but loses to John Quincy Ad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828 he runs as a “_______________” and wins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http://freepages.genealogy.rootsweb.com/~jganis/AndrewJackson/AJbirthplace.jpg"/>
          <p:cNvPicPr/>
          <p:nvPr/>
        </p:nvPicPr>
        <p:blipFill>
          <a:blip r:embed="rId1"/>
          <a:srcRect l="10133" t="10121" r="0" b="11738"/>
          <a:stretch/>
        </p:blipFill>
        <p:spPr>
          <a:xfrm>
            <a:off x="4952880" y="990720"/>
            <a:ext cx="4191120" cy="314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http://www.constitutioncenter.org/timeline/flash/assets/asset_upload_file186_12012.jpg"/>
          <p:cNvPicPr/>
          <p:nvPr/>
        </p:nvPicPr>
        <p:blipFill>
          <a:blip r:embed="rId2"/>
          <a:stretch/>
        </p:blipFill>
        <p:spPr>
          <a:xfrm>
            <a:off x="571500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ian Democ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ckson fills the white house with his__________ this is called the ________ 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is perceived as a ______ ______. People will say the gov’t is run by ______ ______=Jacksonian Democ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031" descr="http://www.americaslibrary.gov/assets/aa/jackson/aa_jackson_subj_e.jpg"/>
          <p:cNvPicPr/>
          <p:nvPr/>
        </p:nvPicPr>
        <p:blipFill>
          <a:blip r:embed="rId1"/>
          <a:stretch/>
        </p:blipFill>
        <p:spPr>
          <a:xfrm>
            <a:off x="5022720" y="1981080"/>
            <a:ext cx="3059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14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w signed in 1830 removing the 5 _________________ to Indian Territory in modern day _____________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in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erok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ke Treaty”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29" descr="http://www.irwinator.com/126/w39.jpg"/>
          <p:cNvPicPr/>
          <p:nvPr/>
        </p:nvPicPr>
        <p:blipFill>
          <a:blip r:embed="rId1"/>
          <a:srcRect l="17330" t="1822" r="17712" b="9415"/>
          <a:stretch/>
        </p:blipFill>
        <p:spPr>
          <a:xfrm>
            <a:off x="4495680" y="2646360"/>
            <a:ext cx="472464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http://www.constitutioncenter.org/timeline/flash/assets/asset_upload_file186_12012.jpg"/>
          <p:cNvPicPr/>
          <p:nvPr/>
        </p:nvPicPr>
        <p:blipFill>
          <a:blip r:embed="rId1"/>
          <a:stretch/>
        </p:blipFill>
        <p:spPr>
          <a:xfrm>
            <a:off x="380880" y="327672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freepages.genealogy.rootsweb.com/~jganis/AndrewJackson/AJbirthplace.jpg"/>
          <p:cNvPicPr/>
          <p:nvPr/>
        </p:nvPicPr>
        <p:blipFill>
          <a:blip r:embed="rId2"/>
          <a:srcRect l="10133" t="10121" r="0" b="11738"/>
          <a:stretch/>
        </p:blipFill>
        <p:spPr>
          <a:xfrm>
            <a:off x="4038480" y="3276720"/>
            <a:ext cx="4876920" cy="365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cherokee-indian-art.com/images/Cherokee%20Trail%20Of%20Tears.jpg"/>
          <p:cNvPicPr/>
          <p:nvPr/>
        </p:nvPicPr>
        <p:blipFill>
          <a:blip r:embed="rId3"/>
          <a:srcRect l="0" t="38572" r="0" b="0"/>
          <a:stretch/>
        </p:blipFill>
        <p:spPr>
          <a:xfrm>
            <a:off x="380880" y="103320"/>
            <a:ext cx="8458200" cy="3173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do we know about Jacks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ackson and Con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3962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2 ve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poils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ian Removal Ac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cond National Ba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riff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http://www.archives.gov/exhibits/treasures_of_congress/Images/page_9/30a.jpg"/>
          <p:cNvPicPr/>
          <p:nvPr/>
        </p:nvPicPr>
        <p:blipFill>
          <a:blip r:embed="rId1"/>
          <a:srcRect l="9371" t="9187" r="10426" b="2855"/>
          <a:stretch/>
        </p:blipFill>
        <p:spPr>
          <a:xfrm>
            <a:off x="5029200" y="1066680"/>
            <a:ext cx="38178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upload.wikimedia.org/wikipedia/commons/thumb/6/6a/AJ~bank.JPG/400px-AJ~bank.JPG"/>
          <p:cNvPicPr/>
          <p:nvPr/>
        </p:nvPicPr>
        <p:blipFill>
          <a:blip r:embed="rId1"/>
          <a:srcRect l="0" t="0" r="20006" b="0"/>
          <a:stretch/>
        </p:blipFill>
        <p:spPr>
          <a:xfrm>
            <a:off x="4191120" y="1981080"/>
            <a:ext cx="4952880" cy="3762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4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National 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got 20 year char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is strict constitutiona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ackson compares bank to hydra monst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ariff controver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ariff placed of British im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rthern merchants like this b/c it makes their goods less expensive than British go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outherners hated this b/c, though the American goods were cheaper than the British goods with the tariff, they were still expensive…more so than the British goods had been w/o the ta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22:45:14Z</dcterms:created>
  <dc:creator>TPS</dc:creator>
  <dc:description/>
  <dc:language>en-US</dc:language>
  <cp:lastModifiedBy>TPS</cp:lastModifiedBy>
  <dcterms:modified xsi:type="dcterms:W3CDTF">2008-11-20T21:34:57Z</dcterms:modified>
  <cp:revision>12</cp:revision>
  <dc:subject/>
  <dc:title>Andrew Jackson’s Legacy</dc:title>
</cp:coreProperties>
</file>