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67A7-E1A2-4B5A-85B6-B0B42E8B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905F-48A9-4DA4-B95A-99054E43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639-6E45-4AA7-9E0C-892E5834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5214-100C-4B29-B91C-99D23BD3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0C3E5-28CE-4BCD-A394-BBCB90DA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5D918-3A2B-405F-92B2-0FF59E2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E9278-8CE3-455A-BC65-C36AE3F2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3E1E-D633-4D73-B47B-00F4F393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10036-1CDE-424C-BE00-823565CE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C67B-A6A1-40A1-8823-F3FF89A4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14336-7C2B-4738-996F-CAC841F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538F-9C1F-48E6-9138-8AC3A2B6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563DB-A7B8-40FD-9A0D-43583FC6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55892-D2EB-4088-8488-91189C84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07973-C8AD-4C44-A501-A1CDA626C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AAFAF-E239-4120-8846-BD34F892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3983C-0362-44CB-BBA6-1939FF96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3131-47AF-439F-A2E0-EF8FF487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17AC-6C94-4C8F-B7BC-F9092F8C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3368-AFA8-4FC8-8435-8635833E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1F5E-30B9-473F-A100-D8081A6C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8EA7-A464-407E-B730-1C510C5C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BF4-3243-4335-99ED-2B1F8FB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BCE7A-18AB-4CC9-BD66-821F5624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13EA-DB63-4824-93FD-E2EE41E5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A1807-8D09-466D-B0DF-A126D908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1B6E-A5CB-4A83-8455-9F7F9DF7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2D92C-EDCB-4CCC-98D0-F8A86A5B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6D756-AB8D-408F-AB19-4BA80815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66915-8224-4E5E-9152-9A9EC428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FA984-D739-4DC3-B901-260EEF7F8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4A7A7-B603-472E-BA02-5231434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D124D-B51F-47D3-B7AD-5050A12C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963C-445A-44B1-A851-8727EF11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2B58E-52F3-4023-9D6D-554340D8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E0E22-2C77-49AB-93FB-6E452E46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8C7DC7-CF85-483F-8687-9B4EC2840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C89607-EFBA-41F6-BF35-B56364B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03401C-AB8A-4FE3-8FDB-92459A61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CCF6CE-DA24-4E71-BDF8-5DBDECCF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8C17E-CB95-4ED0-B583-6F229E67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AEF918-852E-4011-B14A-8CC4B9AE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807E0-7862-4B7A-8DAE-55D477A7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1B6ED-82B5-4716-A45C-0939346B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E7A-1832-452D-86FF-D075450F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358AAE-2FE9-4FEB-949E-C9EA0F86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CC18B6-F745-42F5-B4E5-55F49AA1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EEF1E-4DD3-4794-8D25-74D74314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299DE-EC5B-4FF6-9963-D9AE6EEF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DFD14F-DD53-4407-BAAF-9523960E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9A4098-19DD-4728-8914-E612C93B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BBD126-C3D1-4BB9-9CB4-92FFA01F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37D88-877D-469D-BFDA-3F007F1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32040-0079-4806-9C18-31035537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81026-00B3-4241-B03A-BBB48E10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EA1-7179-45FB-8F2F-9C81045D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91AB83-C700-4CD2-BD0C-25EFB8E9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5A4280-9C99-452C-A48A-07EBA8E5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6546D-3341-4533-B457-F928137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D3F83-B111-494F-8624-762218F0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9871CB-62E9-4740-8E6A-9DCF42AC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4D9DBA-8CE8-466D-8618-ACDADD2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D5BBF-F914-4B14-BB62-06725A0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F7A1B-432F-4FF6-84F0-1197E979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29D720-2384-4D6A-96F8-93D5FF77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94F2E6-30C5-4706-AAA0-7A0573D4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32AF-62C6-4A88-AA88-77F8BC56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B5A01-5255-4935-AC3E-E6946C92D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6450C5-209F-4A15-923C-D3345254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867A46-4565-4C20-BC42-04F42652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0DCC-F948-4812-99DE-ABF9FE7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D165-D1F4-4123-B048-903E352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7BCC-0CEA-4C30-978D-AC3F280C1EF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656A-7729-4623-BED7-7B3FD828A753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3CF-8689-4E0F-BAD7-0A56301C409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0CC8-BD72-4831-AC5A-BAC2C27B3F5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E40-21E0-43BA-BFED-5B595DF4672D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B2CC-4B2C-414F-84FA-CCF9953FCCD4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-237960" y="-615960"/>
            <a:ext cx="9388440" cy="1487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51920" y="1066320"/>
            <a:ext cx="4419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With the person sitting next to you it is your job to determine the following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’s federal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’s a constituency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ich diagram on the right repres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eder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feder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itar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181480" y="609480"/>
            <a:ext cx="114300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6172200" y="45720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6"/>
          <p:cNvSpPr/>
          <p:nvPr/>
        </p:nvSpPr>
        <p:spPr>
          <a:xfrm>
            <a:off x="4952880" y="15238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4800600" y="6094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019920" y="15238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238880" y="25909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5334120" y="5105520"/>
            <a:ext cx="533160" cy="60948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6858000" y="205740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781680" y="30481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7696080" y="30481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7696080" y="205740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715000" y="449568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4572000" y="4419720"/>
            <a:ext cx="106668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562720" y="548640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4572000" y="541008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reating an American govern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9240" y="-390600"/>
            <a:ext cx="8474040" cy="1238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28240" y="685800"/>
            <a:ext cx="4287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vement began in ________ encourages ppl to _________the status qu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Question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Question __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hn Locke, __________, is very popular in _____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Job of gov’t is to protect natural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1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2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3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phold Social Contract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Picture 4" descr="http://faculty.frostburg.edu/mbradley/psyography/John_Locke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81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219240" y="-390600"/>
            <a:ext cx="8474040" cy="123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240" y="685800"/>
            <a:ext cx="4287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s knew they wanted ________of powe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ree branches of 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rm limits for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lected officials held more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new gov’t was called a ___________; that is a government ruled by the ‘consent of the ________’ and w/o a _______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type of gov’t had ________been attempted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Picture 2" descr="http://www.yorktownsquare.com/img/artX00162_9.jpeg"/>
          <p:cNvPicPr/>
          <p:nvPr/>
        </p:nvPicPr>
        <p:blipFill>
          <a:blip r:embed="rId2"/>
          <a:srcRect l="4689" t="4898" r="4689" b="9483"/>
          <a:stretch/>
        </p:blipFill>
        <p:spPr>
          <a:xfrm>
            <a:off x="4419720" y="2057400"/>
            <a:ext cx="4419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33:46Z</dcterms:created>
  <dc:creator>IT Clone User</dc:creator>
  <dc:description/>
  <dc:language>en-US</dc:language>
  <cp:lastModifiedBy>IT Clone User</cp:lastModifiedBy>
  <dcterms:modified xsi:type="dcterms:W3CDTF">2010-02-18T16:33:50Z</dcterms:modified>
  <cp:revision>17</cp:revision>
  <dc:subject/>
  <dc:title>From Confederation to Constitution</dc:title>
</cp:coreProperties>
</file>