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BD4-DFCE-4268-ACDA-7F69E527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773-7B27-4CD1-B60A-78D023C3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2483-858E-4A5F-A94E-50ACB02F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A21-E6E2-4614-A29C-B76DC6BFA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FC9F7-AFE9-43F5-9E3F-AB33C951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A8829-73F8-461B-87C6-DEAE3C10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F0422-2B1F-4B6E-9569-06CF5267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32BDD-1432-400F-833B-2C3D1E7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C4F00-3AEB-42B7-8A35-34207C0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18E16-1529-4C69-B91C-7B3EC5A6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AF189-E925-44F4-9A9F-A3BF35E0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E26-D66E-41A1-A9C3-A8317C92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F5834-D57B-4753-A080-C4D31B86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A852-3AB6-4782-AFA6-84DA8A49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289D3-BD9E-4A2D-A960-CFAFEC399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0B354-FA4B-4DC8-809B-D7259188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6FFB5-95D2-43FB-A661-CBD5DB942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582A0-5489-4FB2-BF30-D25A869D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EEA20-1F83-4396-8690-A46386BB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1F008-DCE6-4264-8141-5B63A837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0859E-B446-4BDC-BAA9-D50808FB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F4839-6A9B-46BD-8CCF-C9FF2546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3DA-7A86-492E-9D95-92B01775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DA4A5-247D-4435-926F-3DB392CD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042A-1ACC-4FCE-8227-6671BE7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EFB9-68F4-4D5C-ADB4-B54D5E7F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D7A1-FEE9-46D2-85C3-7C76511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0C69-8960-4BB8-82F6-EE65AF60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C35F-A830-492D-8FD1-8FC55770B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C8986-56FB-4A32-B46E-1013A8CD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48221-67A8-43BF-AE75-808A3E7B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E33A4-BB35-42A2-89EB-1BD5DADF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51371-5862-4E63-8042-9CC952DF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9B37-232C-4D5E-9B96-E7A1CE46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B5FA7-37A8-45AF-BFD2-F65F766E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3AF67-DD1E-4FF2-8B80-B2369D78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015E6C-12EF-4E1A-9553-4280A276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5C33D-5E90-4B0B-AE94-4FD1F99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D8E9F2-2C6F-4C7C-9531-9BB5DD3E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CEFE4-7A97-4D24-9C5B-741DC150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17F50D-2051-454D-AB38-78904D09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1EAD87-9FBC-46A2-B976-860442C0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3508E-0378-4CF8-9042-6A090EDB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541A2-CB39-43E3-9BFF-9454B29D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6CE-5AAF-4AF5-82E1-AB40D410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524337-E2D9-4D04-AC87-A98DE63A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5287B-6A20-4B80-9019-5DEBABE1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8BDAA8-038C-4B55-9E50-6EB4A73B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099600-344C-4582-97E2-581B9B44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7BB54-BD56-4EF4-88F0-B5C68BE3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0943E-61BA-41C3-8D1B-5A11EB35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FBEAC-B1FD-4716-8EE9-A32482C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D96BA2-391F-44DD-BDF8-4EED0F9C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E052A2-2F4A-48C2-9374-D6EF99A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2A391B-3876-42B4-AD77-1E6E946F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79-64F0-431D-B01A-5F7C722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E64223-2489-4C27-ACE3-1D71A827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D00DE-516B-47AA-A81E-5260D494E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78564C-90E2-4BFF-80CE-EB0F13AC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37DCE-9266-4D50-AF89-FACFDDEA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40681-85CB-4E05-88CF-90C81F21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F3129E-3335-491F-B132-EDFE3A70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EB0261-5EAB-46FF-B071-B97F09E3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B2AFE8-C1B6-44F9-9722-F212B373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0EB4E0-AAFE-41F4-A7EE-C44BBE77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AB73B-CA29-4594-A1D6-E125374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766-32BE-4B96-A297-82F19C71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66C6B-B9A1-4FF7-9608-2E916A38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206DE2-55BB-4ECB-AD5A-FEE2109D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FFB3E-1675-47D8-9B7E-93E7C25D3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01C-C148-4C26-9EA6-6B1C0B2C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BD4-B462-402B-8B4C-949C940C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95F2-649B-43BE-B7BE-FE0C39EADEA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8A68-C7FD-40C7-B17F-C8D4FAC3829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1A38-CC1C-4BE8-AD7D-A411F7CDE4F8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7F60-0A16-4E10-98AD-5A6A53F9FFAE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7278-0C7C-4961-A60E-BF44A05F29EB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A138-31BD-49D6-B605-023C4B8A3897}" type="slidenum">
              <a:rPr b="0" lang="en-US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-237960" y="-615960"/>
            <a:ext cx="9388440" cy="1487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151920" y="1066320"/>
            <a:ext cx="4419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With the person sitting next to you it is your job to determine the following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at’s federal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at’s a constituency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Which diagram on the right represent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Feder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Confederation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nitary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5181480" y="609480"/>
            <a:ext cx="1143000" cy="11430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6172200" y="45720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Oval 6"/>
          <p:cNvSpPr/>
          <p:nvPr/>
        </p:nvSpPr>
        <p:spPr>
          <a:xfrm>
            <a:off x="4952880" y="152388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Oval 7"/>
          <p:cNvSpPr/>
          <p:nvPr/>
        </p:nvSpPr>
        <p:spPr>
          <a:xfrm>
            <a:off x="4800600" y="60948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6019920" y="1523880"/>
            <a:ext cx="457200" cy="4572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238880" y="259092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5334120" y="5105520"/>
            <a:ext cx="533160" cy="60948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6858000" y="205740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781680" y="304812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7696080" y="304812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7696080" y="2057400"/>
            <a:ext cx="762120" cy="6858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715000" y="4495680"/>
            <a:ext cx="91440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4572000" y="4419720"/>
            <a:ext cx="106668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562720" y="5486400"/>
            <a:ext cx="91440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Oval 18"/>
          <p:cNvSpPr/>
          <p:nvPr/>
        </p:nvSpPr>
        <p:spPr>
          <a:xfrm>
            <a:off x="4572000" y="5410080"/>
            <a:ext cx="914400" cy="914400"/>
          </a:xfrm>
          <a:prstGeom prst="ellipse">
            <a:avLst/>
          </a:prstGeom>
          <a:solidFill>
            <a:srgbClr val="a5b592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Creating an American governm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Title 1" descr=""/>
          <p:cNvPicPr/>
          <p:nvPr/>
        </p:nvPicPr>
        <p:blipFill>
          <a:blip r:embed="rId1"/>
          <a:stretch/>
        </p:blipFill>
        <p:spPr>
          <a:xfrm>
            <a:off x="219240" y="-390600"/>
            <a:ext cx="8474040" cy="1238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228240" y="685800"/>
            <a:ext cx="4287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ovement began in ________ encourages ppl to _________the status qu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Question__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Question ____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John Locke, __________, is very popular in _________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Job of gov’t is to protect natural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1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2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994680" indent="-2260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3)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Uphold Social Contract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3240" indent="-2700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3" name="Picture 4" descr="http://faculty.frostburg.edu/mbradley/psyography/John_Locke.jpg"/>
          <p:cNvPicPr/>
          <p:nvPr/>
        </p:nvPicPr>
        <p:blipFill>
          <a:blip r:embed="rId2"/>
          <a:stretch/>
        </p:blipFill>
        <p:spPr>
          <a:xfrm>
            <a:off x="4876920" y="1219320"/>
            <a:ext cx="35812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219240" y="-390600"/>
            <a:ext cx="8474040" cy="12384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28240" y="685800"/>
            <a:ext cx="4287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ates knew they wanted ________of powe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hree branches of 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Term limits for_________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Elected officials held more: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ir new gov’t was called a ___________; that is a government ruled by the ‘consent of the ________’ and w/o a _______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s type of gov’t had ________been attempted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07680" indent="-2592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6" name="Picture 2" descr="http://www.yorktownsquare.com/img/artX00162_9.jpeg"/>
          <p:cNvPicPr/>
          <p:nvPr/>
        </p:nvPicPr>
        <p:blipFill>
          <a:blip r:embed="rId2"/>
          <a:srcRect l="4689" t="4898" r="4689" b="9483"/>
          <a:stretch/>
        </p:blipFill>
        <p:spPr>
          <a:xfrm>
            <a:off x="4419720" y="2057400"/>
            <a:ext cx="44193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2:33:46Z</dcterms:created>
  <dc:creator>IT Clone User</dc:creator>
  <dc:description/>
  <dc:language>en-US</dc:language>
  <cp:lastModifiedBy>IT Clone User</cp:lastModifiedBy>
  <dcterms:modified xsi:type="dcterms:W3CDTF">2010-02-18T16:33:50Z</dcterms:modified>
  <cp:revision>17</cp:revision>
  <dc:subject/>
  <dc:title>From Confederation to Constitution</dc:title>
</cp:coreProperties>
</file>