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F047-B4C5-4D87-A03B-E78AC05BED4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7A162-03B6-4E86-8FA7-003138F3FEC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F9AB-83D2-4F7D-8C1D-924F2BEF5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0408-28A3-43CE-B62A-B9C262E1A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DC91-F3E7-4959-BFD9-205DE01DD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9205-BE72-4DE5-B7E8-79C8AB376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C511-5CD0-46D0-96CB-FE18AC9C6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287C-7AEE-446F-ADBE-3B3E44365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ECA6-EC56-4068-997C-2B7432D0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B6F5-0F5B-4278-A9A9-54AAF1134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D648-316A-4428-B80F-31CB1A178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6D4F-3527-4962-8241-4D1B6869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F012-845B-4566-828C-F80D9D51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9339-8B7F-4761-B046-7B4BA641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FF1B4-969B-4C6F-A44B-F95A5982BA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ournal 1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838080" y="1828800"/>
            <a:ext cx="7620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ith the person sitting next to you, discuss the culture of the Romans, (think about gov’t, art, education, what they thought of others and how the treated them…)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ne Continent, Under Go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edieval Chu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1828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urch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Isosceles Triangle 3"/>
          <p:cNvSpPr/>
          <p:nvPr/>
        </p:nvSpPr>
        <p:spPr>
          <a:xfrm>
            <a:off x="0" y="838080"/>
            <a:ext cx="9144000" cy="60199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" name="Rectangle 4" descr=""/>
          <p:cNvPicPr/>
          <p:nvPr/>
        </p:nvPicPr>
        <p:blipFill>
          <a:blip r:embed="rId1"/>
          <a:stretch/>
        </p:blipFill>
        <p:spPr>
          <a:xfrm>
            <a:off x="4784760" y="-268200"/>
            <a:ext cx="3768840" cy="1596960"/>
          </a:xfrm>
          <a:prstGeom prst="rect">
            <a:avLst/>
          </a:prstGeom>
          <a:ln w="0">
            <a:noFill/>
          </a:ln>
        </p:spPr>
      </p:pic>
      <p:pic>
        <p:nvPicPr>
          <p:cNvPr id="81" name="Rectangle 5" descr=""/>
          <p:cNvPicPr/>
          <p:nvPr/>
        </p:nvPicPr>
        <p:blipFill>
          <a:blip r:embed="rId2"/>
          <a:stretch/>
        </p:blipFill>
        <p:spPr>
          <a:xfrm>
            <a:off x="3054240" y="1085760"/>
            <a:ext cx="3237120" cy="2022480"/>
          </a:xfrm>
          <a:prstGeom prst="rect">
            <a:avLst/>
          </a:prstGeom>
          <a:ln w="0">
            <a:noFill/>
          </a:ln>
        </p:spPr>
      </p:pic>
      <p:pic>
        <p:nvPicPr>
          <p:cNvPr id="82" name="Rectangle 6" descr=""/>
          <p:cNvPicPr/>
          <p:nvPr/>
        </p:nvPicPr>
        <p:blipFill>
          <a:blip r:embed="rId3"/>
          <a:stretch/>
        </p:blipFill>
        <p:spPr>
          <a:xfrm>
            <a:off x="2401920" y="2998800"/>
            <a:ext cx="4395600" cy="920880"/>
          </a:xfrm>
          <a:prstGeom prst="rect">
            <a:avLst/>
          </a:prstGeom>
          <a:ln w="0">
            <a:noFill/>
          </a:ln>
        </p:spPr>
      </p:pic>
      <p:pic>
        <p:nvPicPr>
          <p:cNvPr id="83" name="Rectangle 7" descr=""/>
          <p:cNvPicPr/>
          <p:nvPr/>
        </p:nvPicPr>
        <p:blipFill>
          <a:blip r:embed="rId4"/>
          <a:stretch/>
        </p:blipFill>
        <p:spPr>
          <a:xfrm>
            <a:off x="1822320" y="4816440"/>
            <a:ext cx="5426280" cy="2432160"/>
          </a:xfrm>
          <a:prstGeom prst="rect">
            <a:avLst/>
          </a:prstGeom>
          <a:ln w="0">
            <a:noFill/>
          </a:ln>
        </p:spPr>
      </p:pic>
      <p:sp>
        <p:nvSpPr>
          <p:cNvPr id="84" name="Straight Connector 9"/>
          <p:cNvSpPr/>
          <p:nvPr/>
        </p:nvSpPr>
        <p:spPr>
          <a:xfrm>
            <a:off x="3352680" y="2438280"/>
            <a:ext cx="2514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Straight Connector 10"/>
          <p:cNvSpPr/>
          <p:nvPr/>
        </p:nvSpPr>
        <p:spPr>
          <a:xfrm>
            <a:off x="3048120" y="2817720"/>
            <a:ext cx="3124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Straight Connector 13"/>
          <p:cNvSpPr/>
          <p:nvPr/>
        </p:nvSpPr>
        <p:spPr>
          <a:xfrm>
            <a:off x="2743200" y="3198960"/>
            <a:ext cx="3657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Straight Connector 15"/>
          <p:cNvSpPr/>
          <p:nvPr/>
        </p:nvSpPr>
        <p:spPr>
          <a:xfrm>
            <a:off x="1905120" y="4114800"/>
            <a:ext cx="5257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Straight Connector 17"/>
          <p:cNvSpPr/>
          <p:nvPr/>
        </p:nvSpPr>
        <p:spPr>
          <a:xfrm>
            <a:off x="1600200" y="4572000"/>
            <a:ext cx="5867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urch’s Po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-360" y="1066320"/>
            <a:ext cx="47242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pe had </a:t>
            </a:r>
            <a:r>
              <a:rPr b="1" i="1" lang="en-US" sz="3200" spc="-1" strike="noStrike">
                <a:solidFill>
                  <a:srgbClr val="00b0f0"/>
                </a:solidFill>
                <a:latin typeface="Times New Roman"/>
              </a:rPr>
              <a:t>Papal Supremacy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an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urch had its 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3)Punish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b0f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b0f0"/>
                </a:solidFill>
                <a:latin typeface="Times New Roman"/>
              </a:rPr>
              <a:t>Excommunicati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other severe punishment w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defiant Lor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2" descr="http://www.abergavenny.org.uk/images/stteiloslc1.jpg"/>
          <p:cNvPicPr/>
          <p:nvPr/>
        </p:nvPicPr>
        <p:blipFill>
          <a:blip r:embed="rId1"/>
          <a:stretch/>
        </p:blipFill>
        <p:spPr>
          <a:xfrm>
            <a:off x="4265640" y="914400"/>
            <a:ext cx="45734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rruption and Prejudi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0" y="914400"/>
            <a:ext cx="46483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on Popes ignore their vow of _______ and star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urch starts collectio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ndulgenc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fear as a tactic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things go wrong the church blames the 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: The Plag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2" descr="http://www.flatrock.org.nz/topics/history/assets/black_death.jpg"/>
          <p:cNvPicPr/>
          <p:nvPr/>
        </p:nvPicPr>
        <p:blipFill>
          <a:blip r:embed="rId1"/>
          <a:srcRect l="49771" t="0" r="15378" b="45077"/>
          <a:stretch/>
        </p:blipFill>
        <p:spPr>
          <a:xfrm>
            <a:off x="6114960" y="0"/>
            <a:ext cx="3029040" cy="3581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http://www.themiddleages.net/images/black_death.jpg"/>
          <p:cNvPicPr/>
          <p:nvPr/>
        </p:nvPicPr>
        <p:blipFill>
          <a:blip r:embed="rId2"/>
          <a:srcRect l="9604" t="0" r="29607" b="7744"/>
          <a:stretch/>
        </p:blipFill>
        <p:spPr>
          <a:xfrm>
            <a:off x="4800600" y="3225960"/>
            <a:ext cx="1981080" cy="36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46512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oman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ermanic Tribe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8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2222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222293"/>
                    </a:solidFill>
                  </a:tcPr>
                </a:tc>
              </a:tr>
            </a:tbl>
          </a:graphicData>
        </a:graphic>
      </p:graphicFrame>
      <p:sp>
        <p:nvSpPr>
          <p:cNvPr id="51" name="TextBox 3"/>
          <p:cNvSpPr/>
          <p:nvPr/>
        </p:nvSpPr>
        <p:spPr>
          <a:xfrm>
            <a:off x="0" y="48769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ll out the chart with the info. About Rome from last class and the info about Germanic Tribes on 215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rankly the Stronges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ranks: Rulers of the Western Roman Empi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CLOVI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0" y="1066680"/>
            <a:ext cx="5486400" cy="67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ylfaen"/>
              </a:rPr>
              <a:t>A nomadic _____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ylfaen"/>
              </a:rPr>
              <a:t>Takes over _____ 10 years after the fall of_____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ylfae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AutoShape 7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AutoShape 9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AutoShape 11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AutoShape 12"/>
          <p:cNvSpPr/>
          <p:nvPr/>
        </p:nvSpPr>
        <p:spPr>
          <a:xfrm>
            <a:off x="2886120" y="1714680"/>
            <a:ext cx="33717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" name="Picture 14" descr="http://www.sbceo.k12.ca.us/~vms/carlton/clovisbw.jpg"/>
          <p:cNvPicPr/>
          <p:nvPr/>
        </p:nvPicPr>
        <p:blipFill>
          <a:blip r:embed="rId1"/>
          <a:stretch/>
        </p:blipFill>
        <p:spPr>
          <a:xfrm>
            <a:off x="5181480" y="1523880"/>
            <a:ext cx="3962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Charles Mart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0" y="990720"/>
            <a:ext cx="4572000" cy="68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ylfaen"/>
              </a:rPr>
              <a:t>Leaders after Clovis have problems w/: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ylfaen"/>
              </a:rPr>
              <a:t>Charles Martel comes to power and defeats:           in the Battle of Tour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2266920" y="1681200"/>
            <a:ext cx="9144000" cy="360"/>
          </a:xfrm>
          <a:prstGeom prst="rect">
            <a:avLst/>
          </a:prstGeom>
          <a:solidFill>
            <a:srgbClr val="fff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760" rIns="90000" tIns="-788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" name="Picture 6" descr="http://fixedreference.org/2006-Wikipedia-CD-Selection/images/59/5937.jpg"/>
          <p:cNvPicPr/>
          <p:nvPr/>
        </p:nvPicPr>
        <p:blipFill>
          <a:blip r:embed="rId1"/>
          <a:stretch/>
        </p:blipFill>
        <p:spPr>
          <a:xfrm>
            <a:off x="4343400" y="2073240"/>
            <a:ext cx="480060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Charlemag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0" y="685440"/>
            <a:ext cx="44956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ans Charles the 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pe of ______ Roman Empire ask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Pope Leo III’s enemies are defeated Char.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ults of this 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risindo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estions about the Pope’s pow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peror of ERE is T.O.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3" descr="http://france-for-visitors.com/images/large/charlemagne-stained-glass.jpg"/>
          <p:cNvPicPr/>
          <p:nvPr/>
        </p:nvPicPr>
        <p:blipFill>
          <a:blip r:embed="rId1"/>
          <a:stretch/>
        </p:blipFill>
        <p:spPr>
          <a:xfrm>
            <a:off x="5113440" y="990720"/>
            <a:ext cx="357336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http://www.bonjourlafrance.net/france-facts/france-history/images/charlemagne-crowned-800-pope-leo-3.jpg"/>
          <p:cNvPicPr/>
          <p:nvPr/>
        </p:nvPicPr>
        <p:blipFill>
          <a:blip r:embed="rId1"/>
          <a:stretch/>
        </p:blipFill>
        <p:spPr>
          <a:xfrm>
            <a:off x="5105520" y="2133720"/>
            <a:ext cx="3666960" cy="3752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Unifying the Empi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0" y="685440"/>
            <a:ext cx="44956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preading 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Missi Dominici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llow him to listen to the ppl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duca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ilt 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pt good 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vival of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2" descr="http://www.warrennet.org/wtsd/medieval/frankish_map.gif"/>
          <p:cNvPicPr/>
          <p:nvPr/>
        </p:nvPicPr>
        <p:blipFill>
          <a:blip r:embed="rId2"/>
          <a:stretch/>
        </p:blipFill>
        <p:spPr>
          <a:xfrm>
            <a:off x="457200" y="625320"/>
            <a:ext cx="8001000" cy="623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rd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nor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night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assal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ef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ith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asant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rf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do we explain the worl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nk of something you know about the world beyond a shadow of a doubt and write it dow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 you know it to be so? Is there proof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ople in the Middle Ages felt this way about EVERYTHING the church sai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8T14:59:42Z</dcterms:created>
  <dc:creator>TPS</dc:creator>
  <dc:description/>
  <dc:language>en-US</dc:language>
  <cp:lastModifiedBy>TPS</cp:lastModifiedBy>
  <dcterms:modified xsi:type="dcterms:W3CDTF">2008-11-13T18:01:17Z</dcterms:modified>
  <cp:revision>91</cp:revision>
  <dc:subject/>
  <dc:title>CLOVIS</dc:title>
</cp:coreProperties>
</file>