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5EC3-DA4F-4203-A9E6-A6F547F5D5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CF2B-94EE-4C4C-B484-F1F71DEB9A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C2AE-211A-4175-9EBD-D8D3AAA3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643-68A8-46AC-B8FE-46C1D704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145F-F59A-41E2-9B10-AC0C68536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AD6E-11FD-4DE6-95EE-5387E666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B12D-5E5A-4001-8FB3-952A7A43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39FB-8B95-44AB-BAD4-EB98EEDF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29F-EBA2-4034-9DCC-182C21A4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DE3-2887-419E-8E20-9571F678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D69-00FA-46F3-9AE2-8688DC61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962-1B99-4B41-8468-092AD0B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0D4-0676-4BD4-8A32-7A622D6F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CB74-2F05-41AC-BFC6-E0C219F4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C557-BB8F-47E1-8608-6B563E476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1/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838080" y="1828800"/>
            <a:ext cx="7620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ith the person sitting next to you, discuss the culture of the Romans, (think about gov’t, art, education, what they thought of others and how the treated them…)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e Continent, Under Go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dieval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828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urch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sosceles Triangle 3"/>
          <p:cNvSpPr/>
          <p:nvPr/>
        </p:nvSpPr>
        <p:spPr>
          <a:xfrm>
            <a:off x="0" y="838080"/>
            <a:ext cx="9144000" cy="6019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" name="Rectangle 4" descr=""/>
          <p:cNvPicPr/>
          <p:nvPr/>
        </p:nvPicPr>
        <p:blipFill>
          <a:blip r:embed="rId1"/>
          <a:stretch/>
        </p:blipFill>
        <p:spPr>
          <a:xfrm>
            <a:off x="4784760" y="-268200"/>
            <a:ext cx="3768840" cy="1596960"/>
          </a:xfrm>
          <a:prstGeom prst="rect">
            <a:avLst/>
          </a:prstGeom>
          <a:ln w="0">
            <a:noFill/>
          </a:ln>
        </p:spPr>
      </p:pic>
      <p:pic>
        <p:nvPicPr>
          <p:cNvPr id="81" name="Rectangle 5" descr=""/>
          <p:cNvPicPr/>
          <p:nvPr/>
        </p:nvPicPr>
        <p:blipFill>
          <a:blip r:embed="rId2"/>
          <a:stretch/>
        </p:blipFill>
        <p:spPr>
          <a:xfrm>
            <a:off x="3054240" y="1085760"/>
            <a:ext cx="3237120" cy="2022480"/>
          </a:xfrm>
          <a:prstGeom prst="rect">
            <a:avLst/>
          </a:prstGeom>
          <a:ln w="0">
            <a:noFill/>
          </a:ln>
        </p:spPr>
      </p:pic>
      <p:pic>
        <p:nvPicPr>
          <p:cNvPr id="82" name="Rectangle 6" descr=""/>
          <p:cNvPicPr/>
          <p:nvPr/>
        </p:nvPicPr>
        <p:blipFill>
          <a:blip r:embed="rId3"/>
          <a:stretch/>
        </p:blipFill>
        <p:spPr>
          <a:xfrm>
            <a:off x="2401920" y="2998800"/>
            <a:ext cx="4395600" cy="920880"/>
          </a:xfrm>
          <a:prstGeom prst="rect">
            <a:avLst/>
          </a:prstGeom>
          <a:ln w="0">
            <a:noFill/>
          </a:ln>
        </p:spPr>
      </p:pic>
      <p:pic>
        <p:nvPicPr>
          <p:cNvPr id="83" name="Rectangle 7" descr=""/>
          <p:cNvPicPr/>
          <p:nvPr/>
        </p:nvPicPr>
        <p:blipFill>
          <a:blip r:embed="rId4"/>
          <a:stretch/>
        </p:blipFill>
        <p:spPr>
          <a:xfrm>
            <a:off x="1822320" y="4816440"/>
            <a:ext cx="5426280" cy="2432160"/>
          </a:xfrm>
          <a:prstGeom prst="rect">
            <a:avLst/>
          </a:prstGeom>
          <a:ln w="0">
            <a:noFill/>
          </a:ln>
        </p:spPr>
      </p:pic>
      <p:sp>
        <p:nvSpPr>
          <p:cNvPr id="84" name="Straight Connector 9"/>
          <p:cNvSpPr/>
          <p:nvPr/>
        </p:nvSpPr>
        <p:spPr>
          <a:xfrm>
            <a:off x="3352680" y="2438280"/>
            <a:ext cx="251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Straight Connector 10"/>
          <p:cNvSpPr/>
          <p:nvPr/>
        </p:nvSpPr>
        <p:spPr>
          <a:xfrm>
            <a:off x="3048120" y="2817720"/>
            <a:ext cx="3124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Straight Connector 13"/>
          <p:cNvSpPr/>
          <p:nvPr/>
        </p:nvSpPr>
        <p:spPr>
          <a:xfrm>
            <a:off x="2743200" y="319896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Straight Connector 15"/>
          <p:cNvSpPr/>
          <p:nvPr/>
        </p:nvSpPr>
        <p:spPr>
          <a:xfrm>
            <a:off x="1905120" y="4114800"/>
            <a:ext cx="525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Straight Connector 17"/>
          <p:cNvSpPr/>
          <p:nvPr/>
        </p:nvSpPr>
        <p:spPr>
          <a:xfrm>
            <a:off x="1600200" y="4572000"/>
            <a:ext cx="58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urch’s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e had </a:t>
            </a:r>
            <a:r>
              <a:rPr b="1" i="1" lang="en-US" sz="3200" spc="-1" strike="noStrike">
                <a:solidFill>
                  <a:srgbClr val="00b0f0"/>
                </a:solidFill>
                <a:latin typeface="Times New Roman"/>
              </a:rPr>
              <a:t>Papal Supremac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ch had its 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Punis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</a:rPr>
              <a:t>Excommunic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severe punishment 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efiant Lo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http://www.abergavenny.org.uk/images/stteiloslc1.jpg"/>
          <p:cNvPicPr/>
          <p:nvPr/>
        </p:nvPicPr>
        <p:blipFill>
          <a:blip r:embed="rId1"/>
          <a:stretch/>
        </p:blipFill>
        <p:spPr>
          <a:xfrm>
            <a:off x="4265640" y="914400"/>
            <a:ext cx="4573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ruption and Prejudi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on Popes ignore their vow of _______ and st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ch starts collec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dulgen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ear as a tactic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ings go wrong the church blames the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 The Pl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http://www.flatrock.org.nz/topics/history/assets/black_death.jpg"/>
          <p:cNvPicPr/>
          <p:nvPr/>
        </p:nvPicPr>
        <p:blipFill>
          <a:blip r:embed="rId1"/>
          <a:srcRect l="49771" t="0" r="15378" b="45077"/>
          <a:stretch/>
        </p:blipFill>
        <p:spPr>
          <a:xfrm>
            <a:off x="6114960" y="0"/>
            <a:ext cx="3029040" cy="358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ttp://www.themiddleages.net/images/black_death.jpg"/>
          <p:cNvPicPr/>
          <p:nvPr/>
        </p:nvPicPr>
        <p:blipFill>
          <a:blip r:embed="rId2"/>
          <a:srcRect l="9604" t="0" r="29607" b="7744"/>
          <a:stretch/>
        </p:blipFill>
        <p:spPr>
          <a:xfrm>
            <a:off x="4800600" y="3225960"/>
            <a:ext cx="19810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46512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ma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ermanic Trib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8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2229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222293"/>
                    </a:solidFill>
                  </a:tcPr>
                </a:tc>
              </a:tr>
            </a:tbl>
          </a:graphicData>
        </a:graphic>
      </p:graphicFrame>
      <p:sp>
        <p:nvSpPr>
          <p:cNvPr id="51" name="TextBox 3"/>
          <p:cNvSpPr/>
          <p:nvPr/>
        </p:nvSpPr>
        <p:spPr>
          <a:xfrm>
            <a:off x="0" y="4876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ll out the chart with the info. About Rome from last class and the info about Germanic Tribes on 215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rankly the Strong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ranks: Rulers of the Western Roman Empi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Verdana"/>
              </a:rPr>
              <a:t>CLOV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1066680"/>
            <a:ext cx="5486400" cy="67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A nomadic _____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Takes over _____ 10 years after the fall of_____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2886120" y="1714680"/>
            <a:ext cx="3371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14" descr="http://www.sbceo.k12.ca.us/~vms/carlton/clovisbw.jpg"/>
          <p:cNvPicPr/>
          <p:nvPr/>
        </p:nvPicPr>
        <p:blipFill>
          <a:blip r:embed="rId1"/>
          <a:stretch/>
        </p:blipFill>
        <p:spPr>
          <a:xfrm>
            <a:off x="5181480" y="1523880"/>
            <a:ext cx="3962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arles Mart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0" y="990720"/>
            <a:ext cx="4572000" cy="68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Leaders after Clovis have problems w/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ylfaen"/>
              </a:rPr>
              <a:t>Charles Martel comes to power and defeats:           in the Battle of Tou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2266920" y="1681200"/>
            <a:ext cx="9144000" cy="360"/>
          </a:xfrm>
          <a:prstGeom prst="rect">
            <a:avLst/>
          </a:prstGeom>
          <a:solidFill>
            <a:srgbClr val="ffff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8760" rIns="90000" tIns="-788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Picture 6" descr="http://fixedreference.org/2006-Wikipedia-CD-Selection/images/59/5937.jpg"/>
          <p:cNvPicPr/>
          <p:nvPr/>
        </p:nvPicPr>
        <p:blipFill>
          <a:blip r:embed="rId1"/>
          <a:stretch/>
        </p:blipFill>
        <p:spPr>
          <a:xfrm>
            <a:off x="4343400" y="2073240"/>
            <a:ext cx="48006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Charlemag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s Charles the 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e of ______ Roman Empire as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Pope Leo III’s enemies are defeated Char.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s of this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risind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estions about the Pope’s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peror of ERE is T.O.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http://france-for-visitors.com/images/large/charlemagne-stained-glass.jpg"/>
          <p:cNvPicPr/>
          <p:nvPr/>
        </p:nvPicPr>
        <p:blipFill>
          <a:blip r:embed="rId1"/>
          <a:stretch/>
        </p:blipFill>
        <p:spPr>
          <a:xfrm>
            <a:off x="5113440" y="990720"/>
            <a:ext cx="35733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www.bonjourlafrance.net/france-facts/france-history/images/charlemagne-crowned-800-pope-leo-3.jpg"/>
          <p:cNvPicPr/>
          <p:nvPr/>
        </p:nvPicPr>
        <p:blipFill>
          <a:blip r:embed="rId1"/>
          <a:stretch/>
        </p:blipFill>
        <p:spPr>
          <a:xfrm>
            <a:off x="5105520" y="2133720"/>
            <a:ext cx="3666960" cy="3752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Unifying the Empi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reading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Missi Dominici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low him to listen to the ppl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duca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pt good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val of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http://www.warrennet.org/wtsd/medieval/frankish_map.gif"/>
          <p:cNvPicPr/>
          <p:nvPr/>
        </p:nvPicPr>
        <p:blipFill>
          <a:blip r:embed="rId2"/>
          <a:stretch/>
        </p:blipFill>
        <p:spPr>
          <a:xfrm>
            <a:off x="457200" y="625320"/>
            <a:ext cx="800100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nor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nigh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assa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ef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th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asant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erf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we explain the wor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something you know about the world beyond a shadow of a doubt and write it dow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now it to be so? Is there pro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in the Middle Ages felt this way about EVERYTHING the church sai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4:59:42Z</dcterms:created>
  <dc:creator>TPS</dc:creator>
  <dc:description/>
  <dc:language>en-US</dc:language>
  <cp:lastModifiedBy>TPS</cp:lastModifiedBy>
  <dcterms:modified xsi:type="dcterms:W3CDTF">2008-11-13T18:01:17Z</dcterms:modified>
  <cp:revision>91</cp:revision>
  <dc:subject/>
  <dc:title>CLOVIS</dc:title>
</cp:coreProperties>
</file>