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1126-E7A0-45D3-8C5E-ADBEB19315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BB63-C4CA-4CC3-B4D1-EBF10888B2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ngland, the Navigation Acts increased revenue but also increased the cost of law enforcement in Amer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lonists they felt like they were loosing control and freedom, some colonists ignored the laws, others turned to smugg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rates often made extra money running rum to heavily taxed colon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mage did Benjamin Franklin use to represent the colon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loga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you think Benjamin Franklin use this political cartoon, instead of just writing a pamphlet like Thomas Paine’s </a:t>
            </a:r>
            <a:r>
              <a:rPr b="0" i="1" lang="en-US" sz="1200" spc="-1" strike="noStrike">
                <a:solidFill>
                  <a:srgbClr val="000000"/>
                </a:solidFill>
                <a:latin typeface="Arial"/>
              </a:rPr>
              <a:t>Common Sense?</a:t>
            </a: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9526B-FAB1-4E53-942B-15DA1ECBFF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FA07D-ADF7-45D2-8AC6-357897AFDD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was fought between Britain and Fr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France and England teamed up with Native American allies in hopes of controlling North Americ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uch alliance was the Iroquois League, which consisted of 5 different trib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clash with the Britain over fur trade, since the area the French settled was good for fur tr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7A4B9-5F23-42EF-B3D4-852204E273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 Edward Braddock commanded British forces, with George Washington as his chief aide – eventually Washington takes over, because Braddock is killed when the French take Fort Duquesne in 17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iam Pitt (British Secretary of State) force colonists to join army, steal supplies and allow soldier’s in their ho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e Americans desert French allies in 1758 and the war starts to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bec (the first French Settlement in North America) was attacked, which marks the turning point in the war, within the year, the war end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2FF9-3DF7-4A91-B43A-9E1AC40B515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nch and Indian war was a complete victory for England.  For the colonists, the removal of a French threat secured the colonies and actually helped to bring about the  American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y of Paris ended the Seven’s Year war in Europe and the French and Indian War in North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s an empire and Spain gains the Louisiana terri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o purchased the Louisiana territory from Spai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953C-9FB7-4583-AA14-1861858341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works, shipbuilding, and farmers  profited by war – </a:t>
            </a:r>
            <a:r>
              <a:rPr b="1" lang="en-US" sz="1200" spc="-1" strike="noStrike">
                <a:solidFill>
                  <a:srgbClr val="000000"/>
                </a:solidFill>
                <a:latin typeface="Arial"/>
              </a:rPr>
              <a:t>Why? (because these industries supplied the ar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ed Florida, which was especially good for the Carolinas and Georgia, because slaves no longer had a safe ha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nies started to unite and became more aware of self-confidence and self-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in gained an empire, but at great costs – which caused later conflicts because Britain thought colonists should pay for the war deb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B722-6823-4ED5-B319-228D4E8C9D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Proclamation of 1763 was to slow western settlement, which appealed to Britain, because they could control the expansion – they do not want the colonists to gain to much territory, because that could threaten Britain’s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dians were weakened by the Proclamation of 1763 and they lost land and would continue to loose the land as the colonists push toward the we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4FE5-FE9E-4FD8-B443-C565AF0551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nlightenment was a movement in search for knowledge. The Enlightenment also hoped to improve society, law, and government by using logic and reason --- which is why the movement is also known as the Age of Reas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hn Locke was an English philosopher that believed the duty of the government was to protect citizens’ natural rights, which were Life, Liberty, and Prop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o do you think was influenced by Locke and what did he write? (Jefferson– the Declaration of Independe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 also proposed the idea of social contract which is that if a government did not protect citizens and their rights, then the people could overthrow the governmen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deas of Montesquieu and Rousseau emerged as well. Montesquieu believed that power should be divided to avoid dictatorship, which is a theory of? (Republican democra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usseau believed that a “true democracy” would require that several people share political pow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D9EE-3E40-4D33-AAC8-C72ACD59C8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James II took the throne and established the Dominican of New England, which was a super colony (New England, New York, and New Jersey) ---- get more informatio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os named governor of DONE and he treated colonists poorly and the colonists felt like their political rights were being ripped away, because they had no elected assembly or appointed council in the DONE.  He also imposed new taxes on land and imported wine, rum, and brandy – which hurt colonial trade because they traded rum to get slaves and traded slaves to get sugar and molasses to make the rum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which is called 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James II  goal was to divide and rule all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and, King James II was not popular and Parliament leaders named Mary and William co-rulers of England.  Mary was the daughter of King James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329E2-81B8-40C9-8EF8-D9445A542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was a document that allowed Parliament to regulate monarchs’ powers and it was signed by William and Mary before they even got off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gave Parliament power: Protected freedom of speech for Parliament members and gave them the power to control taxes as well as regulate monarchs’ po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Bill of Rights was never extended to the colonies, however, it gave them ideas about their rights and self-rule and it was actually the first steps toward self-rule for the colon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106E-B189-4776-9A0C-343645962A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antilism is a an economic system of trading nations and it held that a nation’s power was directly related to its wealth and England wanted to make a profit so they taxed the colon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lance of trade helps England earn profit as wel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at is balance of trade? - </a:t>
            </a:r>
            <a:r>
              <a:rPr b="0" lang="en-US" sz="1000" spc="-1" strike="noStrike">
                <a:solidFill>
                  <a:srgbClr val="000000"/>
                </a:solidFill>
                <a:latin typeface="Arial"/>
              </a:rPr>
              <a:t>the relationship btw a country’s imports and exports, so a country with a favorable balance of trade makes money by exporting more products than it imports – so England had to prevent colonies from trading with other n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NUS QUESTION – What was the term used for the journey the enslaved Africans made across the Atlantic to the Indies (Middle Pass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angular trade is trade routes that linked the Americas, Europe, Africa, and the West Indies.  The colonists traded rum (iron, gunpowder, cloth, tools) for slaves in Africa and then traded the slaves with the West Indies for molasses and sugar to make ru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 would England want to interfere with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0677-FAD3-43FE-AE6E-8C0673F3E1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acts were a series of laws passed btw. 1651 and 1663 by Parliament to ensure that the colonies would remain profitable to 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oods coming from Europe or Africa to the colonies had to travel on British ships manned by a British Cr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the ships were required to travel through England first and were subject to various taxes imposed by British Government. Enumerated articles = sugar, tobacco, cotton and indigo, later paper – basically, anything Britain wanted it to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did England pass the Navigation 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other economies, like the Dutch (who dominated colonial trade) weaker and make more profit for themselv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4F7D4-0E87-4EBC-806C-227242C7C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47BA5-B8F3-4F3F-AA74-41707491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6CF44-709F-42FA-A22A-9375E20D7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B3FFA-F0BE-4E3F-BFB8-EC4A6E42C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6D28C1F-8FD0-4EE7-AA8A-33615F205E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67FA3A-97BF-4F2D-AF47-33C8DC9CC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8D319D5-912D-4209-8F58-5EDD3F0A6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C50F09-D1F4-4225-9461-F75EC2430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0C475F-AD32-4393-8C28-2132D809AF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D24137-0EF3-4857-BB06-D4E0E8CD8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F9C35B-CBC6-4AD4-9455-B88274946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12C3F-8FE5-4AB5-A398-AD2198848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FEF2FEB-98C8-428E-BFB8-104F4B8C7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4F2764-DB63-45D4-93BF-B83BB68AA4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07C0019-54C2-4296-B114-6D80113EF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542F954-D7C8-403E-9A2D-0A04F3B5C1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F776A7-F2F4-4749-A3DB-AF059FE0A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DBE96-EA52-4D10-9098-0943215D5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8CDEB-F6E5-4364-88BC-AC448E1C7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626F8-C729-4749-99B3-C53B87F19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B0A9-DD53-4C67-829C-6D16E1131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625A7-4226-4D85-A16E-CBDCE227F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918F8-7C72-4988-BBD5-5099EF673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A65E-A60E-4F4F-BA63-F54066255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DA933-D165-4874-B1BA-2027D54CA0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2BEAF-6198-49D1-9D38-2C9C5B279C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ckstein.seattleschools.org/elmiller/ss/triangular_trade/"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447920"/>
            <a:ext cx="8229600" cy="17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3e3ff"/>
                </a:solidFill>
                <a:latin typeface="Corbel"/>
              </a:rPr>
              <a:t>Colonial Life</a:t>
            </a:r>
            <a:endParaRPr b="0" lang="en-US" sz="7200" spc="-1" strike="noStrike">
              <a:solidFill>
                <a:srgbClr val="e3e3ff"/>
              </a:solidFill>
              <a:latin typeface="Arial"/>
            </a:endParaRPr>
          </a:p>
        </p:txBody>
      </p:sp>
      <p:sp>
        <p:nvSpPr>
          <p:cNvPr id="13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hapter 3</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Effects of Navigation Acts</a:t>
            </a:r>
            <a:endParaRPr b="0" lang="en-US" sz="4400" spc="-1" strike="noStrike">
              <a:solidFill>
                <a:srgbClr val="e3e3ff"/>
              </a:solidFill>
              <a:latin typeface="Arial"/>
            </a:endParaRPr>
          </a:p>
        </p:txBody>
      </p:sp>
      <p:sp>
        <p:nvSpPr>
          <p:cNvPr id="152" name="PlaceHolder 2"/>
          <p:cNvSpPr>
            <a:spLocks noGrp="1"/>
          </p:cNvSpPr>
          <p:nvPr>
            <p:ph/>
          </p:nvPr>
        </p:nvSpPr>
        <p:spPr>
          <a:xfrm>
            <a:off x="456840" y="1219320"/>
            <a:ext cx="4876920" cy="4876560"/>
          </a:xfrm>
          <a:prstGeom prst="rect">
            <a:avLst/>
          </a:prstGeom>
          <a:noFill/>
          <a:ln w="0">
            <a:noFill/>
          </a:ln>
        </p:spPr>
        <p:txBody>
          <a:bodyPr anchor="t">
            <a:normAutofit/>
          </a:bodyPr>
          <a:p>
            <a:pPr marL="343080" indent="-343080">
              <a:lnSpc>
                <a:spcPct val="100000"/>
              </a:lnSpc>
              <a:spcBef>
                <a:spcPts val="601"/>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r England</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 revenue</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 cost of law enforcement in the America’s</a:t>
            </a:r>
            <a:endParaRPr b="0" lang="en-US" sz="2400" spc="-1" strike="noStrike">
              <a:solidFill>
                <a:srgbClr val="ffffff"/>
              </a:solidFill>
              <a:latin typeface="Arial"/>
            </a:endParaRPr>
          </a:p>
          <a:p>
            <a:pPr marL="343080" indent="-343080">
              <a:lnSpc>
                <a:spcPct val="100000"/>
              </a:lnSpc>
              <a:spcBef>
                <a:spcPts val="601"/>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For Colonist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olonists were loosing ______ and _______</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Some colonists ignored the laws</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________ of goods increased</a:t>
            </a:r>
            <a:endParaRPr b="0" lang="en-US" sz="2400" spc="-1" strike="noStrike">
              <a:solidFill>
                <a:srgbClr val="ffffff"/>
              </a:solidFill>
              <a:latin typeface="Arial"/>
            </a:endParaRPr>
          </a:p>
        </p:txBody>
      </p:sp>
      <p:pic>
        <p:nvPicPr>
          <p:cNvPr id="153" name="Picture 3" descr="200px-Rumrunner_cargo.jpg"/>
          <p:cNvPicPr/>
          <p:nvPr/>
        </p:nvPicPr>
        <p:blipFill>
          <a:blip r:embed="rId1"/>
          <a:stretch/>
        </p:blipFill>
        <p:spPr>
          <a:xfrm>
            <a:off x="5181480" y="1523880"/>
            <a:ext cx="3564000" cy="279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In-class Activity / Homework</a:t>
            </a: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You’re a colonists in one of the Northern colonies. Make a flyer protesting the Navigation Acts.  On the back explain why you are protesting the Acts.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f you do not finish it in class, it is due at the beginning of next class    (15 poi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pic>
        <p:nvPicPr>
          <p:cNvPr id="157" name="Content Placeholder 3" descr="joinordie.jpg"/>
          <p:cNvPicPr/>
          <p:nvPr/>
        </p:nvPicPr>
        <p:blipFill>
          <a:blip r:embed="rId1"/>
          <a:stretch/>
        </p:blipFill>
        <p:spPr>
          <a:xfrm>
            <a:off x="1219320" y="1523880"/>
            <a:ext cx="6487920" cy="449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French and Indian War</a:t>
            </a:r>
            <a:endParaRPr b="0" lang="en-US" sz="4400" spc="-1" strike="noStrike">
              <a:solidFill>
                <a:srgbClr val="e3e3ff"/>
              </a:solidFill>
              <a:latin typeface="Arial"/>
            </a:endParaRPr>
          </a:p>
        </p:txBody>
      </p:sp>
      <p:sp>
        <p:nvSpPr>
          <p:cNvPr id="159" name="PlaceHolder 2"/>
          <p:cNvSpPr>
            <a:spLocks noGrp="1"/>
          </p:cNvSpPr>
          <p:nvPr>
            <p:ph/>
          </p:nvPr>
        </p:nvSpPr>
        <p:spPr>
          <a:xfrm>
            <a:off x="533520" y="1294920"/>
            <a:ext cx="3200400" cy="480060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754-1763</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 Europe:</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ght between ________ and ________</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roquois League:</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at starts the conflic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0" name="Picture 3" descr="french and indian.jpg"/>
          <p:cNvPicPr/>
          <p:nvPr/>
        </p:nvPicPr>
        <p:blipFill>
          <a:blip r:embed="rId1"/>
          <a:stretch/>
        </p:blipFill>
        <p:spPr>
          <a:xfrm>
            <a:off x="3962520" y="1295280"/>
            <a:ext cx="467352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French Start Strong</a:t>
            </a:r>
            <a:endParaRPr b="0" lang="en-US" sz="44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illiam Pitt force colonists:</a:t>
            </a:r>
            <a:endParaRPr b="0" lang="en-US" sz="32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1. _________</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2. _________</a:t>
            </a:r>
            <a:endParaRPr b="0" lang="en-US" sz="2800" spc="-1" strike="noStrike">
              <a:solidFill>
                <a:srgbClr val="ffffff"/>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3. _________ </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urning point:</a:t>
            </a:r>
            <a:endParaRPr b="0" lang="en-US" sz="3200" spc="-1" strike="noStrike">
              <a:solidFill>
                <a:srgbClr val="ffffff"/>
              </a:solidFill>
              <a:latin typeface="Arial"/>
            </a:endParaRPr>
          </a:p>
        </p:txBody>
      </p:sp>
      <p:pic>
        <p:nvPicPr>
          <p:cNvPr id="163" name="Picture 3" descr="william-pitt.jpg"/>
          <p:cNvPicPr/>
          <p:nvPr/>
        </p:nvPicPr>
        <p:blipFill>
          <a:blip r:embed="rId1"/>
          <a:stretch/>
        </p:blipFill>
        <p:spPr>
          <a:xfrm>
            <a:off x="5638680" y="2133720"/>
            <a:ext cx="2610000" cy="3222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Peace Treaty</a:t>
            </a:r>
            <a:r>
              <a:rPr b="0" lang="en-US" sz="4400" spc="-1" strike="noStrike">
                <a:solidFill>
                  <a:srgbClr val="e3e3ff"/>
                </a:solidFill>
                <a:latin typeface="Arial"/>
              </a:rPr>
              <a:t> </a:t>
            </a:r>
            <a:endParaRPr b="0" lang="en-US" sz="4400" spc="-1" strike="noStrike">
              <a:solidFill>
                <a:srgbClr val="e3e3ff"/>
              </a:solidFill>
              <a:latin typeface="Arial"/>
            </a:endParaRPr>
          </a:p>
        </p:txBody>
      </p:sp>
      <p:pic>
        <p:nvPicPr>
          <p:cNvPr id="165" name="Picture 3" descr="NorthAmerica1762-83.png"/>
          <p:cNvPicPr/>
          <p:nvPr/>
        </p:nvPicPr>
        <p:blipFill>
          <a:blip r:embed="rId1"/>
          <a:stretch/>
        </p:blipFill>
        <p:spPr>
          <a:xfrm>
            <a:off x="838080" y="380880"/>
            <a:ext cx="7497720" cy="5716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Effects of the War</a:t>
            </a:r>
            <a:endParaRPr b="0" lang="en-US" sz="4400" spc="-1" strike="noStrike">
              <a:solidFill>
                <a:srgbClr val="e3e3ff"/>
              </a:solidFill>
              <a:latin typeface="Arial"/>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olonists benefited</a:t>
            </a:r>
            <a:endParaRPr b="0" lang="en-US" sz="32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ronworks, shipbuilding, and farmers:</a:t>
            </a:r>
            <a:endParaRPr b="0" lang="en-US" sz="28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hange of control in Florida:</a:t>
            </a:r>
            <a:endParaRPr b="0" lang="en-US" sz="2800" spc="-1" strike="noStrike">
              <a:solidFill>
                <a:srgbClr val="ffffff"/>
              </a:solidFill>
              <a:latin typeface="Arial"/>
            </a:endParaRPr>
          </a:p>
          <a:p>
            <a:pPr lvl="1" marL="990720" indent="-533520">
              <a:lnSpc>
                <a:spcPct val="10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tarted to unite colonies:</a:t>
            </a:r>
            <a:endParaRPr b="0" lang="en-US" sz="2800" spc="-1" strike="noStrike">
              <a:solidFill>
                <a:srgbClr val="ffffff"/>
              </a:solidFill>
              <a:latin typeface="Arial"/>
            </a:endParaRPr>
          </a:p>
          <a:p>
            <a:pPr marL="609480" indent="-6094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ritain: </a:t>
            </a:r>
            <a:endParaRPr b="0" lang="en-US" sz="3200" spc="-1" strike="noStrike">
              <a:solidFill>
                <a:srgbClr val="ffffff"/>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he Proclamation of 1763</a:t>
            </a:r>
            <a:endParaRPr b="0" lang="en-US" sz="4400" spc="-1" strike="noStrike">
              <a:solidFill>
                <a:srgbClr val="e3e3ff"/>
              </a:solidFill>
              <a:latin typeface="Arial"/>
            </a:endParaRPr>
          </a:p>
        </p:txBody>
      </p:sp>
      <p:sp>
        <p:nvSpPr>
          <p:cNvPr id="169" name="PlaceHolder 2"/>
          <p:cNvSpPr>
            <a:spLocks noGrp="1"/>
          </p:cNvSpPr>
          <p:nvPr>
            <p:ph/>
          </p:nvPr>
        </p:nvSpPr>
        <p:spPr>
          <a:xfrm>
            <a:off x="457200" y="1600200"/>
            <a:ext cx="3200400" cy="449568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nd west of Appalachian Mountains:</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al: </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ffects on N.A:</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N.A. ________</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ost_____:</a:t>
            </a:r>
            <a:endParaRPr b="0" lang="en-US" sz="2800" spc="-1" strike="noStrike">
              <a:solidFill>
                <a:srgbClr val="ffffff"/>
              </a:solidFill>
              <a:latin typeface="Arial"/>
            </a:endParaRPr>
          </a:p>
        </p:txBody>
      </p:sp>
      <p:pic>
        <p:nvPicPr>
          <p:cNvPr id="170" name="Picture 3" descr="colony.gif"/>
          <p:cNvPicPr/>
          <p:nvPr/>
        </p:nvPicPr>
        <p:blipFill>
          <a:blip r:embed="rId1"/>
          <a:stretch/>
        </p:blipFill>
        <p:spPr>
          <a:xfrm>
            <a:off x="3200400" y="1219320"/>
            <a:ext cx="5591160" cy="516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Homework</a:t>
            </a:r>
            <a:endParaRPr b="0" lang="en-US" sz="4400" spc="-1" strike="noStrike">
              <a:solidFill>
                <a:srgbClr val="e3e3ff"/>
              </a:solidFill>
              <a:latin typeface="Arial"/>
            </a:endParaRPr>
          </a:p>
        </p:txBody>
      </p:sp>
      <p:sp>
        <p:nvSpPr>
          <p:cNvPr id="172" name=""/>
          <p:cNvSpPr txBox="1"/>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k on Key terms/people, which is due next class period.  Remember, this is worth 15 points.  </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Quiz/Test next class, worth 40 poin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Pre-test</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ll questions must be answered for full credit (10 points)</a:t>
            </a:r>
            <a:endParaRPr b="0" lang="en-US" sz="2800" spc="-1" strike="noStrike">
              <a:solidFill>
                <a:srgbClr val="ffffff"/>
              </a:solidFill>
              <a:latin typeface="Arial"/>
            </a:endParaRPr>
          </a:p>
          <a:p>
            <a:pPr lvl="2" marL="1143000" indent="-228600">
              <a:lnSpc>
                <a:spcPct val="100000"/>
              </a:lnSpc>
              <a:spcBef>
                <a:spcPts val="601"/>
              </a:spcBef>
              <a:buClr>
                <a:srgbClr val="e3e3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Incorrect answers will still earn points</a:t>
            </a:r>
            <a:endParaRPr b="0" lang="en-US" sz="24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ame quiz will be given at the end of the unit</a:t>
            </a:r>
            <a:endParaRPr b="0" lang="en-US" sz="2800" spc="-1" strike="noStrike">
              <a:solidFill>
                <a:srgbClr val="ffffff"/>
              </a:solidFill>
              <a:latin typeface="Arial"/>
            </a:endParaRPr>
          </a:p>
          <a:p>
            <a:pPr lvl="2" marL="1143000" indent="-228600">
              <a:lnSpc>
                <a:spcPct val="100000"/>
              </a:lnSpc>
              <a:spcBef>
                <a:spcPts val="601"/>
              </a:spcBef>
              <a:buClr>
                <a:srgbClr val="e3e3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Only correct answers will earn poi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Enlightenment</a:t>
            </a:r>
            <a:endParaRPr b="0" lang="en-US" sz="4400" spc="-1" strike="noStrike">
              <a:solidFill>
                <a:srgbClr val="e3e3ff"/>
              </a:solidFill>
              <a:latin typeface="Arial"/>
            </a:endParaRPr>
          </a:p>
        </p:txBody>
      </p:sp>
      <p:sp>
        <p:nvSpPr>
          <p:cNvPr id="134" name="PlaceHolder 2"/>
          <p:cNvSpPr>
            <a:spLocks noGrp="1"/>
          </p:cNvSpPr>
          <p:nvPr>
            <p:ph/>
          </p:nvPr>
        </p:nvSpPr>
        <p:spPr>
          <a:xfrm>
            <a:off x="456840" y="1294920"/>
            <a:ext cx="5791320" cy="4800600"/>
          </a:xfrm>
          <a:prstGeom prst="rect">
            <a:avLst/>
          </a:prstGeom>
          <a:noFill/>
          <a:ln w="0">
            <a:noFill/>
          </a:ln>
        </p:spPr>
        <p:txBody>
          <a:bodyPr anchor="t">
            <a:normAutofit/>
          </a:bodyPr>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Enlightenment was movement in search for ________:</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John Locke:</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a:t>
            </a:r>
            <a:endParaRPr b="0" lang="en-US" sz="2800" spc="-1" strike="noStrike">
              <a:solidFill>
                <a:srgbClr val="ffffff"/>
              </a:solidFill>
              <a:latin typeface="Arial"/>
            </a:endParaRPr>
          </a:p>
          <a:p>
            <a:pPr lvl="1" marL="914400" indent="-457200">
              <a:lnSpc>
                <a:spcPct val="80000"/>
              </a:lnSpc>
              <a:spcBef>
                <a:spcPts val="700"/>
              </a:spcBef>
              <a:buClr>
                <a:srgbClr val="ffffff"/>
              </a:buClr>
              <a:buFont typeface="Corbe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Social Contract:</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aron de Montesquieu:</a:t>
            </a:r>
            <a:endParaRPr b="0" lang="en-US" sz="2800" spc="-1" strike="noStrike">
              <a:solidFill>
                <a:srgbClr val="ffffff"/>
              </a:solidFill>
              <a:latin typeface="Arial"/>
            </a:endParaRPr>
          </a:p>
          <a:p>
            <a:pPr marL="343080" indent="-343080">
              <a:lnSpc>
                <a:spcPct val="8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Jean-Jacques Rousseau:</a:t>
            </a:r>
            <a:endParaRPr b="0" lang="en-US" sz="2800" spc="-1" strike="noStrike">
              <a:solidFill>
                <a:srgbClr val="ffffff"/>
              </a:solidFill>
              <a:latin typeface="Arial"/>
            </a:endParaRPr>
          </a:p>
        </p:txBody>
      </p:sp>
      <p:pic>
        <p:nvPicPr>
          <p:cNvPr id="135" name="Picture 4" descr="locke.jpg"/>
          <p:cNvPicPr/>
          <p:nvPr/>
        </p:nvPicPr>
        <p:blipFill>
          <a:blip r:embed="rId1"/>
          <a:stretch/>
        </p:blipFill>
        <p:spPr>
          <a:xfrm>
            <a:off x="5257800" y="1752480"/>
            <a:ext cx="3454560" cy="373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Glorious Revolution</a:t>
            </a:r>
            <a:endParaRPr b="0" lang="en-US" sz="4400" spc="-1" strike="noStrike">
              <a:solidFill>
                <a:srgbClr val="e3e3ff"/>
              </a:solidFill>
              <a:latin typeface="Arial"/>
            </a:endParaRPr>
          </a:p>
        </p:txBody>
      </p:sp>
      <p:sp>
        <p:nvSpPr>
          <p:cNvPr id="137" name="PlaceHolder 2"/>
          <p:cNvSpPr>
            <a:spLocks noGrp="1"/>
          </p:cNvSpPr>
          <p:nvPr>
            <p:ph/>
          </p:nvPr>
        </p:nvSpPr>
        <p:spPr>
          <a:xfrm>
            <a:off x="457200" y="1219320"/>
            <a:ext cx="5867280" cy="4495680"/>
          </a:xfrm>
          <a:prstGeom prst="rect">
            <a:avLst/>
          </a:prstGeom>
          <a:noFill/>
          <a:ln w="0">
            <a:noFill/>
          </a:ln>
        </p:spPr>
        <p:txBody>
          <a:bodyPr anchor="t">
            <a:normAutofit/>
          </a:bodyPr>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King James II</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stablished:</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oal:</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ary and William:</a:t>
            </a:r>
            <a:endParaRPr b="0" lang="en-US" sz="2800" spc="-1" strike="noStrike">
              <a:solidFill>
                <a:srgbClr val="ffffff"/>
              </a:solidFill>
              <a:latin typeface="Arial"/>
            </a:endParaRPr>
          </a:p>
          <a:p>
            <a:pPr marL="343080" indent="-343080">
              <a:lnSpc>
                <a:spcPct val="100000"/>
              </a:lnSpc>
              <a:spcBef>
                <a:spcPts val="700"/>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The Glorious Revolution was a ________ transfer of power</a:t>
            </a:r>
            <a:endParaRPr b="0" lang="en-US" sz="2800" spc="-1" strike="noStrike">
              <a:solidFill>
                <a:srgbClr val="ffffff"/>
              </a:solidFill>
              <a:latin typeface="Arial"/>
            </a:endParaRPr>
          </a:p>
        </p:txBody>
      </p:sp>
      <p:pic>
        <p:nvPicPr>
          <p:cNvPr id="138" name="Picture 3" descr="KingJames2_s.jpg"/>
          <p:cNvPicPr/>
          <p:nvPr/>
        </p:nvPicPr>
        <p:blipFill>
          <a:blip r:embed="rId1"/>
          <a:stretch/>
        </p:blipFill>
        <p:spPr>
          <a:xfrm>
            <a:off x="5943600" y="1371600"/>
            <a:ext cx="2606760" cy="32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The English Bill of Rights</a:t>
            </a:r>
            <a:endParaRPr b="0" lang="en-US" sz="4400" spc="-1" strike="noStrike">
              <a:solidFill>
                <a:srgbClr val="e3e3ff"/>
              </a:solidFill>
              <a:latin typeface="Arial"/>
            </a:endParaRPr>
          </a:p>
        </p:txBody>
      </p:sp>
      <p:sp>
        <p:nvSpPr>
          <p:cNvPr id="140" name="PlaceHolder 2"/>
          <p:cNvSpPr>
            <a:spLocks noGrp="1"/>
          </p:cNvSpPr>
          <p:nvPr>
            <p:ph/>
          </p:nvPr>
        </p:nvSpPr>
        <p:spPr>
          <a:xfrm>
            <a:off x="304560" y="1295280"/>
            <a:ext cx="5257800" cy="426744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gned by ________ and _____:</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Parliament gains power</a:t>
            </a:r>
            <a:endParaRPr b="0" lang="en-US" sz="28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1. Protect _____ of speech:</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2. Control ______</a:t>
            </a:r>
            <a:endParaRPr b="0" lang="en-US" sz="2400" spc="-1" strike="noStrike">
              <a:solidFill>
                <a:srgbClr val="ffffff"/>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3.  Regulate _______ power</a:t>
            </a:r>
            <a:endParaRPr b="0" lang="en-US" sz="24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r colonists, the English Bill of Rights:</a:t>
            </a:r>
            <a:endParaRPr b="0" lang="en-US" sz="3200" spc="-1" strike="noStrike">
              <a:solidFill>
                <a:srgbClr val="ffffff"/>
              </a:solidFill>
              <a:latin typeface="Arial"/>
            </a:endParaRPr>
          </a:p>
        </p:txBody>
      </p:sp>
      <p:pic>
        <p:nvPicPr>
          <p:cNvPr id="141" name="Picture 3" descr="william and mary.jpg"/>
          <p:cNvPicPr/>
          <p:nvPr/>
        </p:nvPicPr>
        <p:blipFill>
          <a:blip r:embed="rId1"/>
          <a:stretch/>
        </p:blipFill>
        <p:spPr>
          <a:xfrm>
            <a:off x="5486400" y="1295280"/>
            <a:ext cx="3390840" cy="4286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In-Class activity</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otes Guide for Chapter 3</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Due at the end of class today</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th 15 points</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Work on Key terms/people if time perm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Journal</a:t>
            </a:r>
            <a:endParaRPr b="0" lang="en-US" sz="4400" spc="-1" strike="noStrike">
              <a:solidFill>
                <a:srgbClr val="e3e3ff"/>
              </a:solidFill>
              <a:latin typeface="Arial"/>
            </a:endParaRPr>
          </a:p>
        </p:txBody>
      </p:sp>
      <p:sp>
        <p:nvSpPr>
          <p:cNvPr id="145" name=""/>
          <p:cNvSpPr txBox="1"/>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cc"/>
                </a:solidFill>
                <a:uFillTx/>
                <a:latin typeface="Corbel"/>
                <a:hlinkClick r:id="rId1"/>
              </a:rPr>
              <a:t>http://www.eckstein.seattleschools.org/elmiller/ss/triangular_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could England control colonial 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could England interfere with colonial trade?</a:t>
            </a:r>
            <a:endParaRPr b="0" lang="en-US" sz="32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int: New England refers to the Northern colon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mic Sans MS"/>
              </a:rPr>
              <a:t>Trade and Restrictions</a:t>
            </a: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Mercantilism:</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_ = ________</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Balance of Trade</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 is greater than ______</a:t>
            </a:r>
            <a:endParaRPr b="0" lang="en-US" sz="2800" spc="-1" strike="noStrike">
              <a:solidFill>
                <a:srgbClr val="ffffff"/>
              </a:solidFill>
              <a:latin typeface="Arial"/>
            </a:endParaRPr>
          </a:p>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iangular Trade: </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Corbel"/>
              </a:rPr>
              <a:t>Navigation Acts</a:t>
            </a:r>
            <a:endParaRPr b="0" lang="en-US" sz="4400" spc="-1" strike="noStrike">
              <a:solidFill>
                <a:srgbClr val="e3e3ff"/>
              </a:solidFill>
              <a:latin typeface="Arial"/>
            </a:endParaRPr>
          </a:p>
        </p:txBody>
      </p:sp>
      <p:sp>
        <p:nvSpPr>
          <p:cNvPr id="149" name="PlaceHolder 2"/>
          <p:cNvSpPr>
            <a:spLocks noGrp="1"/>
          </p:cNvSpPr>
          <p:nvPr>
            <p:ph/>
          </p:nvPr>
        </p:nvSpPr>
        <p:spPr>
          <a:xfrm>
            <a:off x="304920" y="1600200"/>
            <a:ext cx="5333760" cy="4495680"/>
          </a:xfrm>
          <a:prstGeom prst="rect">
            <a:avLst/>
          </a:prstGeom>
          <a:noFill/>
          <a:ln w="0">
            <a:noFill/>
          </a:ln>
        </p:spPr>
        <p:txBody>
          <a:bodyPr anchor="t">
            <a:normAutofit/>
          </a:bodyPr>
          <a:p>
            <a:pPr marL="343080" indent="-343080">
              <a:lnSpc>
                <a:spcPct val="100000"/>
              </a:lnSpc>
              <a:spcBef>
                <a:spcPts val="799"/>
              </a:spcBef>
              <a:buClr>
                <a:srgbClr val="e3e3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Navigation Act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British _____ manned by a British _____</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 must pass through ______ first</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 imposed on ‘enumerated articles’ which were:</a:t>
            </a:r>
            <a:endParaRPr b="0" lang="en-US" sz="2800" spc="-1" strike="noStrike">
              <a:solidFill>
                <a:srgbClr val="ffffff"/>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0" name="Picture 3" descr="rd_slavery_ship.jpg"/>
          <p:cNvPicPr/>
          <p:nvPr/>
        </p:nvPicPr>
        <p:blipFill>
          <a:blip r:embed="rId1"/>
          <a:stretch/>
        </p:blipFill>
        <p:spPr>
          <a:xfrm>
            <a:off x="5334120" y="2438280"/>
            <a:ext cx="36162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20:55:47Z</dcterms:created>
  <dc:creator>Breanna Haehn</dc:creator>
  <dc:description/>
  <dc:language>en-US</dc:language>
  <cp:lastModifiedBy>TPS</cp:lastModifiedBy>
  <dcterms:modified xsi:type="dcterms:W3CDTF">2009-01-26T19:47:35Z</dcterms:modified>
  <cp:revision>114</cp:revision>
  <dc:subject/>
  <dc:title>Colonial Life</dc:title>
</cp:coreProperties>
</file>