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E07-78F1-4F1C-9471-340C5E44B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05D-EFB5-4072-867E-06CEEE2E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9D09-8742-4ACD-AF7A-1C9FAF1C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2E5-4AE1-476F-B560-7A93474E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E1A-E89A-44C1-A0A7-481C4401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B088-3C26-4140-9F23-36BE8B86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436-0842-4D7F-A69F-B63D195D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C6B-65AC-49BB-9BDB-164F0CAC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79F6-EED6-4ADD-A071-58824946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5921-12C7-41E1-B4D7-C14CFC0E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7E0-BCF3-4E86-B42F-493AB909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D9B9-1284-4FD5-93D7-643E7D41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510B-FC6C-4F33-BA1F-808CECE1D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Hoover-JEdgar-LOC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9/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very important court case, (1954), the Supreme Court of the US decided that “separate is inherently unequal.” Do you agree or disagree with this statement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was the PPC seen as a fail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’s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media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ng members=polic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s thought, b/c of Resurrection City, the protesters were Commun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2035080" y="1714680"/>
            <a:ext cx="5075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" descr="http://www.peacebuttons.info/0502%20Poor%20Peoples%20button.jpg"/>
          <p:cNvPicPr/>
          <p:nvPr/>
        </p:nvPicPr>
        <p:blipFill>
          <a:blip r:embed="rId1"/>
          <a:stretch/>
        </p:blipFill>
        <p:spPr>
          <a:xfrm>
            <a:off x="4648320" y="2057400"/>
            <a:ext cx="380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 Edgar Hoover and 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C.R. groups were lead by Commu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BI agents pose as supporters to s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 groups against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d FBI to instigate violence from Pan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d agents in SNCC who encouraged radical 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Image:Hoover-JEdgar-LO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1200" y="1981080"/>
            <a:ext cx="326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kind of ‘Black Power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me active in 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good Marsh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w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sse Jack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violent/non-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2789280" y="1292400"/>
            <a:ext cx="356544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2789280" y="1292400"/>
            <a:ext cx="356544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http://www.oyez.org/justices/thurgood_marshall/portrait/thurgood_marshall_portrait_cropped.1.jpg"/>
          <p:cNvPicPr/>
          <p:nvPr/>
        </p:nvPicPr>
        <p:blipFill>
          <a:blip r:embed="rId1"/>
          <a:stretch/>
        </p:blipFill>
        <p:spPr>
          <a:xfrm>
            <a:off x="5889600" y="838080"/>
            <a:ext cx="286704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medaloffreedom.com/AndrewYoung1.jpg"/>
          <p:cNvPicPr/>
          <p:nvPr/>
        </p:nvPicPr>
        <p:blipFill>
          <a:blip r:embed="rId2"/>
          <a:stretch/>
        </p:blipFill>
        <p:spPr>
          <a:xfrm>
            <a:off x="4114800" y="2286000"/>
            <a:ext cx="212256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thejenasix.com/thesix/wp-content/image.jpg"/>
          <p:cNvPicPr/>
          <p:nvPr/>
        </p:nvPicPr>
        <p:blipFill>
          <a:blip r:embed="rId3"/>
          <a:stretch/>
        </p:blipFill>
        <p:spPr>
          <a:xfrm>
            <a:off x="6921360" y="373392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http://upload.wikimedia.org/wikipedia/commons/thumb/b/b7/John_Lewis_1964-04-16.jpg/400px-John_Lewis_1964-04-16.jpg"/>
          <p:cNvPicPr/>
          <p:nvPr/>
        </p:nvPicPr>
        <p:blipFill>
          <a:blip r:embed="rId4"/>
          <a:srcRect l="19858" t="19858" r="8865" b="8983"/>
          <a:stretch/>
        </p:blipFill>
        <p:spPr>
          <a:xfrm>
            <a:off x="5257800" y="4038480"/>
            <a:ext cx="1876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http://www.madison.k12.wi.us/tnl/detectives/kids/CR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n v B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26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urned _______ v__________ from 1898 which stated that segregation was okay as long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isio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d separate was inherently 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://www.nea.org/aboutnea/images/051754clip.jpg"/>
          <p:cNvPicPr/>
          <p:nvPr/>
        </p:nvPicPr>
        <p:blipFill>
          <a:blip r:embed="rId1"/>
          <a:stretch/>
        </p:blipFill>
        <p:spPr>
          <a:xfrm>
            <a:off x="4952880" y="1676520"/>
            <a:ext cx="3897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http://home.earthlink.net/~ns_roberts/sitebuildercontent/sitebuilderpictures/littlerockcentralhs1.jpg"/>
          <p:cNvPicPr/>
          <p:nvPr/>
        </p:nvPicPr>
        <p:blipFill>
          <a:blip r:embed="rId1"/>
          <a:stretch/>
        </p:blipFill>
        <p:spPr>
          <a:xfrm>
            <a:off x="5029200" y="2286000"/>
            <a:ext cx="3886200" cy="2916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tle Rock N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7, ____ years aft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ny states still refused to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kansas governor called in Ark. Nat’l Guard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s were to prevent the ______ _______ _____ from entering the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http://img.timeinc.net/time/daily/2007/0709/llittlerock1001.jpg"/>
          <p:cNvPicPr/>
          <p:nvPr/>
        </p:nvPicPr>
        <p:blipFill>
          <a:blip r:embed="rId2"/>
          <a:srcRect l="8411" t="0" r="8411" b="0"/>
          <a:stretch/>
        </p:blipFill>
        <p:spPr>
          <a:xfrm>
            <a:off x="1981080" y="1292400"/>
            <a:ext cx="51818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bany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any, ________ is hotbed of Civil Rights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500 protesters ___________ for sit-ins in bus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K Jr. is arrested but refuses to pay his bail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http://photos.state.gov/galleries/usinfo-photo/39/civil_rights_07/009-CivilRights.jpg"/>
          <p:cNvPicPr/>
          <p:nvPr/>
        </p:nvPicPr>
        <p:blipFill>
          <a:blip r:embed="rId1"/>
          <a:stretch/>
        </p:blipFill>
        <p:spPr>
          <a:xfrm>
            <a:off x="5205240" y="1066680"/>
            <a:ext cx="3294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rmingh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 focuses next on Birmingham, ______________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 is arrested and writes his now famous “Letter from a ___________ _____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sters are met with viol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FK sends___________ to Birming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778040" y="1292400"/>
            <a:ext cx="5589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778040" y="1292400"/>
            <a:ext cx="5589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778040" y="1292400"/>
            <a:ext cx="5589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9" descr="http://www.binghamton.edu/ctah/student/2mohr/2mohrphoto.jpg"/>
          <p:cNvPicPr/>
          <p:nvPr/>
        </p:nvPicPr>
        <p:blipFill>
          <a:blip r:embed="rId1"/>
          <a:stretch/>
        </p:blipFill>
        <p:spPr>
          <a:xfrm>
            <a:off x="5002200" y="1447920"/>
            <a:ext cx="3502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 Act of 19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FK _______ for th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will end segregation in public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NAACP in Miss. is _____ hours after JFK announces the b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rch on Washington is held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http://www.governor.state.az.us/eop/images/CivilRights.jpg"/>
          <p:cNvPicPr/>
          <p:nvPr/>
        </p:nvPicPr>
        <p:blipFill>
          <a:blip r:embed="rId1"/>
          <a:stretch/>
        </p:blipFill>
        <p:spPr>
          <a:xfrm>
            <a:off x="481968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3/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the mid-1960s African Americans had received a few basic rights due to some very important legislation; amongst these w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 Right Act of 19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v B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Rights Act 19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ach of these laws in your book. Tell me what right each law gave African Americ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or People’s Campa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xpansion of the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n Americans were held back by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just African Americans but all poor 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http://www.peacebuttons.info/0502%20Resurrection%20City.jpg"/>
          <p:cNvPicPr/>
          <p:nvPr/>
        </p:nvPicPr>
        <p:blipFill>
          <a:blip r:embed="rId1"/>
          <a:stretch/>
        </p:blipFill>
        <p:spPr>
          <a:xfrm>
            <a:off x="4648320" y="2708280"/>
            <a:ext cx="38098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8:20:59Z</dcterms:created>
  <dc:creator>TPS</dc:creator>
  <dc:description/>
  <dc:language>en-US</dc:language>
  <cp:lastModifiedBy>IT Clone User</cp:lastModifiedBy>
  <dcterms:modified xsi:type="dcterms:W3CDTF">2009-09-18T14:22:48Z</dcterms:modified>
  <cp:revision>14</cp:revision>
  <dc:subject/>
  <dc:title>Journal 4/1</dc:title>
</cp:coreProperties>
</file>