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EBDE-E563-4572-854B-F88038595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6E75-14B2-4167-8759-88B2E9D8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C6E2-7401-4A27-8A0A-A60BED92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8C6-8DD1-4280-BBAF-7A584D63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318-70AE-4417-AC57-FF35EA52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7E0D-6AEE-40FA-B6DB-B7BED4D1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AFA-E173-4A5E-B735-B5C26BD6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BF9-0109-4259-ACAC-5B06CF3A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7D1-803C-4214-8D35-B0904FBB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8B22-57B0-4289-A480-827C1164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2977-53CE-438A-8820-423A4BBE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C85-3DA8-4DD2-A6BE-D4C9213B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07D9-330B-485D-81DC-429A3DBFB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0/Hoover-JEdgar-LOC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al 9/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 very important court case, (1954), the Supreme Court of the US decided that “separate is inherently unequal.” Do you agree or disagree with this statement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was the PPC seen as a fail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ng’s d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d W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d media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ng members=police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ervatives thought, b/c of Resurrection City, the protesters were Commun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9"/>
          <p:cNvSpPr/>
          <p:nvPr/>
        </p:nvSpPr>
        <p:spPr>
          <a:xfrm>
            <a:off x="2035080" y="1714680"/>
            <a:ext cx="5075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2" descr="http://www.peacebuttons.info/0502%20Poor%20Peoples%20button.jpg"/>
          <p:cNvPicPr/>
          <p:nvPr/>
        </p:nvPicPr>
        <p:blipFill>
          <a:blip r:embed="rId1"/>
          <a:stretch/>
        </p:blipFill>
        <p:spPr>
          <a:xfrm>
            <a:off x="4648320" y="2057400"/>
            <a:ext cx="38098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 Edgar Hoover and Civil Righ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ught C.R. groups were lead by Commun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BI agents pose as supporters to s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t groups against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d FBI to instigate violence from Pan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d agents in SNCC who encouraged radical st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7" descr="Image:Hoover-JEdgar-LOC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21200" y="1981080"/>
            <a:ext cx="3262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ew kind of ‘Black Power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me active in poli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urgood Marsh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Lew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w Yo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sse Jack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violent/non-exclu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2789280" y="1292400"/>
            <a:ext cx="356544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2789280" y="1292400"/>
            <a:ext cx="356544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0" descr="http://www.oyez.org/justices/thurgood_marshall/portrait/thurgood_marshall_portrait_cropped.1.jpg"/>
          <p:cNvPicPr/>
          <p:nvPr/>
        </p:nvPicPr>
        <p:blipFill>
          <a:blip r:embed="rId1"/>
          <a:stretch/>
        </p:blipFill>
        <p:spPr>
          <a:xfrm>
            <a:off x="5889600" y="838080"/>
            <a:ext cx="2867040" cy="3657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http://www.medaloffreedom.com/AndrewYoung1.jpg"/>
          <p:cNvPicPr/>
          <p:nvPr/>
        </p:nvPicPr>
        <p:blipFill>
          <a:blip r:embed="rId2"/>
          <a:stretch/>
        </p:blipFill>
        <p:spPr>
          <a:xfrm>
            <a:off x="4114800" y="2286000"/>
            <a:ext cx="2122560" cy="2971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http://thejenasix.com/thesix/wp-content/image.jpg"/>
          <p:cNvPicPr/>
          <p:nvPr/>
        </p:nvPicPr>
        <p:blipFill>
          <a:blip r:embed="rId3"/>
          <a:stretch/>
        </p:blipFill>
        <p:spPr>
          <a:xfrm>
            <a:off x="6921360" y="3733920"/>
            <a:ext cx="222264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" descr="http://upload.wikimedia.org/wikipedia/commons/thumb/b/b7/John_Lewis_1964-04-16.jpg/400px-John_Lewis_1964-04-16.jpg"/>
          <p:cNvPicPr/>
          <p:nvPr/>
        </p:nvPicPr>
        <p:blipFill>
          <a:blip r:embed="rId4"/>
          <a:srcRect l="19858" t="19858" r="8865" b="8983"/>
          <a:stretch/>
        </p:blipFill>
        <p:spPr>
          <a:xfrm>
            <a:off x="5257800" y="4038480"/>
            <a:ext cx="18763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Rights 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gi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5" descr="http://www.madison.k12.wi.us/tnl/detectives/kids/CR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wn v BO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26744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turned _______ v__________ from 1898 which stated that segregation was okay as long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cision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s 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d separate was inherently 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http://www.nea.org/aboutnea/images/051754clip.jpg"/>
          <p:cNvPicPr/>
          <p:nvPr/>
        </p:nvPicPr>
        <p:blipFill>
          <a:blip r:embed="rId1"/>
          <a:stretch/>
        </p:blipFill>
        <p:spPr>
          <a:xfrm>
            <a:off x="4952880" y="1676520"/>
            <a:ext cx="3897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http://home.earthlink.net/~ns_roberts/sitebuildercontent/sitebuilderpictures/littlerockcentralhs1.jpg"/>
          <p:cNvPicPr/>
          <p:nvPr/>
        </p:nvPicPr>
        <p:blipFill>
          <a:blip r:embed="rId1"/>
          <a:stretch/>
        </p:blipFill>
        <p:spPr>
          <a:xfrm>
            <a:off x="5029200" y="2286000"/>
            <a:ext cx="3886200" cy="2916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tle Rock N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7, ____ years afte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ow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many states still refused to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kansas governor called in Ark. Nat’l Guard b/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rds were to prevent the ______ _______ _____ from entering the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http://img.timeinc.net/time/daily/2007/0709/llittlerock1001.jpg"/>
          <p:cNvPicPr/>
          <p:nvPr/>
        </p:nvPicPr>
        <p:blipFill>
          <a:blip r:embed="rId2"/>
          <a:srcRect l="8411" t="0" r="8411" b="0"/>
          <a:stretch/>
        </p:blipFill>
        <p:spPr>
          <a:xfrm>
            <a:off x="1981080" y="1292400"/>
            <a:ext cx="518184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bany 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bany, ________ is hotbed of Civil Rights demonst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500 protesters ___________ for sit-ins in bus s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LK Jr. is arrested but refuses to pay his bail b/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" descr="http://photos.state.gov/galleries/usinfo-photo/39/civil_rights_07/009-CivilRights.jpg"/>
          <p:cNvPicPr/>
          <p:nvPr/>
        </p:nvPicPr>
        <p:blipFill>
          <a:blip r:embed="rId1"/>
          <a:stretch/>
        </p:blipFill>
        <p:spPr>
          <a:xfrm>
            <a:off x="5205240" y="1066680"/>
            <a:ext cx="3294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rmingh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ng focuses next on Birmingham, ______________ b/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ng is arrested and writes his now famous “Letter from a ___________ _____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sters are met with viol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FK sends___________ to Birming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1778040" y="1292400"/>
            <a:ext cx="558972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1778040" y="1292400"/>
            <a:ext cx="558972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1778040" y="1292400"/>
            <a:ext cx="5589720" cy="42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4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19" descr="http://www.binghamton.edu/ctah/student/2mohr/2mohrphoto.jpg"/>
          <p:cNvPicPr/>
          <p:nvPr/>
        </p:nvPicPr>
        <p:blipFill>
          <a:blip r:embed="rId1"/>
          <a:stretch/>
        </p:blipFill>
        <p:spPr>
          <a:xfrm>
            <a:off x="5002200" y="1447920"/>
            <a:ext cx="35020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Rights Act of 196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FK _______ for the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w will end segregation in public 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 of NAACP in Miss. is _____ hours after JFK announces the b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arch on Washington is held b/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http://www.governor.state.az.us/eop/images/CivilRights.jpg"/>
          <p:cNvPicPr/>
          <p:nvPr/>
        </p:nvPicPr>
        <p:blipFill>
          <a:blip r:embed="rId1"/>
          <a:stretch/>
        </p:blipFill>
        <p:spPr>
          <a:xfrm>
            <a:off x="4819680" y="1981080"/>
            <a:ext cx="346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al 3/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y the mid-1960s African Americans had received a few basic rights due to some very important legislation; amongst these w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mend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vil Right Act of 19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v B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ing Rights Act 19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each of these laws in your book. Tell me what right each law gave African America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or People’s Campa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n expansion of the m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rican Americans were held back by pov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just African Americans but all poor Amer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7" descr="http://www.peacebuttons.info/0502%20Resurrection%20City.jpg"/>
          <p:cNvPicPr/>
          <p:nvPr/>
        </p:nvPicPr>
        <p:blipFill>
          <a:blip r:embed="rId1"/>
          <a:stretch/>
        </p:blipFill>
        <p:spPr>
          <a:xfrm>
            <a:off x="4648320" y="2708280"/>
            <a:ext cx="38098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8:20:59Z</dcterms:created>
  <dc:creator>TPS</dc:creator>
  <dc:description/>
  <dc:language>en-US</dc:language>
  <cp:lastModifiedBy>IT Clone User</cp:lastModifiedBy>
  <dcterms:modified xsi:type="dcterms:W3CDTF">2009-09-18T14:22:48Z</dcterms:modified>
  <cp:revision>14</cp:revision>
  <dc:subject/>
  <dc:title>Journal 4/1</dc:title>
</cp:coreProperties>
</file>