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BFD7-5A21-4F2D-9FEC-D438A0EC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451-61E0-41C3-9A78-91FA988F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EE1B-9815-46E5-8686-1073E1D6B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677-8026-469A-B3D5-33236404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742C-699E-4699-AFCB-C09FBEC5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D8E-229E-4006-B82B-1B76939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751-96FB-4934-8356-D33D0633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E78-80D2-4919-8BAF-4E916CD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78A-D398-4B6B-95E4-95A2260B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A3CF-6E05-4A2E-A445-DC1A70F2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2B39-CA1B-4148-BBE1-197BD835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95F-4BBF-49B6-B313-43A7724A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337-C2A5-4E36-A5D3-F6E6F1164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ional 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 How Johnson ticked the Republicans off and got himself imp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petbag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came ____________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due to the cheap suitcases they carri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pised in the ________ though they helped _________Southern econom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Buying cheap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Forming__________ w/ Southern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cro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farmed for a share of their employer's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rs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tools, including a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whites benefi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men benefi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ant Far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did well enough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llowed Freedmen to gro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croppers and Tenant Farmers stay poor, though b/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didn’t get paid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had to get food/supplies on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If crop was b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RN TO PAGE 428. READ/EXAMINE DOCUMENTS 1 AND 3. ANSWER QUESTIONS 1, (A&amp;B); 3 (A&amp;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Journal 8/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ohnson’s reconstruction plan in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doned almost 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maintai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sent the VP of CS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the Black Codes whi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ed a bill exten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ed the Civil Rights A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son s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sitemason.com/files/eoEMaA/harpersreconstruction.jpg"/>
          <p:cNvPicPr/>
          <p:nvPr/>
        </p:nvPicPr>
        <p:blipFill>
          <a:blip r:embed="rId1"/>
          <a:stretch/>
        </p:blipFill>
        <p:spPr>
          <a:xfrm>
            <a:off x="4402080" y="2209680"/>
            <a:ext cx="4741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cal’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ly after the end of the war moderate Republic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Johnson’s opposition to ending the B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 Republ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ddeus Steve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trict requiremen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to resha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gether __________&amp;________ pass the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recollections.liblog.wheaton.edu/files/thaddeus-stevens.jpg"/>
          <p:cNvPicPr/>
          <p:nvPr/>
        </p:nvPicPr>
        <p:blipFill>
          <a:blip r:embed="rId1"/>
          <a:stretch/>
        </p:blipFill>
        <p:spPr>
          <a:xfrm>
            <a:off x="4876920" y="1752480"/>
            <a:ext cx="3733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 losses contr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of reco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66 congressional 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son’s goal is to fill congres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convince voters reconstruction shou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dited when riots erupt in the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ublicans win enough seats in Congress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presidentprofiles.com/images/prh_01_img0037.jpg"/>
          <p:cNvPicPr/>
          <p:nvPr/>
        </p:nvPicPr>
        <p:blipFill>
          <a:blip r:embed="rId1"/>
          <a:stretch/>
        </p:blipFill>
        <p:spPr>
          <a:xfrm>
            <a:off x="4343400" y="2438280"/>
            <a:ext cx="4495680" cy="26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explorepahistory.com/images/ExplorePAHistory-a0l8g4-a_349.jpg"/>
          <p:cNvPicPr/>
          <p:nvPr/>
        </p:nvPicPr>
        <p:blipFill>
          <a:blip r:embed="rId2"/>
          <a:srcRect l="-333" t="0" r="0" b="0"/>
          <a:stretch/>
        </p:blipFill>
        <p:spPr>
          <a:xfrm>
            <a:off x="380880" y="-25560"/>
            <a:ext cx="87631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 takes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must do 3 things in order to be reinst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known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ure of Office 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 is impeached but n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end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herrychandler.com/wp-content/uploads/2008/03/samesnap5w.jpg"/>
          <p:cNvPicPr/>
          <p:nvPr/>
        </p:nvPicPr>
        <p:blipFill>
          <a:blip r:embed="rId1"/>
          <a:stretch/>
        </p:blipFill>
        <p:spPr>
          <a:xfrm>
            <a:off x="4419720" y="1743120"/>
            <a:ext cx="4724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someone a terrorist? What is terrorism? What are the goals of a terrorist? Have there been American terrorist organizations in our history? If so who and what were their goals? Are there terrorist groups in the US tod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Profite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ose who benefited from Reco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P!! Don’t copy thi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no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xt few slide are going to be vocab. Terms. In order to help you remember them you’re going to write the definition of the word HERE…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make a quick illustration of the term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aw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76520"/>
            <a:ext cx="404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supported ____________ after the w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had ne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pposed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__________ to keep the wealthy planter cla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19:20Z</dcterms:created>
  <dc:creator>TPS</dc:creator>
  <dc:description/>
  <dc:language>en-US</dc:language>
  <cp:lastModifiedBy>IT Clone User</cp:lastModifiedBy>
  <dcterms:modified xsi:type="dcterms:W3CDTF">2009-08-25T13:59:35Z</dcterms:modified>
  <cp:revision>31</cp:revision>
  <dc:subject/>
  <dc:title>Congressional Reconstruction</dc:title>
</cp:coreProperties>
</file>