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FAC-C11D-4C6E-921E-E5E92C1F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C50A-74EA-4C9F-93D7-A759D5E9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F146-AB14-41F9-861F-E0A9E996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FD0-7D27-4A95-B834-40D01DD9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B018-DF71-41E4-8686-F36CD630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F18-AF50-4569-83A9-F9D0AC88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D02-94A8-4E47-87D4-DB135ABA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DAC2-4858-4B6D-9607-BCA4A739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397-485F-4651-830E-749E8243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6756-FC0E-4968-B72E-59E7A326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82EF-2995-41F8-B6F9-F2B92436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C2C9-4D27-4691-89CB-22472C4C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07FD-F8FA-4A73-A9D9-3F4813A4F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ressional Re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r How Johnson ticked the Republicans off and got himself impeach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rpetbag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219320"/>
            <a:ext cx="404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 who came ____________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med due to the cheap suitcases they carri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pised in the ________ though they helped _________Southern economy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Buying cheap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Forming__________ w/ Southern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cropp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19320"/>
            <a:ext cx="404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 who farmed for a share of their employer's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ployers provi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L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tools, including a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whites benefit b/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eedmen benefit b/c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ant Farm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219320"/>
            <a:ext cx="40402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 who did well enough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allowed Freedmen to grow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croppers and Tenant Farmers stay poor, though b/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 didn’t get paid unti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 had to get food/supplies on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 If crop was b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URN TO PAGE 428. READ/EXAMINE DOCUMENTS 1 AND 3. ANSWER QUESTIONS 1, (A&amp;B); 3 (A&amp;B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Journal 8/2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ohnson’s reconstruction plan in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doned almost al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th maintain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n sent the VP of CS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gnored the Black Codes whic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ed a bill extend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toed the Civil Rights A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son say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sitemason.com/files/eoEMaA/harpersreconstruction.jpg"/>
          <p:cNvPicPr/>
          <p:nvPr/>
        </p:nvPicPr>
        <p:blipFill>
          <a:blip r:embed="rId1"/>
          <a:stretch/>
        </p:blipFill>
        <p:spPr>
          <a:xfrm>
            <a:off x="4402080" y="2209680"/>
            <a:ext cx="47419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cal’ d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609120"/>
            <a:ext cx="44956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ly after the end of the war moderate Republica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Johnson’s opposition to ending the B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 Republ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ddeus Steve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trict requirements f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nt to reshap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gether __________&amp;________ pass the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mend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recollections.liblog.wheaton.edu/files/thaddeus-stevens.jpg"/>
          <p:cNvPicPr/>
          <p:nvPr/>
        </p:nvPicPr>
        <p:blipFill>
          <a:blip r:embed="rId1"/>
          <a:stretch/>
        </p:blipFill>
        <p:spPr>
          <a:xfrm>
            <a:off x="4876920" y="1752480"/>
            <a:ext cx="37335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hnson losses contro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…of reconstr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609120"/>
            <a:ext cx="44956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66 congressional 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son’s goal is to fill congres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es to convince voters reconstruction shoul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redited when riots erupt in the 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ublicans win enough seats in Congress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www.presidentprofiles.com/images/prh_01_img0037.jpg"/>
          <p:cNvPicPr/>
          <p:nvPr/>
        </p:nvPicPr>
        <p:blipFill>
          <a:blip r:embed="rId1"/>
          <a:stretch/>
        </p:blipFill>
        <p:spPr>
          <a:xfrm>
            <a:off x="4343400" y="2438280"/>
            <a:ext cx="4495680" cy="26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ttp://explorepahistory.com/images/ExplorePAHistory-a0l8g4-a_349.jpg"/>
          <p:cNvPicPr/>
          <p:nvPr/>
        </p:nvPicPr>
        <p:blipFill>
          <a:blip r:embed="rId2"/>
          <a:srcRect l="-333" t="0" r="0" b="0"/>
          <a:stretch/>
        </p:blipFill>
        <p:spPr>
          <a:xfrm>
            <a:off x="380880" y="-25560"/>
            <a:ext cx="87631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gress takes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609120"/>
            <a:ext cx="44956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s must do 3 things in order to be reinstat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known 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ure of Office Ac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J is impeached but n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end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herrychandler.com/wp-content/uploads/2008/03/samesnap5w.jpg"/>
          <p:cNvPicPr/>
          <p:nvPr/>
        </p:nvPicPr>
        <p:blipFill>
          <a:blip r:embed="rId1"/>
          <a:stretch/>
        </p:blipFill>
        <p:spPr>
          <a:xfrm>
            <a:off x="4419720" y="1743120"/>
            <a:ext cx="472428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8/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makes someone a terrorist? What is terrorism? What are the goals of a terrorist? Have there been American terrorist organizations in our history? If so who and what were their goals? Are there terrorist groups in the US toda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r Profite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ose who benefited from Reco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OP!! Don’t copy this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not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404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ext few slide are going to be vocab. Terms. In order to help you remember them you’re going to write the definition of the word HERE…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make a quick illustration of the term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awa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76520"/>
            <a:ext cx="404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_____ who supported ____________ after the w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had nev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opposed 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__________ to keep the wealthy planter cla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1676520"/>
            <a:ext cx="4041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3:19:20Z</dcterms:created>
  <dc:creator>TPS</dc:creator>
  <dc:description/>
  <dc:language>en-US</dc:language>
  <cp:lastModifiedBy>IT Clone User</cp:lastModifiedBy>
  <dcterms:modified xsi:type="dcterms:W3CDTF">2009-08-25T13:59:35Z</dcterms:modified>
  <cp:revision>31</cp:revision>
  <dc:subject/>
  <dc:title>Congressional Reconstruction</dc:title>
</cp:coreProperties>
</file>