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6805-9C04-4060-A8DB-E79F5028FC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from: Western European countries (England, France, Germany) and there has been a steady influx of these immigrants in the decades before 188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culture w/ native born (European)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lture________ more from Native born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reate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vism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push to keep “American Culture” p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76D6-77E0-41F7-998F-9E6F65E8E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they co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factors: “Pull” ppl to the US (jobs, political stability, freed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factors: “Push” ppl from their native lands (war, poverty, oppre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com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e on the: on the east coast. Most of these immigrants are Europ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el Isle on the: on the west coast. Most of these immigrants are As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sett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ies: where there are lots of industrial jobs and where other immigrants from their country have settl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ization: the rapid growth of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9CF6-E3AA-43E5-9FF7-BC8835D4E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are taken advanta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nts are discriminated against and paid 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/children are paid the lowest wages of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Capitalism all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issez-Fair= no gov’t: regulation or interference in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y owner gets to: set rules, regs, salary…the gov’t has nothing to do with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ocialism fix the probl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ists believe the gov’t should provide for the people. Every person deserves the very basics of human needs (food, housing, health) and if the people can not get it on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own it’s the job of the gov’t to provide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’t should also regulate unfair/unhealthy business pract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35A0-0710-48FD-B718-1B9B20556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Word capital: money,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s invest their own capital = the gov’t should BACK OF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ers will regulate industry NOT the gov’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Word social: Socialists are concerned wi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s will take advantage of the workers if they’re allow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’t should take care of the p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te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assistance for those in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3E6E-8FE1-4B6D-9DCF-3ACA31197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066-B025-4436-946C-4EE9AC75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DD9-A5B1-4C83-AAB0-E1D62B63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8A6-A197-4856-8001-EDF41EC7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5402-8BF0-4118-8265-851DEA3A6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D92-8087-40BB-BEDE-7255DEAF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A034-EDB0-4506-8727-321CE314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1BD-D973-4BCB-8E44-43E5F67A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2B2-B3B0-4230-A1E8-8E1AB10F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BE18-D9BD-429E-83AC-70D7BF13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2CFD-75F8-43F4-9755-9A1F19E4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DFB-D99D-4CAB-B7E0-757F660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0DB-7330-4B76-9FB1-33C104FC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FF47-03C6-4BDB-8F53-FB150443F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activities/asian-american/angel_island/index.htm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0GFSUu5UzA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wn of New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mmigration, Urbanization and Soc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346640" cy="507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lajhsslab.com/Eastern_Europe/images/comm4.gif"/>
          <p:cNvPicPr/>
          <p:nvPr/>
        </p:nvPicPr>
        <p:blipFill>
          <a:blip r:embed="rId2"/>
          <a:stretch/>
        </p:blipFill>
        <p:spPr>
          <a:xfrm>
            <a:off x="838080" y="1600200"/>
            <a:ext cx="30672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4" descr=""/>
          <p:cNvPicPr/>
          <p:nvPr/>
        </p:nvPicPr>
        <p:blipFill>
          <a:blip r:embed="rId1"/>
          <a:stretch/>
        </p:blipFill>
        <p:spPr>
          <a:xfrm>
            <a:off x="3657600" y="1603440"/>
            <a:ext cx="5334120" cy="353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dystopianb2012.wikispaces.com/file/view/OBU-Fist.jpg/300092004/300x392/OBU-Fist.jpg"/>
          <p:cNvPicPr/>
          <p:nvPr/>
        </p:nvPicPr>
        <p:blipFill>
          <a:blip r:embed="rId2"/>
          <a:stretch/>
        </p:blipFill>
        <p:spPr>
          <a:xfrm>
            <a:off x="304920" y="160020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mmigrants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_______w/ Native born (European)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________ more from Native born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rea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iv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jimsbikeblog.files.wordpress.com/2010/01/1888-cartoon-in-the-wasp-a-san-francisco-magazine-reflecting-anti-immigrant-sentiment1.gif"/>
          <p:cNvPicPr/>
          <p:nvPr/>
        </p:nvPicPr>
        <p:blipFill>
          <a:blip r:embed="rId1"/>
          <a:stretch/>
        </p:blipFill>
        <p:spPr>
          <a:xfrm>
            <a:off x="5213520" y="1552680"/>
            <a:ext cx="3778200" cy="515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majorimmigrationlegislation.wikispaces.com/file/view/slide.png/320535012/slide.png"/>
          <p:cNvPicPr/>
          <p:nvPr/>
        </p:nvPicPr>
        <p:blipFill>
          <a:blip r:embed="rId2"/>
          <a:srcRect l="0" t="22225" r="46669" b="17777"/>
          <a:stretch/>
        </p:blipFill>
        <p:spPr>
          <a:xfrm>
            <a:off x="203040" y="2189160"/>
            <a:ext cx="49024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and W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they c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they come 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lis Isle on t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gel Isle on 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they sett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iz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english.illinois.edu/maps/poets/a_f/angel/gallery/5.jpg"/>
          <p:cNvPicPr/>
          <p:nvPr/>
        </p:nvPicPr>
        <p:blipFill>
          <a:blip r:embed="rId2"/>
          <a:srcRect l="0" t="0" r="49392" b="0"/>
          <a:stretch/>
        </p:blipFill>
        <p:spPr>
          <a:xfrm>
            <a:off x="4952880" y="914400"/>
            <a:ext cx="2892600" cy="31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teacher.scholastic.com/activities/immigration/timeline_photos/1892_med_fullsize.jpg"/>
          <p:cNvPicPr/>
          <p:nvPr/>
        </p:nvPicPr>
        <p:blipFill>
          <a:blip r:embed="rId3"/>
          <a:srcRect l="0" t="0" r="36623" b="0"/>
          <a:stretch/>
        </p:blipFill>
        <p:spPr>
          <a:xfrm>
            <a:off x="5883120" y="2971800"/>
            <a:ext cx="31212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s are taken advantag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/childr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Capitalism allow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issez-Fair= no gov’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y owner ge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cialism fix the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2.bp.blogspot.com/-RRqhtxx_hQY/UMIl_ekSR3I/AAAAAAAAWAA/UIAHzbeE31Q/s1600/The+Ghetto,+New+York,+1900-1915.jpg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 vs 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is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Word_____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epreneurs_______their own capital = the gov’t should_____ _____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will________ industry NOT the 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Word_____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epreneurs will take______of the workers if they’re allo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’t should____ _____of the p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assistance for those in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6" descr=""/>
          <p:cNvPicPr/>
          <p:nvPr/>
        </p:nvPicPr>
        <p:blipFill>
          <a:blip r:embed="rId1"/>
          <a:stretch/>
        </p:blipFill>
        <p:spPr>
          <a:xfrm>
            <a:off x="1560600" y="5662440"/>
            <a:ext cx="61387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icecreamnation.org/wp-content/uploads/2012/05/hunter-gatherer-cartoon-by-Bizarro.gif"/>
          <p:cNvPicPr/>
          <p:nvPr/>
        </p:nvPicPr>
        <p:blipFill>
          <a:blip r:embed="rId2"/>
          <a:srcRect l="2881" t="2422" r="1982" b="3029"/>
          <a:stretch/>
        </p:blipFill>
        <p:spPr>
          <a:xfrm>
            <a:off x="457200" y="1066680"/>
            <a:ext cx="4448160" cy="52578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3"/>
          <a:stretch/>
        </p:blipFill>
        <p:spPr>
          <a:xfrm>
            <a:off x="5029200" y="1146240"/>
            <a:ext cx="3809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ashlinbsocialstudies.weebly.com/uploads/8/6/2/4/8624181/7705568_orig.png"/>
          <p:cNvPicPr/>
          <p:nvPr/>
        </p:nvPicPr>
        <p:blipFill>
          <a:blip r:embed="rId1"/>
          <a:stretch/>
        </p:blipFill>
        <p:spPr>
          <a:xfrm>
            <a:off x="0" y="10666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5" descr=""/>
          <p:cNvPicPr/>
          <p:nvPr/>
        </p:nvPicPr>
        <p:blipFill>
          <a:blip r:embed="rId2"/>
          <a:stretch/>
        </p:blipFill>
        <p:spPr>
          <a:xfrm>
            <a:off x="5334120" y="1073160"/>
            <a:ext cx="38098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1"/>
          <a:stretch/>
        </p:blipFill>
        <p:spPr>
          <a:xfrm>
            <a:off x="4498920" y="1603440"/>
            <a:ext cx="4492800" cy="285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pitalism"/>
          <p:cNvPicPr/>
          <p:nvPr/>
        </p:nvPicPr>
        <p:blipFill>
          <a:blip r:embed="rId2"/>
          <a:srcRect l="0" t="6351" r="57281" b="11118"/>
          <a:stretch/>
        </p:blipFill>
        <p:spPr>
          <a:xfrm>
            <a:off x="304920" y="15238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apitalism"/>
          <p:cNvPicPr/>
          <p:nvPr/>
        </p:nvPicPr>
        <p:blipFill>
          <a:blip r:embed="rId1"/>
          <a:srcRect l="0" t="6351" r="19172" b="11118"/>
          <a:stretch/>
        </p:blipFill>
        <p:spPr>
          <a:xfrm>
            <a:off x="304920" y="1523880"/>
            <a:ext cx="533376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5638680" y="1603440"/>
            <a:ext cx="33530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9:30:32Z</dcterms:created>
  <dc:creator>TPS</dc:creator>
  <dc:description/>
  <dc:language>en-US</dc:language>
  <cp:lastModifiedBy>csturge</cp:lastModifiedBy>
  <dcterms:modified xsi:type="dcterms:W3CDTF">2014-06-06T19:17:12Z</dcterms:modified>
  <cp:revision>366</cp:revision>
  <dc:subject/>
  <dc:title>Slide 1</dc:title>
</cp:coreProperties>
</file>