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D476-8A9F-4F2C-BD5E-EC47751FAF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Immi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from: Western European countries (England, France, Germany) and there has been a steady influx of these immigrants in the decades before 188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 culture w/ native born (European)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Immi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lture________ more from Native born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reates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vism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push to keep “American Culture” p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59E5-2276-4A6D-B40A-79D2951FD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they co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factors: “Pull” ppl to the US (jobs, political stability, freedo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factors: “Push” ppl from their native lands (war, poverty, oppress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come 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s Isle on the: on the east coast. Most of these immigrants are Europ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el Isle on the: on the west coast. Most of these immigrants are As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sett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ies: where there are lots of industrial jobs and where other immigrants from their country have settl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banization: the rapid growth of 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2DA7-7670-4661-A6C2-6803DB4A39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are taken advantag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igrants are discriminated against and paid 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/children are paid the lowest wages of 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Capitalism allow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issez-Fair= no gov’t: regulation or interference in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y owner gets to: set rules, regs, salary…the gov’t has nothing to do with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ocialism fix the probl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ists believe the gov’t should provide for the people. Every person deserves the very basics of human needs (food, housing, health) and if the people can not get it on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own it’s the job of the gov’t to provide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’t should also regulate unfair/unhealthy business pract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B7C99-2383-4297-8BA6-E8A062CC57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 Word capital: money,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repreneurs invest their own capital = the gov’t should BACK OF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ers will regulate industry NOT the gov’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 Word social: Socialists are concerned wit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cie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s a wh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repreneurs will take advantage of the workers if they’re allow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’t should take care of the pp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te indu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assistance for those in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497D-C77D-4979-9EB1-9B5D40071E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3ED-A234-4ADB-B416-DA24D84A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4DE-BA44-4A4C-902A-9309DA7E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C7D8-CBBA-4BC9-98B1-5FE6B320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A2DB-ECDF-4C85-AF3B-8130F735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8FC3-FF02-42B1-8781-B4CDE2A3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AA77-EAEA-44F7-89AD-8CC7EBF4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DBD8-ED8E-464C-8ABA-45F34FC0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A582-CF40-44D2-BBD5-32C6BE6B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D94-2FD7-490A-8417-00D20D3A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D5A-6C62-4F5D-B77A-8C265615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FCC-111F-49C0-B3CE-AE56EF39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D56-9492-4D7B-8B5A-295AD1F2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20C0-13C2-435E-B0D9-38C80C2F69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eacher.scholastic.com/activities/asian-american/angel_island/index.htm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0GFSUu5UzA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awn of New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mmigration, Urbanization and Soci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tangle 4" descr=""/>
          <p:cNvPicPr/>
          <p:nvPr/>
        </p:nvPicPr>
        <p:blipFill>
          <a:blip r:embed="rId1"/>
          <a:stretch/>
        </p:blipFill>
        <p:spPr>
          <a:xfrm>
            <a:off x="4114800" y="1219320"/>
            <a:ext cx="4346640" cy="5078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lajhsslab.com/Eastern_Europe/images/comm4.gif"/>
          <p:cNvPicPr/>
          <p:nvPr/>
        </p:nvPicPr>
        <p:blipFill>
          <a:blip r:embed="rId2"/>
          <a:stretch/>
        </p:blipFill>
        <p:spPr>
          <a:xfrm>
            <a:off x="838080" y="1600200"/>
            <a:ext cx="306720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Rectangle 4" descr=""/>
          <p:cNvPicPr/>
          <p:nvPr/>
        </p:nvPicPr>
        <p:blipFill>
          <a:blip r:embed="rId1"/>
          <a:stretch/>
        </p:blipFill>
        <p:spPr>
          <a:xfrm>
            <a:off x="3657600" y="1603440"/>
            <a:ext cx="5334120" cy="3535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dystopianb2012.wikispaces.com/file/view/OBU-Fist.jpg/300092004/300x392/OBU-Fist.jpg"/>
          <p:cNvPicPr/>
          <p:nvPr/>
        </p:nvPicPr>
        <p:blipFill>
          <a:blip r:embed="rId2"/>
          <a:stretch/>
        </p:blipFill>
        <p:spPr>
          <a:xfrm>
            <a:off x="304920" y="1600200"/>
            <a:ext cx="3238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Immigrants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2280" y="1600200"/>
            <a:ext cx="5181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 Immigr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fro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_______w/ Native born (European) Amer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Immigr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e________ more from Native born Amer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reat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tivis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http://jimsbikeblog.files.wordpress.com/2010/01/1888-cartoon-in-the-wasp-a-san-francisco-magazine-reflecting-anti-immigrant-sentiment1.gif"/>
          <p:cNvPicPr/>
          <p:nvPr/>
        </p:nvPicPr>
        <p:blipFill>
          <a:blip r:embed="rId1"/>
          <a:stretch/>
        </p:blipFill>
        <p:spPr>
          <a:xfrm>
            <a:off x="5213520" y="1552680"/>
            <a:ext cx="3778200" cy="515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majorimmigrationlegislation.wikispaces.com/file/view/slide.png/320535012/slide.png"/>
          <p:cNvPicPr/>
          <p:nvPr/>
        </p:nvPicPr>
        <p:blipFill>
          <a:blip r:embed="rId2"/>
          <a:srcRect l="0" t="22225" r="46669" b="17777"/>
          <a:stretch/>
        </p:blipFill>
        <p:spPr>
          <a:xfrm>
            <a:off x="203040" y="2189160"/>
            <a:ext cx="49024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and W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280" y="1600200"/>
            <a:ext cx="5181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id they co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l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sh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id they come 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lis Isle on t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ngel Isle on th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id they sett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t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iz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english.illinois.edu/maps/poets/a_f/angel/gallery/5.jpg"/>
          <p:cNvPicPr/>
          <p:nvPr/>
        </p:nvPicPr>
        <p:blipFill>
          <a:blip r:embed="rId2"/>
          <a:srcRect l="0" t="0" r="49392" b="0"/>
          <a:stretch/>
        </p:blipFill>
        <p:spPr>
          <a:xfrm>
            <a:off x="4952880" y="914400"/>
            <a:ext cx="2892600" cy="315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teacher.scholastic.com/activities/immigration/timeline_photos/1892_med_fullsize.jpg"/>
          <p:cNvPicPr/>
          <p:nvPr/>
        </p:nvPicPr>
        <p:blipFill>
          <a:blip r:embed="rId3"/>
          <a:srcRect l="0" t="0" r="36623" b="0"/>
          <a:stretch/>
        </p:blipFill>
        <p:spPr>
          <a:xfrm>
            <a:off x="5883120" y="2971800"/>
            <a:ext cx="31212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etter lif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280" y="1600200"/>
            <a:ext cx="5181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s are taken advantag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igra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/childr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Capitalism allow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issez-Fair= no gov’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y owner gets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Socialism fix the probl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2.bp.blogspot.com/-RRqhtxx_hQY/UMIl_ekSR3I/AAAAAAAAWAA/UIAHzbeE31Q/s1600/The+Ghetto,+New+York,+1900-1915.jpg"/>
          <p:cNvPicPr/>
          <p:nvPr/>
        </p:nvPicPr>
        <p:blipFill>
          <a:blip r:embed="rId1"/>
          <a:stretch/>
        </p:blipFill>
        <p:spPr>
          <a:xfrm>
            <a:off x="5181480" y="2209680"/>
            <a:ext cx="350532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ism vs Soc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italis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ot Word_____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repreneurs_______their own capital = the gov’t should_____ _____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umers will________ industry NOT the 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ot Word_____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repreneurs will take______of the workers if they’re allo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’t should____ _____of the p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assistance for those in n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tangle 6" descr=""/>
          <p:cNvPicPr/>
          <p:nvPr/>
        </p:nvPicPr>
        <p:blipFill>
          <a:blip r:embed="rId1"/>
          <a:stretch/>
        </p:blipFill>
        <p:spPr>
          <a:xfrm>
            <a:off x="1560600" y="5662440"/>
            <a:ext cx="61387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icecreamnation.org/wp-content/uploads/2012/05/hunter-gatherer-cartoon-by-Bizarro.gif"/>
          <p:cNvPicPr/>
          <p:nvPr/>
        </p:nvPicPr>
        <p:blipFill>
          <a:blip r:embed="rId2"/>
          <a:srcRect l="2881" t="2422" r="1982" b="3029"/>
          <a:stretch/>
        </p:blipFill>
        <p:spPr>
          <a:xfrm>
            <a:off x="457200" y="1066680"/>
            <a:ext cx="4448160" cy="52578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5" descr=""/>
          <p:cNvPicPr/>
          <p:nvPr/>
        </p:nvPicPr>
        <p:blipFill>
          <a:blip r:embed="rId3"/>
          <a:stretch/>
        </p:blipFill>
        <p:spPr>
          <a:xfrm>
            <a:off x="5029200" y="1146240"/>
            <a:ext cx="38098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ashlinbsocialstudies.weebly.com/uploads/8/6/2/4/8624181/7705568_orig.png"/>
          <p:cNvPicPr/>
          <p:nvPr/>
        </p:nvPicPr>
        <p:blipFill>
          <a:blip r:embed="rId1"/>
          <a:stretch/>
        </p:blipFill>
        <p:spPr>
          <a:xfrm>
            <a:off x="0" y="1066680"/>
            <a:ext cx="5562720" cy="5791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Rectangle 5" descr=""/>
          <p:cNvPicPr/>
          <p:nvPr/>
        </p:nvPicPr>
        <p:blipFill>
          <a:blip r:embed="rId2"/>
          <a:stretch/>
        </p:blipFill>
        <p:spPr>
          <a:xfrm>
            <a:off x="5334120" y="1073160"/>
            <a:ext cx="380988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tangle 5" descr=""/>
          <p:cNvPicPr/>
          <p:nvPr/>
        </p:nvPicPr>
        <p:blipFill>
          <a:blip r:embed="rId1"/>
          <a:stretch/>
        </p:blipFill>
        <p:spPr>
          <a:xfrm>
            <a:off x="4498920" y="1603440"/>
            <a:ext cx="4492800" cy="285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apitalism"/>
          <p:cNvPicPr/>
          <p:nvPr/>
        </p:nvPicPr>
        <p:blipFill>
          <a:blip r:embed="rId2"/>
          <a:srcRect l="0" t="6351" r="57281" b="11118"/>
          <a:stretch/>
        </p:blipFill>
        <p:spPr>
          <a:xfrm>
            <a:off x="304920" y="1523880"/>
            <a:ext cx="2819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Capitalism"/>
          <p:cNvPicPr/>
          <p:nvPr/>
        </p:nvPicPr>
        <p:blipFill>
          <a:blip r:embed="rId1"/>
          <a:srcRect l="0" t="6351" r="19172" b="11118"/>
          <a:stretch/>
        </p:blipFill>
        <p:spPr>
          <a:xfrm>
            <a:off x="304920" y="1523880"/>
            <a:ext cx="5333760" cy="396252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4" descr=""/>
          <p:cNvPicPr/>
          <p:nvPr/>
        </p:nvPicPr>
        <p:blipFill>
          <a:blip r:embed="rId2"/>
          <a:stretch/>
        </p:blipFill>
        <p:spPr>
          <a:xfrm>
            <a:off x="5638680" y="1603440"/>
            <a:ext cx="33530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9:30:32Z</dcterms:created>
  <dc:creator>TPS</dc:creator>
  <dc:description/>
  <dc:language>en-US</dc:language>
  <cp:lastModifiedBy>csturge</cp:lastModifiedBy>
  <dcterms:modified xsi:type="dcterms:W3CDTF">2014-06-06T19:17:12Z</dcterms:modified>
  <cp:revision>366</cp:revision>
  <dc:subject/>
  <dc:title>Slide 1</dc:title>
</cp:coreProperties>
</file>