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EAD1-7F80-41C6-9A64-70C8B47E1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Immig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mostly from: Western European countries (England, France, Germany) and there has been a steady influx of these immigrants in the decades before 188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e culture w/ native born (European)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Immig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lture________ more from Native born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reates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ativism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e push to keep “American Culture” p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5AA8-54DE-4A66-A76E-D4836877BC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id they co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l factors: “Pull” ppl to the US (jobs, political stability, freedo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factors: “Push” ppl from their native lands (war, poverty, oppress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come 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s Isle on the: on the east coast. Most of these immigrants are Europ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gel Isle on the: on the west coast. Most of these immigrants are As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sett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ties: where there are lots of industrial jobs and where other immigrants from their country have settl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banization: the rapid growth of c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C66A-3531-48F7-9C57-BA07DC5281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rs are taken advantag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migrants are discriminated against and paid 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/children are paid the lowest wages of 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Capitalism allow th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issez-Fair= no gov’t: regulation or interference in 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y owner gets to: set rules, regs, salary…the gov’t has nothing to do with busi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Socialism fix the probl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ists believe the gov’t should provide for the people. Every person deserves the very basics of human needs (food, housing, health) and if the people can not get it on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own it’s the job of the gov’t to provide 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’t should also regulate unfair/unhealthy business pract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2BC2-71FC-4DA8-8E7A-8EC734F1F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apita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 Word capital: money,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repreneurs invest their own capital = the gov’t should BACK OF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umers will regulate industry NOT the gov’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ocia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ot Word social: Socialists are concerned with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ocie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s a wh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repreneurs will take advantage of the workers if they’re allow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’t should take care of the pp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te indu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assistance for those in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8960-D4C8-4797-B908-D120736034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821D-D0C6-472C-AE3E-03FDE12F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6B0-5A21-4206-9619-E3D37867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1603-980E-45C3-994F-AC224199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4E7F-BBC4-4B76-9F30-08D9F0127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ADE-E0A4-4EF3-A6BD-C54DAECE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537-FE4A-426F-BBD1-29C9D137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74A-DFB1-46AA-B76D-4C149742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922-49B5-4431-953C-501ED47E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E584-A03E-446F-8D1A-9B6F4A3A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260-BFAD-4E3E-BAB7-85BA6BC8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FC3-D7A0-416A-9A0C-92854134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0C6-0675-4825-B8D1-D8A5933C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1932-E326-4B97-9463-34A6492E0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eacher.scholastic.com/activities/asian-american/angel_island/index.htm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W0GFSUu5UzA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awn of New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mmigration, Urbanization and Socia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story according to Mar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Rectangle 4" descr=""/>
          <p:cNvPicPr/>
          <p:nvPr/>
        </p:nvPicPr>
        <p:blipFill>
          <a:blip r:embed="rId1"/>
          <a:stretch/>
        </p:blipFill>
        <p:spPr>
          <a:xfrm>
            <a:off x="4114800" y="1219320"/>
            <a:ext cx="4346640" cy="5078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http://lajhsslab.com/Eastern_Europe/images/comm4.gif"/>
          <p:cNvPicPr/>
          <p:nvPr/>
        </p:nvPicPr>
        <p:blipFill>
          <a:blip r:embed="rId2"/>
          <a:stretch/>
        </p:blipFill>
        <p:spPr>
          <a:xfrm>
            <a:off x="838080" y="1600200"/>
            <a:ext cx="3067200" cy="43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story according to Mar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Rectangle 4" descr=""/>
          <p:cNvPicPr/>
          <p:nvPr/>
        </p:nvPicPr>
        <p:blipFill>
          <a:blip r:embed="rId1"/>
          <a:stretch/>
        </p:blipFill>
        <p:spPr>
          <a:xfrm>
            <a:off x="3657600" y="1603440"/>
            <a:ext cx="5334120" cy="3535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dystopianb2012.wikispaces.com/file/view/OBU-Fist.jpg/300092004/300x392/OBU-Fist.jpg"/>
          <p:cNvPicPr/>
          <p:nvPr/>
        </p:nvPicPr>
        <p:blipFill>
          <a:blip r:embed="rId2"/>
          <a:stretch/>
        </p:blipFill>
        <p:spPr>
          <a:xfrm>
            <a:off x="304920" y="1600200"/>
            <a:ext cx="3238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Immigrants”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52280" y="1600200"/>
            <a:ext cx="5181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ld Immigr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fro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e_______w/ Native born (European) Americ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Immigr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lture________ more from Native born Americ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creat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ativis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http://jimsbikeblog.files.wordpress.com/2010/01/1888-cartoon-in-the-wasp-a-san-francisco-magazine-reflecting-anti-immigrant-sentiment1.gif"/>
          <p:cNvPicPr/>
          <p:nvPr/>
        </p:nvPicPr>
        <p:blipFill>
          <a:blip r:embed="rId1"/>
          <a:stretch/>
        </p:blipFill>
        <p:spPr>
          <a:xfrm>
            <a:off x="5213520" y="1552680"/>
            <a:ext cx="3778200" cy="5153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majorimmigrationlegislation.wikispaces.com/file/view/slide.png/320535012/slide.png"/>
          <p:cNvPicPr/>
          <p:nvPr/>
        </p:nvPicPr>
        <p:blipFill>
          <a:blip r:embed="rId2"/>
          <a:srcRect l="0" t="22225" r="46669" b="17777"/>
          <a:stretch/>
        </p:blipFill>
        <p:spPr>
          <a:xfrm>
            <a:off x="203040" y="2189160"/>
            <a:ext cx="490248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and W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280" y="1600200"/>
            <a:ext cx="5181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id they com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ll facto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sh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id they come 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lis Isle on th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ngel Isle on th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did they sett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t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baniz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www.english.illinois.edu/maps/poets/a_f/angel/gallery/5.jpg"/>
          <p:cNvPicPr/>
          <p:nvPr/>
        </p:nvPicPr>
        <p:blipFill>
          <a:blip r:embed="rId2"/>
          <a:srcRect l="0" t="0" r="49392" b="0"/>
          <a:stretch/>
        </p:blipFill>
        <p:spPr>
          <a:xfrm>
            <a:off x="4952880" y="914400"/>
            <a:ext cx="2892600" cy="3152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teacher.scholastic.com/activities/immigration/timeline_photos/1892_med_fullsize.jpg"/>
          <p:cNvPicPr/>
          <p:nvPr/>
        </p:nvPicPr>
        <p:blipFill>
          <a:blip r:embed="rId3"/>
          <a:srcRect l="0" t="0" r="36623" b="0"/>
          <a:stretch/>
        </p:blipFill>
        <p:spPr>
          <a:xfrm>
            <a:off x="5883120" y="2971800"/>
            <a:ext cx="312120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etter lif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2280" y="1600200"/>
            <a:ext cx="5181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ers are taken advantag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migra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men/childr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 Capitalism allow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issez-Fair= no gov’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tory owner gets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Socialism fix the probl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2.bp.blogspot.com/-RRqhtxx_hQY/UMIl_ekSR3I/AAAAAAAAWAA/UIAHzbeE31Q/s1600/The+Ghetto,+New+York,+1900-1915.jpg"/>
          <p:cNvPicPr/>
          <p:nvPr/>
        </p:nvPicPr>
        <p:blipFill>
          <a:blip r:embed="rId1"/>
          <a:stretch/>
        </p:blipFill>
        <p:spPr>
          <a:xfrm>
            <a:off x="5181480" y="2209680"/>
            <a:ext cx="350532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alism vs Soci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pitalism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ot Word_____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repreneurs_______their own capital = the gov’t should_____ _____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umers will________ industry NOT the ______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cial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ot Word_____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trepreneurs will take______of the workers if they’re allo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’t should____ _____of the pp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assistance for those in n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Rectangle 6" descr=""/>
          <p:cNvPicPr/>
          <p:nvPr/>
        </p:nvPicPr>
        <p:blipFill>
          <a:blip r:embed="rId1"/>
          <a:stretch/>
        </p:blipFill>
        <p:spPr>
          <a:xfrm>
            <a:off x="1560600" y="5662440"/>
            <a:ext cx="613872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istory according to Mar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http://www.icecreamnation.org/wp-content/uploads/2012/05/hunter-gatherer-cartoon-by-Bizarro.gif"/>
          <p:cNvPicPr/>
          <p:nvPr/>
        </p:nvPicPr>
        <p:blipFill>
          <a:blip r:embed="rId2"/>
          <a:srcRect l="2881" t="2422" r="1982" b="3029"/>
          <a:stretch/>
        </p:blipFill>
        <p:spPr>
          <a:xfrm>
            <a:off x="457200" y="1066680"/>
            <a:ext cx="4448160" cy="5257800"/>
          </a:xfrm>
          <a:prstGeom prst="rect">
            <a:avLst/>
          </a:prstGeom>
          <a:ln w="0">
            <a:noFill/>
          </a:ln>
        </p:spPr>
      </p:pic>
      <p:pic>
        <p:nvPicPr>
          <p:cNvPr id="69" name="Rectangle 5" descr=""/>
          <p:cNvPicPr/>
          <p:nvPr/>
        </p:nvPicPr>
        <p:blipFill>
          <a:blip r:embed="rId3"/>
          <a:stretch/>
        </p:blipFill>
        <p:spPr>
          <a:xfrm>
            <a:off x="5029200" y="1146240"/>
            <a:ext cx="38098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http://ashlinbsocialstudies.weebly.com/uploads/8/6/2/4/8624181/7705568_orig.png"/>
          <p:cNvPicPr/>
          <p:nvPr/>
        </p:nvPicPr>
        <p:blipFill>
          <a:blip r:embed="rId1"/>
          <a:stretch/>
        </p:blipFill>
        <p:spPr>
          <a:xfrm>
            <a:off x="0" y="1066680"/>
            <a:ext cx="5562720" cy="5791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story according to Mar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Rectangle 5" descr=""/>
          <p:cNvPicPr/>
          <p:nvPr/>
        </p:nvPicPr>
        <p:blipFill>
          <a:blip r:embed="rId2"/>
          <a:stretch/>
        </p:blipFill>
        <p:spPr>
          <a:xfrm>
            <a:off x="5334120" y="1073160"/>
            <a:ext cx="380988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story according to Mar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Rectangle 5" descr=""/>
          <p:cNvPicPr/>
          <p:nvPr/>
        </p:nvPicPr>
        <p:blipFill>
          <a:blip r:embed="rId1"/>
          <a:stretch/>
        </p:blipFill>
        <p:spPr>
          <a:xfrm>
            <a:off x="4498920" y="1603440"/>
            <a:ext cx="4492800" cy="285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apitalism"/>
          <p:cNvPicPr/>
          <p:nvPr/>
        </p:nvPicPr>
        <p:blipFill>
          <a:blip r:embed="rId2"/>
          <a:srcRect l="0" t="6351" r="57281" b="11118"/>
          <a:stretch/>
        </p:blipFill>
        <p:spPr>
          <a:xfrm>
            <a:off x="304920" y="1523880"/>
            <a:ext cx="2819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istory according to Marx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Capitalism"/>
          <p:cNvPicPr/>
          <p:nvPr/>
        </p:nvPicPr>
        <p:blipFill>
          <a:blip r:embed="rId1"/>
          <a:srcRect l="0" t="6351" r="19172" b="11118"/>
          <a:stretch/>
        </p:blipFill>
        <p:spPr>
          <a:xfrm>
            <a:off x="304920" y="1523880"/>
            <a:ext cx="5333760" cy="396252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4" descr=""/>
          <p:cNvPicPr/>
          <p:nvPr/>
        </p:nvPicPr>
        <p:blipFill>
          <a:blip r:embed="rId2"/>
          <a:stretch/>
        </p:blipFill>
        <p:spPr>
          <a:xfrm>
            <a:off x="5638680" y="1603440"/>
            <a:ext cx="335304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9:30:32Z</dcterms:created>
  <dc:creator>TPS</dc:creator>
  <dc:description/>
  <dc:language>en-US</dc:language>
  <cp:lastModifiedBy>csturge</cp:lastModifiedBy>
  <dcterms:modified xsi:type="dcterms:W3CDTF">2014-06-06T19:17:12Z</dcterms:modified>
  <cp:revision>366</cp:revision>
  <dc:subject/>
  <dc:title>Slide 1</dc:title>
</cp:coreProperties>
</file>