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935-D972-4A11-9C07-CBF6DDA6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D18-08BB-4B57-A90F-B993D02D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07FE-B3C9-4352-BDBB-42ACD4D8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1244-E4F8-4D95-B514-307836DC4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A701-BA18-4912-8675-2DC2A470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6A50-54CB-40F1-A8B0-18D0AE23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8693-37F7-4537-8B7C-C6B72632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CA76-83D6-41CE-A0B7-F182CBEF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D65D-83E4-4226-BC5B-C104406D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327D-2512-467C-ADB6-086DBA88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42D2-0BDA-445E-BCE9-28D59E4F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E0A-AD52-4A8E-9758-C260B635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FC29-26BD-454E-BFC5-0C206CCE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66CC-CB60-4867-8EF1-CAEB7A3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B872-C4DC-4A51-A5E6-E9AA9723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C6BC-E6B6-41DB-ABC7-CE7A51B07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CAF-E11F-457E-B564-FFDC2A92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CD6D-E9E7-4EBE-9BD3-553D0DD7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8271-A14E-4C4E-8A6D-989744BF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BC8-32ED-41AD-8E42-FDCE6AD3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80A-7825-4A80-A5DC-D794ACB0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CE2-9790-4074-9F0F-C93F207E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EC2-DF77-4A14-ABB8-EF33406D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6F7-2A0E-4441-93F1-69A5B4C3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E8CA-7E1F-4421-A8C6-BAE48BFCA9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AC4D-7660-41F7-8C38-B24D05521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d-term Review Ga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ond most represented demographic of Hispanic Americans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rto Ri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n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tru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bout Puerto Rican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US citiz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an vote for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an choose their own local gov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 US commonw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rue about the Spanish-American Wa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gains control of Cuba, Puerto Rico and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gains control of Cuba, Puerto Rico, Guam and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gains control of Puerto Rico, Guam and the Philippines; Cuba is a protecto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gains control of Puerto Rico, Cuba and the Philippines; Guam is a protecto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ban immigration in the 20</a:t>
            </a:r>
            <a:r>
              <a:rPr b="0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entury was sparked after what ev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ban revolution and Castro’s rise to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y of Pi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n Missile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of Batis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started the Cuban Missile Crisi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suspicion that Cuba was making nuclear weap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n suspicion that the US was making nuclear weap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uspicion that USSR was housing nuclear weapons in Cu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n suspicion that US was housing nuclear weapons in Cu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did JFK order the Bay of Pigs invasion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ncourage Cubans to over throw Cas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courage Cuban to over throw Bat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courage Cuban to over throw Che Guev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unish the Cuban gov’t for refusing to trade with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he “model minority?”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ing to Asians who advance further than their white counter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ing to Hispanic Americans who advance further than their white counter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ing to Asian Americans who achieve the “American Drea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ing to minorities who become completely American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ost populace country in the world i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In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Mex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ost densely populated country in the world i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In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Mex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law, (enacted in 1883) was supposed to ban Chinese immigration for 10 years but was not repealed until 1943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984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Civil Liberties Act of 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Chinese Exclusion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Executive Order 906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Alien Land A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st Hispanic Americans are of _________heritage.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b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Puerto Ric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Mexic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S. America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conomies of Chinatowns are reliant on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Drug traff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T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Cas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 Tou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igion in the People’s Republic of China is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Forb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Discour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Encour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Embra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rue about the traditional Chinese American fami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The father is the head of the house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Is understanding of a defiant ch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The word of the parent is absol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Stresses the importance of the extended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are cooli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461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Asian farm wor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Asian sl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Beverage shops in Chinat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A derogatory term for Chinese immigra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irst Chinese workers in the US were_________but, starting in the 1860s, most worked for_____________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747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rs, Central Pacific Rail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rs, homeow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aves, mining compa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R workers, mining compan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hinese Exclusion Act was the first tim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747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igrants were denied entry to the US based on r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jure segregation was used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immigrants were treated ba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 regulated movement in the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sei, Nisei, Sansei and Yonsei are Japanese terms dealing wit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De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Int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Years in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Generations of Japanese Americans in  Amer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last four terms represent most of the Japanese Americans in the country becaus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0224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Japanese immigration is so re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ese immigrants do not stay in America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The US government does not allow Japanese immigration any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The Chinese Exclusion Act also applied to Japanese immigr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initiated Executive Order 9066 in 1942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224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Woodrow 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Teddy Roosev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Bill Clin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Franklin Rooseve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were the Japanese placed in internment camps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0224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Many Japanese Americans were s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 bombed Pearl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Japanese Americans were violently protesting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Japanese Americans were very unpatrio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erm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panic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efers to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A common skin col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A common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A common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Identical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ellow Peril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feeling of hatred towards the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passed in 1913 and made it difficult for Japanese immigrant to own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eneralized prejudice towards Asians and their cul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Asian American worker’s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lien Land Ac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feeling of hatred towards the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passed in 1913 and made it difficult for Japanese immigrant to own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another name for EO 906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Asian American worker’s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ivil Liberties Ac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perceived ‘threats to national security’ in Internment Camp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raged hatred towards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ssed the moral superiority of the Black 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reparations to be paid to survivors of the Internment camps and/or their famil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placed perceived ‘threats to national security’ in Internment Camps?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 removal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Order 906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tlemen's Agre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 Exclusion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 signed the Gentlemen's Agreement with Japan stating he would _________ if Japan would no longer___________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2510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criminals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unskilled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children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immigrants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eeling of unity among ethnic subgroups describes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Paneth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Imagined Heri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Bilingua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is an area of common Hispanic and American culture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het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quilad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der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he significance of the Mexican-American wa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 doubled in size making thousands of Mexicans aliens in their former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S established itself as a ‘peace keeper’ in her intervention in Mexican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xicans took the Nevada and Utah Territories back from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aid ushered Mexico into an age of prosperity and industrializ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a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cero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exican business owner brought to the US to help build the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xican laborer brought to the US to work in agri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Hispanic laborer brought to the US to work in agri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llegal agricultural work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rue about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cero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ystem is still used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was created during the S-A War B/c the labor force was dwi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short time Mexican workers were treated with res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ceros were treated and lived better than Mexican America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was the UFW important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as the first farm workers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he first time farm workers union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sar Chavez was able to run for governor of Califor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he first successful farm worker’s un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1:56:16Z</dcterms:created>
  <dc:creator>TPS</dc:creator>
  <dc:description/>
  <dc:language>en-US</dc:language>
  <cp:lastModifiedBy>IT Clone User</cp:lastModifiedBy>
  <dcterms:modified xsi:type="dcterms:W3CDTF">2009-11-16T15:02:26Z</dcterms:modified>
  <cp:revision>13</cp:revision>
  <dc:subject/>
  <dc:title>Final Review Game</dc:title>
</cp:coreProperties>
</file>