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3F90-3764-4DB7-BB78-4E1227C7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47FD-6FC3-42A1-BDD7-590E4F43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C77A-293C-437D-BBB3-3CF342E3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0DB1-651E-4B6D-8D42-0F9CA1A2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9495-3132-449B-8CC7-43F5DE665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ADCB-EA0B-4534-B620-642CA703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1AB92-B829-4260-8B55-6D67D5D2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0910E-58DE-469D-A01B-F910810F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97E4-9516-4093-A7E9-549F4EC5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3FA8-E9EE-4BD6-A64B-9D9C4D43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CE9C-89E8-4C79-A1FD-B263BFD9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427-51AA-402C-8066-A67C1E8E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F8E9-AD68-4CAE-ADC1-05B1D83D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5BA9-11D4-41B4-A287-77210DDD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6CD0-A1B5-4EF3-932C-11D26239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FD1F-E28C-4D8C-B08F-3298C8F4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EFAE-A58E-45A3-A486-76E5EE8E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8D58-C634-4D16-82B6-6BA2981C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F7F2-E85C-4A8A-8F6B-10A71EB0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BF43-58D3-46E1-81B8-B906C327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F750-FF3F-4D69-8C89-107BFC87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A442-E87F-49A6-8853-A4943E43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D323-36D1-459A-8DC1-D6CD732A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2F76-4435-4A36-8E2C-0C9E902B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08B0-7A7C-48C6-8257-D531D60480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>
                <a:gd name="textAreaLeft" fmla="*/ 0 w 6132600"/>
                <a:gd name="textAreaRight" fmla="*/ 6132960 w 6132600"/>
                <a:gd name="textAreaTop" fmla="*/ 0 h 6173640"/>
                <a:gd name="textAreaBottom" fmla="*/ 6174000 h 6173640"/>
              </a:gdLst>
              <a:ahLst/>
              <a:rect l="textAreaLeft" t="textAreaTop" r="textAreaRight" b="textAreaBottom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0 h 5116680"/>
                <a:gd name="textAreaBottom" fmla="*/ 5116680 h 5116680"/>
              </a:gdLst>
              <a:ahLst/>
              <a:rect l="textAreaLeft" t="textAreaTop" r="textAreaRight" b="textAreaBottom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>
                <a:gd name="textAreaLeft" fmla="*/ 0 w 4538520"/>
                <a:gd name="textAreaRight" fmla="*/ 4538880 w 4538520"/>
                <a:gd name="textAreaTop" fmla="*/ 0 h 4057560"/>
                <a:gd name="textAreaBottom" fmla="*/ 4057920 h 4057560"/>
              </a:gdLst>
              <a:ahLst/>
              <a:rect l="textAreaLeft" t="textAreaTop" r="textAreaRight" b="textAreaBottom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>
                <a:gd name="textAreaLeft" fmla="*/ 0 w 3628800"/>
                <a:gd name="textAreaRight" fmla="*/ 3629160 w 3628800"/>
                <a:gd name="textAreaTop" fmla="*/ 0 h 3367080"/>
                <a:gd name="textAreaBottom" fmla="*/ 3367440 h 3367080"/>
              </a:gdLst>
              <a:ahLst/>
              <a:rect l="textAreaLeft" t="textAreaTop" r="textAreaRight" b="textAreaBottom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EE73-1AE2-4DA4-BD03-C3DED5686E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d-term Review Ga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second most represented demographic of Hispanic Americans: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erto Ric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b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ani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. Americ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is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t tru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bout Puerto Ricans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y are US citize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can vote for presid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can choose their own local gov’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a US commonweal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is true about the Spanish-American War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 gains control of Cuba, Puerto Rico and the Philipp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gains control of Cuba, Puerto Rico, Guam and the Philipp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gains control of Puerto Rico, Guam and the Philippines; Cuba is a protecto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gains control of Puerto Rico, Cuba and the Philippines; Guam is a protecto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ban immigration in the 20</a:t>
            </a:r>
            <a:r>
              <a:rPr b="0" lang="en-US" sz="4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entury was sparked after what eve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ban revolution and Castro’s rise to po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y of Pi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ban Missile Cri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ath of Batist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started the Cuban Missile Crisis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 suspicion that Cuba was making nuclear weap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ban suspicion that the US was making nuclear weap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suspicion that USSR was housing nuclear weapons in Cu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ssian suspicion that US was housing nuclear weapons in Cub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did JFK order the Bay of Pigs invasion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encourage Cubans to over throw Castr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courage Cuban to over throw Batis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encourage Cuban to over throw Che Gueva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unish the Cuban gov’t for refusing to trade with the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is the “model minority?” 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ring to Asians who advance further than their white counter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ring to Hispanic Americans who advance further than their white counterpa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ring to Asian Americans who achieve the “American Dream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ring to minorities who become completely Americaniz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most populace country in the world is: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      In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      Jap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      Mex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      Ch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most densely populated country in the world is: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      In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      Jap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      Mex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      Ch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s law, (enacted in 1883) was supposed to ban Chinese immigration for 10 years but was not repealed until 1943.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984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      Civil Liberties Act of 198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      Chinese Exclusion 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      Executive Order 906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    Alien Land Ac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st Hispanic Americans are of _________heritage.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     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ba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    Puerto Rica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     Mexica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      S. America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economies of Chinatowns are reliant on: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      Drug traffi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      Tr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      Casin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     Touris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ligion in the People’s Republic of China is: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      Forbid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      Discoura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      Encoura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    Embra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is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rue about the traditional Chinese American family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      The father is the head of the househ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      Is understanding of a defiant chi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      The word of the parent is absolu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      Stresses the importance of the extended fam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are coolie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461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      Asian farm work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      Asian sla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      Beverage shops in Chinat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    A derogatory term for Chinese immigrant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first Chinese workers in the US were_________but, starting in the 1860s, most worked for_____________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1747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ers, Central Pacific Railro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ers, homeow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aves, mining compan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R workers, mining compan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Chinese Exclusion Act was the first time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17476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migrants were denied entry to the US based on rac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jure segregation was used in the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nese immigrants were treated bad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S regulated movement in the cou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ssei, Nisei, Sansei and Yonsei are Japanese terms dealing with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      Depor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      Inter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      Years in sch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  Generations of Japanese Americans in  Americ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last four terms represent most of the Japanese Americans in the country because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2022480"/>
            <a:ext cx="91440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      Japanese immigration is so rec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      Japanese immigrants do not stay in America lo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      The US government does not allow Japanese immigration anym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    The Chinese Exclusion Act also applied to Japanese immigra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o initiated Executive Order 9066 in 1942?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2022480"/>
            <a:ext cx="91440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      Woodrow Wil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      Teddy Roosevel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      Bill Clin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      Franklin Roosevel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were the Japanese placed in internment camps?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2022480"/>
            <a:ext cx="91440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      Many Japanese Americans were sp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      Japan bombed Pearl Har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      Japanese Americans were violently protesting the w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      Japanese Americans were very unpatrio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term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spanic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refers to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 A common skin col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 A common langu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 A common cou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Identical cul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Yellow Peril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feeling of hatred towards the J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s passed in 1913 and made it difficult for Japanese immigrant to own 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generalized prejudice towards Asians and their cult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Asian American worker’s u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Alien Land Act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feeling of hatred towards the J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s passed in 1913 and made it difficult for Japanese immigrant to own 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s another name for EO 906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irst Asian American worker’s u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ivil Liberties Act: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d perceived ‘threats to national security’ in Internment Camp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ouraged hatred towards Je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essed the moral superiority of the Black 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d reparations to be paid to survivors of the Internment camps and/or their famili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placed perceived ‘threats to national security’ in Internment Camps?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panese removal 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ive Order 906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tlemen's Agreem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panese Exclusion 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 signed the Gentlemen's Agreement with Japan stating he would _________ if Japan would no longer___________ 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2251080"/>
            <a:ext cx="91440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egregate schools, send criminals to U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egregate schools, send unskilled to U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egregate schools, send children to U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egregate schools, send immigrants to U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feeling of unity among ethnic subgroups describes: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. Panethn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 Imagined Heri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. Trac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. Bilingual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is is an area of common Hispanic and American culture.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1536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rv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het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quilado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rderl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is the significance of the Mexican-American war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US doubled in size making thousands of Mexicans aliens in their former coun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US established itself as a ‘peace keeper’ in her intervention in Mexican indepen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xicans took the Nevada and Utah Territories back from the 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93560" indent="-49356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 aid ushered Mexico into an age of prosperity and industrializa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is a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racero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exican business owner brought to the US to help build the econom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Mexican laborer brought to the US to work in agricul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Hispanic laborer brought to the US to work in agricul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illegal agricultural work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is true about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raceros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system is still used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ystem was created during the S-A War B/c the labor force was dwind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a short time Mexican workers were treated with resp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aceros were treated and lived better than Mexican America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was the UFW important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was the first farm workers u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as the first time farm workers unioniz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sar Chavez was able to run for governor of Californ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as the first successful farm worker’s un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3T11:56:16Z</dcterms:created>
  <dc:creator>TPS</dc:creator>
  <dc:description/>
  <dc:language>en-US</dc:language>
  <cp:lastModifiedBy>IT Clone User</cp:lastModifiedBy>
  <dcterms:modified xsi:type="dcterms:W3CDTF">2009-11-16T15:02:26Z</dcterms:modified>
  <cp:revision>13</cp:revision>
  <dc:subject/>
  <dc:title>Final Review Game</dc:title>
</cp:coreProperties>
</file>