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3DF-258B-47BF-80D1-32DAE8A5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4D8B-B4F2-4EBD-AA58-014AB364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A69-6335-41A6-A927-838ECABB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C6C-E130-4C91-BC5C-C7F25F20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6F7-2512-4540-8673-E2BF7B15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3FB0-F08F-4DB8-8B45-AF4A674E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404-BC42-4D7F-A73B-66EF43E8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9F3-D505-4F41-9AC5-036CD94A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582-C613-4B10-ADD3-7853793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8FDC-FFAD-4204-BD2F-F0CDD066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0BBA-CE4B-4CE2-B61B-D267E49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BD3-17A5-4BAC-93E1-3F60223E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C8D6-907B-465B-B630-4615B5DF1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ul Smith, Steven Smith, Lilly L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t. has been involved in the education of Native Americans since 19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Navajo community college was called the Dine’ Colle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rollment to colleges increased from the 1970’s to the 1990’s, but the completion of professional degrees may be decl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53% percent of the student leave at the end of their first year because the curriculum is not representative of their culture. So they go to tribal colleg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haskell.edu/images/climate_haskell_logo.gif"/>
          <p:cNvPicPr/>
          <p:nvPr/>
        </p:nvPicPr>
        <p:blipFill>
          <a:blip r:embed="rId1"/>
          <a:stretch/>
        </p:blipFill>
        <p:spPr>
          <a:xfrm>
            <a:off x="0" y="0"/>
            <a:ext cx="1800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 attai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rious problem in  native American  education  has been the unusually low level of enroll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hildren never attend  school, or they leave in elementary school and never retu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 drop  out rate is at least 50% higher than that of black or Hispanic students and nearly 3 times that of white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out is an inappropriate word they like to call it kick out or push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weac.org/sharephotos/2005-06/march06/mascots/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Of Schoo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1990 National Survey- 48% of all schools that Native American children attend, there is not a single Native teacher in their scho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ized tests that do not require a knowledge of English; Native Ameri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 score at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ve the levels of wh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Effect (test sco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r to be lower); 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s are given in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their Nativ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noozhawk.com/images/uploads/0712Warrior550.jpg"/>
          <p:cNvPicPr/>
          <p:nvPr/>
        </p:nvPicPr>
        <p:blipFill>
          <a:blip r:embed="rId1"/>
          <a:stretch/>
        </p:blipFill>
        <p:spPr>
          <a:xfrm>
            <a:off x="5105520" y="297180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58:07Z</dcterms:created>
  <dc:creator>TPS</dc:creator>
  <dc:description/>
  <dc:language>en-US</dc:language>
  <cp:lastModifiedBy>TPS</cp:lastModifiedBy>
  <dcterms:modified xsi:type="dcterms:W3CDTF">2009-01-26T21:21:25Z</dcterms:modified>
  <cp:revision>6</cp:revision>
  <dc:subject/>
  <dc:title>Education</dc:title>
</cp:coreProperties>
</file>