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859-FD3B-4FEB-B9C5-6A6CC376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986-1BEA-4273-8B98-E18337DA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CFB-BD4B-44D5-93DB-F02DF5FE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3171-46AC-4D02-BDAE-AD4B88BC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0DEF-BE43-4095-ADC3-4DE328A7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2E6-02A4-4F4A-85DC-10CB195C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29B-FB54-44AD-BFDC-EB82685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0192-9926-4728-B175-3F21E4AD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7578-E938-416A-9A05-12240677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C4C-0165-40D4-82C5-AE183E9E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E375-2966-4ABF-8AD1-6C188B9A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3ED-4102-4B91-BF89-DB865B7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A0F0-0FC0-4A0F-BC76-1714183F3B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Paul Smith, Steven Smith, Lilly Li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t. has been involved in the education of Native Americans since 197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first Navajo community college was called the Dine’ Colle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rollment to colleges increased from the 1970’s to the 1990’s, but the completion of professional degrees may be decl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53% percent of the student leave at the end of their first year because the curriculum is not representative of their culture. So they go to tribal colleg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haskell.edu/images/climate_haskell_logo.gif"/>
          <p:cNvPicPr/>
          <p:nvPr/>
        </p:nvPicPr>
        <p:blipFill>
          <a:blip r:embed="rId1"/>
          <a:stretch/>
        </p:blipFill>
        <p:spPr>
          <a:xfrm>
            <a:off x="0" y="0"/>
            <a:ext cx="1800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 attai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erious problem in  native American  education  has been the unusually low level of enroll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hildren never attend  school, or they leave in elementary school and never retur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high drop  out rate is at least 50% higher than that of black or Hispanic students and nearly 3 times that of white stu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out is an inappropriate word they like to call it kick out or push 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weac.org/sharephotos/2005-06/march06/mascots/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Of Schoo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a 1990 National Survey- 48% of all schools that Native American children attend, there is not a single Native teacher in their scho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ized tests that do not require a knowledge of English; Native Ameri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ldren score at 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ve the levels of wh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ssover Effect (test sco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ear to be lower);  wh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s are given in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tead of their Native Langu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www.noozhawk.com/images/uploads/0712Warrior550.jpg"/>
          <p:cNvPicPr/>
          <p:nvPr/>
        </p:nvPicPr>
        <p:blipFill>
          <a:blip r:embed="rId1"/>
          <a:stretch/>
        </p:blipFill>
        <p:spPr>
          <a:xfrm>
            <a:off x="5105520" y="2971800"/>
            <a:ext cx="4038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58:07Z</dcterms:created>
  <dc:creator>TPS</dc:creator>
  <dc:description/>
  <dc:language>en-US</dc:language>
  <cp:lastModifiedBy>TPS</cp:lastModifiedBy>
  <dcterms:modified xsi:type="dcterms:W3CDTF">2009-01-26T21:21:25Z</dcterms:modified>
  <cp:revision>6</cp:revision>
  <dc:subject/>
  <dc:title>Education</dc:title>
</cp:coreProperties>
</file>