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0A9F-8246-41B1-9FBB-BDC635F6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133F-A226-4B98-9D14-41A14A06E1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00F-C466-4CD3-B697-E70253A3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67A-9097-4125-A767-B1F017D19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740B-9032-4B50-9AF2-1A688CD6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B77-8633-4647-99F5-23A96DAC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2102-0F78-4F73-9EF1-28E4BE6B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14A5-0928-4E19-B18A-BD6CFECD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FB6F-4F52-45BB-B810-0251B8BD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591E-A8CC-4C16-925E-D7149349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8B0F-F682-4AD8-8B9F-ECF86B9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6C7F-BE8A-4867-9543-13BD1DD6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0445-6BF8-4110-AFED-922CF07C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691-1D1D-46AD-B831-4AA64729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6AE8-1BD4-4377-B7D9-63032182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E729-AA2D-4DD4-906C-945788A1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3F71-E90A-4742-8358-4E38DA74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8A5B-F5D6-4638-BA56-8D1AE9038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8AEF-FF74-466E-AFEC-D5A29405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8C6C6-0957-4C34-9ADD-E60163B5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EE6D1-06BD-451F-BA26-BD1AF805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EC80-2CEC-4867-9517-A19BC19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5BE38-3CE3-4A77-BEB7-8F26EBAE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E0FC3-F169-40FA-A659-9D25F58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1AFE-0739-4D5E-AE9E-B7B086D9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FD63-B701-4ED3-9554-AB3FAEC5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6A645-9887-467A-BA16-B4E64497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21FA-8149-4A9E-B5BD-53A7FF08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DB04-7415-4AA2-9D03-148A464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B600-2EB6-4AD2-A5C1-ED143FE2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43FC0-F7A8-43F0-9665-E98B00D4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C805A-A9B6-4BAB-8CF8-7D3FD7F3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2EB56-175B-4A0B-B3B1-4C9ACD32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E6DC1-4203-4749-ABCE-42635869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6525-C908-4BC9-BD52-3790973B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7AF-3DCC-45AA-9AE0-E0725A26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F52A-C843-4C95-8E3A-FE932C1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A520-B610-405F-AFFE-199419F3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CA8DE-3B25-41BE-9B03-64C11554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0254D-182A-42EA-BF94-396636F9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C34C1-6897-4A18-AF43-09ABAAF5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BED2-AB84-48C5-9274-72438504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43090-5BC4-49D1-B902-3FA2734D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5EE0-1301-456A-9056-A78E301C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88E79-7042-4DA0-9912-2563935F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06317-1E38-480A-8CE1-4FC18ECD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534C-D257-4139-ACD9-38F12370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8CF9E-3D39-402C-9F14-E1322880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AF3E-357A-40D0-BCB0-7AB346CA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5A93-0EC6-4690-A5CA-A17D558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A58A-8E06-4147-82C3-77F2DC5D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11D91-CFA6-4978-8807-395D81D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BF48-35E4-4B9E-B8DA-A32C4E76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2C810-376C-4AFC-A6A1-74B4C093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CEA9D-C1B8-499E-93AA-5A99722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9A76-EA61-4AC2-9789-361CD03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99C3E-C1AB-469B-8D69-64E69716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55B-9EB1-4AE4-BD07-A333CCEA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A5BDF-BE96-45D1-BC19-010AA216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479D-BA56-4BC1-9C11-6C507182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971-E0F4-43E9-BE0D-68625CBA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FA5-D2C1-47F6-AAA8-5E94910A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0" y="798480"/>
            <a:ext cx="9144000" cy="5907240"/>
            <a:chOff x="0" y="798480"/>
            <a:chExt cx="9144000" cy="59072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400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C31-ED2E-49A2-81EB-BEFF61922CF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0" y="798480"/>
            <a:ext cx="9144000" cy="5907240"/>
            <a:chOff x="0" y="798480"/>
            <a:chExt cx="9144000" cy="59072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400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0" y="1176480"/>
            <a:ext cx="9144000" cy="3779640"/>
            <a:chOff x="0" y="1176480"/>
            <a:chExt cx="9144000" cy="377964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07A-90A9-4E49-9ECE-2E7B01DA2F1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C256-F0EF-4061-858D-61599D3AD65E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B2E-2E3F-4CBC-8033-F9121186D727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80E6-9E6C-4DA1-BE8B-6E02EF6AD983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://www.uoregon.edu/~kimball/images/1492.discovery-CWA156.jpg"/>
          <p:cNvPicPr/>
          <p:nvPr/>
        </p:nvPicPr>
        <p:blipFill>
          <a:blip r:embed="rId1"/>
          <a:srcRect l="0" t="24877" r="0" b="0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457200" y="579600"/>
            <a:ext cx="8229600" cy="2163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The America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-384120"/>
            <a:ext cx="8229600" cy="1547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76320" y="114300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ry The Navigato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rtholomeu Di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sco De Gam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dro Cabr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5" descr="http://www.sagres.net/henry.jpg"/>
          <p:cNvPicPr/>
          <p:nvPr/>
        </p:nvPicPr>
        <p:blipFill>
          <a:blip r:embed="rId2"/>
          <a:stretch/>
        </p:blipFill>
        <p:spPr>
          <a:xfrm>
            <a:off x="4106880" y="1066680"/>
            <a:ext cx="2217600" cy="2210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http://greensleeves.typepad.com/berkshires/images/2008/05/02/diaz3sized.jpg"/>
          <p:cNvPicPr/>
          <p:nvPr/>
        </p:nvPicPr>
        <p:blipFill>
          <a:blip r:embed="rId3"/>
          <a:srcRect l="0" t="0" r="19048" b="8836"/>
          <a:stretch/>
        </p:blipFill>
        <p:spPr>
          <a:xfrm>
            <a:off x="6019920" y="1447920"/>
            <a:ext cx="2590560" cy="3733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http://static.newworldencyclopedia.org/thumb/7/7c/Vascodagama.JPG/200px-Vascodagama.JPG"/>
          <p:cNvPicPr/>
          <p:nvPr/>
        </p:nvPicPr>
        <p:blipFill>
          <a:blip r:embed="rId4"/>
          <a:stretch/>
        </p:blipFill>
        <p:spPr>
          <a:xfrm>
            <a:off x="3505320" y="3429000"/>
            <a:ext cx="2666880" cy="286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thepirateking.com/images/bios_pedro_alvarez_cabral.gif"/>
          <p:cNvPicPr/>
          <p:nvPr/>
        </p:nvPicPr>
        <p:blipFill>
          <a:blip r:embed="rId5"/>
          <a:stretch/>
        </p:blipFill>
        <p:spPr>
          <a:xfrm>
            <a:off x="5943600" y="4944960"/>
            <a:ext cx="23623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-45720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04920" y="1142640"/>
            <a:ext cx="4419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, from ______, wants to discove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ugal will not:                but ______ will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in wants _____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ing Ferdinand and Queen Isabell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492 Columbus believes he has found:      but he is in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8" name="Picture 2" descr="http://www.edunetconnect.com/TimeMachine/contentimages/ccport2.jpg"/>
          <p:cNvPicPr/>
          <p:nvPr/>
        </p:nvPicPr>
        <p:blipFill>
          <a:blip r:embed="rId2"/>
          <a:stretch/>
        </p:blipFill>
        <p:spPr>
          <a:xfrm>
            <a:off x="4800600" y="1295280"/>
            <a:ext cx="3191040" cy="3967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4800600" y="5257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lumbus la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0480" cy="1542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-360" y="144792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ain and Portugal: through th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Line of Demarc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________lands west of the line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________lands east of the line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__&amp;_______sign the Treaty of Tordesillas agreeing to the 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is the only Portuguese colony in the Americ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5" descr="http://redglobal.com/wp-content/themes/mimbo2.2/images/today/2008_06/06_07_1494b_en_300.jpg"/>
          <p:cNvPicPr/>
          <p:nvPr/>
        </p:nvPicPr>
        <p:blipFill>
          <a:blip r:embed="rId2"/>
          <a:stretch/>
        </p:blipFill>
        <p:spPr>
          <a:xfrm>
            <a:off x="5148360" y="1828800"/>
            <a:ext cx="39956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www.freeusandworldmaps.com/images/WorldPrintable/WorldRobinCountryLinesPrint.jpg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575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4343400" y="6019920"/>
            <a:ext cx="4419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590920" y="152280"/>
            <a:ext cx="4419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5"/>
          <p:cNvSpPr/>
          <p:nvPr/>
        </p:nvSpPr>
        <p:spPr>
          <a:xfrm>
            <a:off x="3143160" y="996840"/>
            <a:ext cx="362160" cy="4313520"/>
          </a:xfrm>
          <a:custGeom>
            <a:avLst/>
            <a:gdLst/>
            <a:ahLst/>
            <a:rect l="l" t="t" r="r" b="b"/>
            <a:pathLst>
              <a:path w="361757" h="4313382">
                <a:moveTo>
                  <a:pt x="352521" y="0"/>
                </a:moveTo>
                <a:cubicBezTo>
                  <a:pt x="176260" y="481060"/>
                  <a:pt x="0" y="962121"/>
                  <a:pt x="1539" y="1681018"/>
                </a:cubicBezTo>
                <a:cubicBezTo>
                  <a:pt x="3078" y="2399915"/>
                  <a:pt x="182417" y="3356648"/>
                  <a:pt x="361757" y="4313382"/>
                </a:cubicBezTo>
              </a:path>
            </a:pathLst>
          </a:custGeom>
          <a:noFill/>
          <a:ln w="54000">
            <a:solidFill>
              <a:srgbClr val="e72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137160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of the Line of Demarcation are Spanish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3200400" y="529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of the Line of Demarcation are Portuguese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Straight Arrow Connector 21"/>
          <p:cNvCxnSpPr/>
          <p:nvPr/>
        </p:nvCxnSpPr>
        <p:spPr>
          <a:xfrm>
            <a:off x="6857640" y="5486040"/>
            <a:ext cx="305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TextBox 23"/>
          <p:cNvSpPr/>
          <p:nvPr/>
        </p:nvSpPr>
        <p:spPr>
          <a:xfrm>
            <a:off x="3276720" y="40496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of Demar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7200" y="-457200"/>
            <a:ext cx="8229600" cy="154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-360" y="11426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 calls where he lands:                                           because he believ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_______are named after Aimergo Vespucc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espucci i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cribes land in his journal. These descriptions are used to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3" name="Picture 2" descr="http://freepages.history.rootsweb.ancestry.com/~wcarr1/Lossing1/00-11.gif"/>
          <p:cNvPicPr/>
          <p:nvPr/>
        </p:nvPicPr>
        <p:blipFill>
          <a:blip r:embed="rId2"/>
          <a:stretch/>
        </p:blipFill>
        <p:spPr>
          <a:xfrm>
            <a:off x="4876920" y="1676520"/>
            <a:ext cx="4005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3" descr=""/>
          <p:cNvPicPr/>
          <p:nvPr/>
        </p:nvPicPr>
        <p:blipFill>
          <a:blip r:embed="rId1"/>
          <a:stretch/>
        </p:blipFill>
        <p:spPr>
          <a:xfrm>
            <a:off x="500040" y="4005360"/>
            <a:ext cx="8236080" cy="2170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he next big topic in class is exploration. You have probably heard of famous explorers like Columbus, Magellan and Cortez; why do you think they went exploring? What did they want? What were they looking for?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52280" y="10666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hana becomes influential thru_____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was traded in Afri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was nearly as valuable as gol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______-______trade line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ing of Ghana collects taxes fo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8" name="Picture 5" descr="http://www.blackpast.org/files/blackpast_images/ghana.jpg"/>
          <p:cNvPicPr/>
          <p:nvPr/>
        </p:nvPicPr>
        <p:blipFill>
          <a:blip r:embed="rId2"/>
          <a:stretch/>
        </p:blipFill>
        <p:spPr>
          <a:xfrm>
            <a:off x="4572000" y="2057400"/>
            <a:ext cx="4105440" cy="375300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3"/>
          <a:stretch/>
        </p:blipFill>
        <p:spPr>
          <a:xfrm>
            <a:off x="4943520" y="3876840"/>
            <a:ext cx="3581280" cy="1663560"/>
          </a:xfrm>
          <a:prstGeom prst="rect">
            <a:avLst/>
          </a:prstGeom>
          <a:ln w="0">
            <a:noFill/>
          </a:ln>
        </p:spPr>
      </p:pic>
      <p:pic>
        <p:nvPicPr>
          <p:cNvPr id="260" name="Ink 7" descr=""/>
          <p:cNvPicPr/>
          <p:nvPr/>
        </p:nvPicPr>
        <p:blipFill>
          <a:blip r:embed="rId4"/>
          <a:stretch/>
        </p:blipFill>
        <p:spPr>
          <a:xfrm>
            <a:off x="5172120" y="4351320"/>
            <a:ext cx="333360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37:28Z</dcterms:created>
  <dc:creator>TPS</dc:creator>
  <dc:description/>
  <dc:language>en-US</dc:language>
  <cp:lastModifiedBy>CHRISTINE STURGES</cp:lastModifiedBy>
  <dcterms:modified xsi:type="dcterms:W3CDTF">2014-09-24T20:29:45Z</dcterms:modified>
  <cp:revision>767</cp:revision>
  <dc:subject/>
  <dc:title>Exploration</dc:title>
</cp:coreProperties>
</file>