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2.wmf" ContentType="image/x-wmf"/>
  <Override PartName="/ppt/media/image21.jpeg" ContentType="image/jpeg"/>
  <Override PartName="/ppt/media/image16.jpeg" ContentType="image/jpe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23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move the slide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9B63-44F7-4A00-A949-99E944D84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0FC6-5BDD-4EAE-BFDA-2837121FD1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6382-744C-4CC7-B522-855CC9019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D2E2-75A7-4144-B6DA-36F369CB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BB3F-EBD4-4866-BC70-1C27A7A3E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156E-13CF-44EF-9189-D1AC0111A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4D2F-9EAB-475C-A996-AAEF9CD9E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6BB9-5B48-41A8-9E58-2BD6F544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0C60-85A0-41C2-A9B4-85F6344C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A1B0-6A31-4051-B6F6-6B3CC120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B64AC-E280-40E5-B78B-258FBE5D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586B-D4B1-47FA-8125-F26AB36B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B4122-DBD3-4349-86EB-A214E9CE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D49B-701A-4BED-A4BA-7CA7DDAD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05042-025F-4536-A7FF-A349D3AB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AD01-BD18-4B59-B3D7-39CC4BBF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0CF9F-05D8-46A4-AD09-58247BF0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2870-7ACF-48CA-A80D-D3B031145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5B02-30E7-4E20-8437-62759121A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1A17E-1F13-4D1F-9375-E5E51558B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8E74F-AFDF-4F9C-8FE7-6F9FB477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0F262-6DE2-45C7-AC78-130563AB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A2ED8-6B8A-438E-9DAD-7835189B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2BAA0-4EAE-4A89-B7A5-26B2317C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2C2B-904B-4FA2-9A01-625D88EE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F237D-7AEE-42CB-A864-9CB660A8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FD626-7DCF-434A-BC8D-BC3CE35B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A9E98-7194-4C57-BBEB-B5059A74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A5CCA-BBDE-4B1A-859C-DCBAFE32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3F33E-8BCC-43F9-95EF-F51CF7B4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2EA67-0F5D-48AA-B113-3A561E18B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2E9BE-54DB-44EC-A08A-4E54B85B1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3C6B0-35B1-4736-9D6E-B157410D6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8EA7F-1748-419C-8DF3-187D3DF3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1A54C-8D00-4B16-998B-A488FCD6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7C95-AB82-429A-A6FE-AABBF184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101A9-D72B-448A-B3A5-3BDB825B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DE70C-867A-4C5D-81BA-EEC5A65D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604AD-2E41-4EC3-9574-FCB57E0F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458D1-1CBC-490F-AFB3-21022DCC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D489E-BBA2-4ADF-8EAD-F219604D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B67DF-FEF3-415E-A617-5CD18A48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E3E98-9C98-4AF6-85CA-0D08C237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0C0AB-4367-4215-92C8-E5889D5FB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8C886-59F2-4DB8-8BAC-24F58E3A4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7D1AF-A66D-46E3-8510-E20E2C49E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29CD-AE82-4942-9B47-F3C62DB8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7F47E-D73D-4749-A368-5D1A1DAB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40F65-7111-420B-BC23-7A91B6C9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79C11-1E93-4453-9437-D09FD066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C3B41-4E59-4188-B21A-4CF4B720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CFF4A-C40A-42AD-87C1-C28C4D04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8C6BC-B3E1-46F1-850F-4C7131E7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00C59-A9C7-4FF3-A292-099D7298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C88FA-95D6-497C-95B6-B9AB0457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99BEA-090E-47CA-825B-D0F5527D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708E7-EE0D-42E8-918B-4E1E7F04D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4071-CF28-4436-A84B-1A6F3466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DD4DB-CD91-49D5-9806-60C91EAA1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39EF-EEA4-40AE-B287-C282A8D1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D1D1-07D8-43BD-A6FC-C4C51BFB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2AC7-A685-4822-BA5B-DC04FBAC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Flowchart: Document 6"/>
          <p:cNvGrpSpPr/>
          <p:nvPr/>
        </p:nvGrpSpPr>
        <p:grpSpPr>
          <a:xfrm>
            <a:off x="0" y="798480"/>
            <a:ext cx="9144000" cy="5907240"/>
            <a:chOff x="0" y="798480"/>
            <a:chExt cx="9144000" cy="5907240"/>
          </a:xfrm>
        </p:grpSpPr>
        <p:pic>
          <p:nvPicPr>
            <p:cNvPr id="1" name="Flowchart: Document 6" descr=""/>
            <p:cNvPicPr/>
            <p:nvPr/>
          </p:nvPicPr>
          <p:blipFill>
            <a:blip r:embed="rId3"/>
            <a:stretch/>
          </p:blipFill>
          <p:spPr>
            <a:xfrm>
              <a:off x="0" y="798480"/>
              <a:ext cx="9144000" cy="590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 rot="10800000">
              <a:off x="0" y="11426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" name="Flowchart: Document 7"/>
          <p:cNvGrpSpPr/>
          <p:nvPr/>
        </p:nvGrpSpPr>
        <p:grpSpPr>
          <a:xfrm>
            <a:off x="0" y="987480"/>
            <a:ext cx="9144000" cy="4833720"/>
            <a:chOff x="0" y="987480"/>
            <a:chExt cx="9144000" cy="4833720"/>
          </a:xfrm>
        </p:grpSpPr>
        <p:pic>
          <p:nvPicPr>
            <p:cNvPr id="4" name="Flowchart: Document 7" descr=""/>
            <p:cNvPicPr/>
            <p:nvPr/>
          </p:nvPicPr>
          <p:blipFill>
            <a:blip r:embed="rId4"/>
            <a:stretch/>
          </p:blipFill>
          <p:spPr>
            <a:xfrm>
              <a:off x="0" y="987480"/>
              <a:ext cx="9144000" cy="48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F2F9-329F-42DE-B5E8-FCC2D68128A9}" type="slidenum">
              <a:rPr b="0" lang="en-US" sz="1400" spc="-1" strike="noStrike">
                <a:solidFill>
                  <a:srgbClr val="bcb7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Flowchart: Document 6"/>
          <p:cNvGrpSpPr/>
          <p:nvPr/>
        </p:nvGrpSpPr>
        <p:grpSpPr>
          <a:xfrm>
            <a:off x="0" y="798480"/>
            <a:ext cx="9144000" cy="5907240"/>
            <a:chOff x="0" y="798480"/>
            <a:chExt cx="9144000" cy="5907240"/>
          </a:xfrm>
        </p:grpSpPr>
        <p:pic>
          <p:nvPicPr>
            <p:cNvPr id="48" name="Flowchart: Document 6" descr=""/>
            <p:cNvPicPr/>
            <p:nvPr/>
          </p:nvPicPr>
          <p:blipFill>
            <a:blip r:embed="rId3"/>
            <a:stretch/>
          </p:blipFill>
          <p:spPr>
            <a:xfrm>
              <a:off x="0" y="798480"/>
              <a:ext cx="9144000" cy="590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 rot="10800000">
              <a:off x="0" y="11426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" name="Flowchart: Document 7"/>
          <p:cNvGrpSpPr/>
          <p:nvPr/>
        </p:nvGrpSpPr>
        <p:grpSpPr>
          <a:xfrm>
            <a:off x="0" y="987480"/>
            <a:ext cx="9144000" cy="4833720"/>
            <a:chOff x="0" y="987480"/>
            <a:chExt cx="9144000" cy="4833720"/>
          </a:xfrm>
        </p:grpSpPr>
        <p:pic>
          <p:nvPicPr>
            <p:cNvPr id="51" name="Flowchart: Document 7" descr=""/>
            <p:cNvPicPr/>
            <p:nvPr/>
          </p:nvPicPr>
          <p:blipFill>
            <a:blip r:embed="rId4"/>
            <a:stretch/>
          </p:blipFill>
          <p:spPr>
            <a:xfrm>
              <a:off x="0" y="987480"/>
              <a:ext cx="9144000" cy="48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" name="Flowchart: Document 6"/>
          <p:cNvGrpSpPr/>
          <p:nvPr/>
        </p:nvGrpSpPr>
        <p:grpSpPr>
          <a:xfrm>
            <a:off x="0" y="1176480"/>
            <a:ext cx="9144000" cy="3779640"/>
            <a:chOff x="0" y="1176480"/>
            <a:chExt cx="9144000" cy="3779640"/>
          </a:xfrm>
        </p:grpSpPr>
        <p:pic>
          <p:nvPicPr>
            <p:cNvPr id="54" name="Flowchart: Document 6" descr=""/>
            <p:cNvPicPr/>
            <p:nvPr/>
          </p:nvPicPr>
          <p:blipFill>
            <a:blip r:embed="rId5"/>
            <a:stretch/>
          </p:blipFill>
          <p:spPr>
            <a:xfrm>
              <a:off x="0" y="1176480"/>
              <a:ext cx="9144000" cy="37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 rot="10800000">
              <a:off x="0" y="1520640"/>
              <a:ext cx="9144000" cy="34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F054-EB21-48DD-9FB4-F50F704A1D9E}" type="slidenum">
              <a:rPr b="0" lang="en-US" sz="1400" spc="-1" strike="noStrike">
                <a:solidFill>
                  <a:srgbClr val="bcb7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1C66-9985-49C5-871F-B67FFC513167}" type="slidenum">
              <a:rPr b="0" lang="en-US" sz="1400" spc="-1" strike="noStrike">
                <a:solidFill>
                  <a:srgbClr val="bcb7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E92C-EDFD-403D-944E-FCB602C16095}" type="slidenum">
              <a:rPr b="0" lang="en-US" sz="1400" spc="-1" strike="noStrike">
                <a:solidFill>
                  <a:srgbClr val="bcb7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C40F-B36A-4EFB-8DA6-D88B91F90C8A}" type="slidenum">
              <a:rPr b="0" lang="en-US" sz="1400" spc="-1" strike="noStrike">
                <a:solidFill>
                  <a:srgbClr val="bcb7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5" descr="http://www.uoregon.edu/~kimball/images/1492.discovery-CWA156.jpg"/>
          <p:cNvPicPr/>
          <p:nvPr/>
        </p:nvPicPr>
        <p:blipFill>
          <a:blip r:embed="rId1"/>
          <a:srcRect l="0" t="24877" r="0" b="0"/>
          <a:stretch/>
        </p:blipFill>
        <p:spPr>
          <a:xfrm>
            <a:off x="0" y="1643040"/>
            <a:ext cx="9144000" cy="5214960"/>
          </a:xfrm>
          <a:prstGeom prst="rect">
            <a:avLst/>
          </a:prstGeom>
          <a:ln w="0">
            <a:noFill/>
          </a:ln>
        </p:spPr>
      </p:pic>
      <p:pic>
        <p:nvPicPr>
          <p:cNvPr id="228" name="Title 1" descr=""/>
          <p:cNvPicPr/>
          <p:nvPr/>
        </p:nvPicPr>
        <p:blipFill>
          <a:blip r:embed="rId2"/>
          <a:stretch/>
        </p:blipFill>
        <p:spPr>
          <a:xfrm>
            <a:off x="457200" y="579600"/>
            <a:ext cx="8229600" cy="21636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228600" y="990720"/>
            <a:ext cx="51055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0d0d"/>
                </a:solidFill>
                <a:latin typeface="Corbel"/>
              </a:rPr>
              <a:t>The Americas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le 1" descr=""/>
          <p:cNvPicPr/>
          <p:nvPr/>
        </p:nvPicPr>
        <p:blipFill>
          <a:blip r:embed="rId1"/>
          <a:stretch/>
        </p:blipFill>
        <p:spPr>
          <a:xfrm>
            <a:off x="457200" y="-384120"/>
            <a:ext cx="8229600" cy="1547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76320" y="1143000"/>
            <a:ext cx="44193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5000"/>
          </a:bodyPr>
          <a:p>
            <a:pPr marL="79560" indent="-795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enry The Navigator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79560" indent="-795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79560" indent="-795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79560" indent="-795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Bartholomeu Dias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79560" indent="-795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79560" indent="-795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79560" indent="-795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Vasco De Gama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79560" indent="-795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79560" indent="-795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79560" indent="-795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edro Cabral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32" name="Picture 5" descr="http://www.sagres.net/henry.jpg"/>
          <p:cNvPicPr/>
          <p:nvPr/>
        </p:nvPicPr>
        <p:blipFill>
          <a:blip r:embed="rId2"/>
          <a:stretch/>
        </p:blipFill>
        <p:spPr>
          <a:xfrm>
            <a:off x="4106880" y="1066680"/>
            <a:ext cx="2217600" cy="22100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http://greensleeves.typepad.com/berkshires/images/2008/05/02/diaz3sized.jpg"/>
          <p:cNvPicPr/>
          <p:nvPr/>
        </p:nvPicPr>
        <p:blipFill>
          <a:blip r:embed="rId3"/>
          <a:srcRect l="0" t="0" r="19048" b="8836"/>
          <a:stretch/>
        </p:blipFill>
        <p:spPr>
          <a:xfrm>
            <a:off x="6019920" y="1447920"/>
            <a:ext cx="2590560" cy="37335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http://static.newworldencyclopedia.org/thumb/7/7c/Vascodagama.JPG/200px-Vascodagama.JPG"/>
          <p:cNvPicPr/>
          <p:nvPr/>
        </p:nvPicPr>
        <p:blipFill>
          <a:blip r:embed="rId4"/>
          <a:stretch/>
        </p:blipFill>
        <p:spPr>
          <a:xfrm>
            <a:off x="3505320" y="3429000"/>
            <a:ext cx="2666880" cy="28670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http://www.thepirateking.com/images/bios_pedro_alvarez_cabral.gif"/>
          <p:cNvPicPr/>
          <p:nvPr/>
        </p:nvPicPr>
        <p:blipFill>
          <a:blip r:embed="rId5"/>
          <a:stretch/>
        </p:blipFill>
        <p:spPr>
          <a:xfrm>
            <a:off x="5943600" y="4944960"/>
            <a:ext cx="236232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le 1" descr=""/>
          <p:cNvPicPr/>
          <p:nvPr/>
        </p:nvPicPr>
        <p:blipFill>
          <a:blip r:embed="rId1"/>
          <a:stretch/>
        </p:blipFill>
        <p:spPr>
          <a:xfrm>
            <a:off x="457200" y="-457200"/>
            <a:ext cx="8229600" cy="15238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304920" y="1142640"/>
            <a:ext cx="44193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lumbus, from ______, wants to discover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ortugal will not:                but ______ will!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649"/>
              </a:spcBef>
              <a:buClr>
                <a:srgbClr val="ff6f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pain wants ______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649"/>
              </a:spcBef>
              <a:buClr>
                <a:srgbClr val="ff6f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King Ferdinand and Queen Isabella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 1492 Columbus believes he has found:      but he is in: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38" name="Picture 2" descr="http://www.edunetconnect.com/TimeMachine/contentimages/ccport2.jpg"/>
          <p:cNvPicPr/>
          <p:nvPr/>
        </p:nvPicPr>
        <p:blipFill>
          <a:blip r:embed="rId2"/>
          <a:stretch/>
        </p:blipFill>
        <p:spPr>
          <a:xfrm>
            <a:off x="4800600" y="1295280"/>
            <a:ext cx="3191040" cy="396720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5"/>
          <p:cNvSpPr/>
          <p:nvPr/>
        </p:nvSpPr>
        <p:spPr>
          <a:xfrm>
            <a:off x="4800600" y="52578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re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olumbus lan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1"/>
          <a:stretch/>
        </p:blipFill>
        <p:spPr>
          <a:xfrm>
            <a:off x="-6480" y="-79200"/>
            <a:ext cx="9150480" cy="15429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-360" y="1447920"/>
            <a:ext cx="51814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pain and Portugal: through the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Line of Demarcation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649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ll non-________lands west of the line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649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ll non-________lands east of the line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649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__________&amp;_______sign the Treaty of Tordesillas agreeing to the line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649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_______is the only Portuguese colony in the America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42" name="Picture 5" descr="http://redglobal.com/wp-content/themes/mimbo2.2/images/today/2008_06/06_07_1494b_en_300.jpg"/>
          <p:cNvPicPr/>
          <p:nvPr/>
        </p:nvPicPr>
        <p:blipFill>
          <a:blip r:embed="rId2"/>
          <a:stretch/>
        </p:blipFill>
        <p:spPr>
          <a:xfrm>
            <a:off x="5148360" y="1828800"/>
            <a:ext cx="399564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http://www.freeusandworldmaps.com/images/WorldPrintable/WorldRobinCountryLinesPrint.jpg"/>
          <p:cNvPicPr/>
          <p:nvPr/>
        </p:nvPicPr>
        <p:blipFill>
          <a:blip r:embed="rId1"/>
          <a:stretch/>
        </p:blipFill>
        <p:spPr>
          <a:xfrm>
            <a:off x="304920" y="152280"/>
            <a:ext cx="8458200" cy="657540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3"/>
          <p:cNvSpPr/>
          <p:nvPr/>
        </p:nvSpPr>
        <p:spPr>
          <a:xfrm>
            <a:off x="4343400" y="6019920"/>
            <a:ext cx="44197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2590920" y="152280"/>
            <a:ext cx="4419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Freeform 15"/>
          <p:cNvSpPr/>
          <p:nvPr/>
        </p:nvSpPr>
        <p:spPr>
          <a:xfrm>
            <a:off x="3143160" y="996840"/>
            <a:ext cx="362160" cy="4313520"/>
          </a:xfrm>
          <a:custGeom>
            <a:avLst/>
            <a:gdLst/>
            <a:ahLst/>
            <a:rect l="l" t="t" r="r" b="b"/>
            <a:pathLst>
              <a:path w="361757" h="4313382">
                <a:moveTo>
                  <a:pt x="352521" y="0"/>
                </a:moveTo>
                <a:cubicBezTo>
                  <a:pt x="176260" y="481060"/>
                  <a:pt x="0" y="962121"/>
                  <a:pt x="1539" y="1681018"/>
                </a:cubicBezTo>
                <a:cubicBezTo>
                  <a:pt x="3078" y="2399915"/>
                  <a:pt x="182417" y="3356648"/>
                  <a:pt x="361757" y="4313382"/>
                </a:cubicBezTo>
              </a:path>
            </a:pathLst>
          </a:custGeom>
          <a:noFill/>
          <a:ln w="54000">
            <a:solidFill>
              <a:srgbClr val="e72c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Box 16"/>
          <p:cNvSpPr/>
          <p:nvPr/>
        </p:nvSpPr>
        <p:spPr>
          <a:xfrm>
            <a:off x="1371600" y="3808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st of the Line of Demarcation are Spanish la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Box 17"/>
          <p:cNvSpPr/>
          <p:nvPr/>
        </p:nvSpPr>
        <p:spPr>
          <a:xfrm>
            <a:off x="3200400" y="52974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t of the Line of Demarcation are Portuguese la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9" name="Straight Arrow Connector 21"/>
          <p:cNvCxnSpPr/>
          <p:nvPr/>
        </p:nvCxnSpPr>
        <p:spPr>
          <a:xfrm>
            <a:off x="6857640" y="5486040"/>
            <a:ext cx="3056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0" name="TextBox 23"/>
          <p:cNvSpPr/>
          <p:nvPr/>
        </p:nvSpPr>
        <p:spPr>
          <a:xfrm>
            <a:off x="3276720" y="404964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 of Demar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Title 1" descr=""/>
          <p:cNvPicPr/>
          <p:nvPr/>
        </p:nvPicPr>
        <p:blipFill>
          <a:blip r:embed="rId1"/>
          <a:stretch/>
        </p:blipFill>
        <p:spPr>
          <a:xfrm>
            <a:off x="457200" y="-457200"/>
            <a:ext cx="8229600" cy="15476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-360" y="114264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lumbus calls where he lands:                                           because he believes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_______are named after Aimergo Vespucc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649"/>
              </a:spcBef>
              <a:buClr>
                <a:srgbClr val="ff6f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Vespucci is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649"/>
              </a:spcBef>
              <a:buClr>
                <a:srgbClr val="ff6f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Describes land in his journal. These descriptions are used to: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53" name="Picture 2" descr="http://freepages.history.rootsweb.ancestry.com/~wcarr1/Lossing1/00-11.gif"/>
          <p:cNvPicPr/>
          <p:nvPr/>
        </p:nvPicPr>
        <p:blipFill>
          <a:blip r:embed="rId2"/>
          <a:stretch/>
        </p:blipFill>
        <p:spPr>
          <a:xfrm>
            <a:off x="4876920" y="1676520"/>
            <a:ext cx="40050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3" descr=""/>
          <p:cNvPicPr/>
          <p:nvPr/>
        </p:nvPicPr>
        <p:blipFill>
          <a:blip r:embed="rId1"/>
          <a:stretch/>
        </p:blipFill>
        <p:spPr>
          <a:xfrm>
            <a:off x="500040" y="4005360"/>
            <a:ext cx="8236080" cy="217008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The next big topic in class is exploration. You have probably heard of famous explorers like Columbus, Magellan and Cortez; why do you think they went exploring? What did they want? What were they looking for? 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Rectangle 2" descr=""/>
          <p:cNvPicPr/>
          <p:nvPr/>
        </p:nvPicPr>
        <p:blipFill>
          <a:blip r:embed="rId1"/>
          <a:stretch/>
        </p:blipFill>
        <p:spPr>
          <a:xfrm>
            <a:off x="689040" y="152280"/>
            <a:ext cx="7772400" cy="11462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152280" y="1066680"/>
            <a:ext cx="45720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Ghana becomes influential thru______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649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________was traded in Afric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649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________was nearly as valuable as gold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649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he ______-______trade lines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King of Ghana collects taxes for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58" name="Picture 5" descr="http://www.blackpast.org/files/blackpast_images/ghana.jpg"/>
          <p:cNvPicPr/>
          <p:nvPr/>
        </p:nvPicPr>
        <p:blipFill>
          <a:blip r:embed="rId2"/>
          <a:stretch/>
        </p:blipFill>
        <p:spPr>
          <a:xfrm>
            <a:off x="4572000" y="2057400"/>
            <a:ext cx="4105440" cy="3753000"/>
          </a:xfrm>
          <a:prstGeom prst="rect">
            <a:avLst/>
          </a:prstGeom>
          <a:ln w="0">
            <a:noFill/>
          </a:ln>
        </p:spPr>
      </p:pic>
      <p:pic>
        <p:nvPicPr>
          <p:cNvPr id="259" name="Ink 5" descr=""/>
          <p:cNvPicPr/>
          <p:nvPr/>
        </p:nvPicPr>
        <p:blipFill>
          <a:blip r:embed="rId3"/>
          <a:stretch/>
        </p:blipFill>
        <p:spPr>
          <a:xfrm>
            <a:off x="4943520" y="3876840"/>
            <a:ext cx="3581280" cy="1663560"/>
          </a:xfrm>
          <a:prstGeom prst="rect">
            <a:avLst/>
          </a:prstGeom>
          <a:ln w="0">
            <a:noFill/>
          </a:ln>
        </p:spPr>
      </p:pic>
      <p:pic>
        <p:nvPicPr>
          <p:cNvPr id="260" name="Ink 7" descr=""/>
          <p:cNvPicPr/>
          <p:nvPr/>
        </p:nvPicPr>
        <p:blipFill>
          <a:blip r:embed="rId4"/>
          <a:stretch/>
        </p:blipFill>
        <p:spPr>
          <a:xfrm>
            <a:off x="5172120" y="4351320"/>
            <a:ext cx="3333600" cy="1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4:37:28Z</dcterms:created>
  <dc:creator>TPS</dc:creator>
  <dc:description/>
  <dc:language>en-US</dc:language>
  <cp:lastModifiedBy>CHRISTINE STURGES</cp:lastModifiedBy>
  <dcterms:modified xsi:type="dcterms:W3CDTF">2014-09-24T20:29:45Z</dcterms:modified>
  <cp:revision>767</cp:revision>
  <dc:subject/>
  <dc:title>Exploration</dc:title>
</cp:coreProperties>
</file>