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E05F-E93C-41D0-84C9-6DE3D15D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45BD-2B2E-48AF-9DFE-4A0C6BB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FD5-535B-43C6-9BE9-ACF4B63F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531A-283E-4FE7-A81E-E41E5B59F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5243-1E7A-42C7-B8FC-7458C8B2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D329-C230-460A-9D8E-33007C5F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A358-CBD9-4042-B199-1A71F9B9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813-C0E6-4E65-AE2D-FE41B297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1ED4-34A7-4BD1-AB89-0B5E2243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8D4F-F4E2-450B-A182-230BAEEB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560-F889-40E2-8ECB-B1E87088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5AB4-5DFE-4D42-B1CB-B033D53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4E42-E133-4BD8-A484-3BBC89B5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1D90-DD36-4328-A8DD-BEF42803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CF9F-44B2-44E4-92BE-B9BC7C54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F852-19E1-461D-A7D9-7FD00A49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452F-93F2-456E-AE7E-1CEC6475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A277-9B71-4EC3-AA66-AEFAD2E1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74129-EEAA-4C2A-A0D7-B753F08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2D04-C384-44AF-98FC-887C6FEA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FAFAD-9D0F-435A-8FA4-11FC30C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9DFC8-4D72-4F84-82D3-EFD0573C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1ED1-F20D-49BE-9811-B5D9A3B9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93EB-CDC4-45BD-93C2-3161410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79E6-D755-4D5F-BDD1-3A409B3A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F76A3-AB1E-4BCB-9D30-F749CAD9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9F302-E300-4EC7-B4E3-DB63BF31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4CA0-2873-41B8-AEC3-E857901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6149-9988-43E1-807A-6ECB5B1EA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72823-108B-416F-BBE0-1788FBCB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D81B-B45B-4CD3-8895-1F35F6BA8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CA121-21C2-4F52-B227-40CDF11D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76E89-4F45-41CF-BB1A-8ECFDF56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5CE5-D022-4E12-B484-48890DA5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C4958-8FA4-47C7-82D3-41C0FE2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C8978-5F4B-42E0-B73D-CA648BC4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07E8-EEB9-49E5-85EA-362C8612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151D1-35AA-4A81-BF65-0D03A683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50C8C-7962-4345-9117-8DF41569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BE80-54CF-46EC-AF04-052CEFC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2527-37EC-4425-BC2D-798AE168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61D0-EA8F-4421-9A90-73C4060A4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59DC8-3767-4A13-A660-BB45C017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CD939-5C7E-4F90-8C74-33C731A65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3F1-2B26-4958-82D1-457DF09B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FDCB2-5C8D-460E-9797-C7D58A50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11709-2399-4551-BFEA-1C4103CC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C22DD-4314-417D-B3D5-EE64FF2F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AB2A1-0BAC-4B06-92B1-BCC28E2A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3FD72-844F-40AA-87C0-0856125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DB7B8-0346-48E6-8FF0-15387BA1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53206-B80A-4B3D-B9E9-B56E5A4E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129C-08B4-4D59-B1F6-8708036E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7950-1ACB-4E7C-845D-33C3541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6E8A-20DB-4354-B5D6-BBB4517D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DC51-7EAC-4E8D-A565-CBBCAC92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87431-0329-4E37-9D6C-90458D15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334-3981-4503-9ED8-EBC9832E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091-70B1-4570-89AD-576DDD3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4F0-95DA-45A3-8E73-B8CB9152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930D-5905-4D4A-BEF2-56AF6620D009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B6A7-81CC-4083-BD14-1D183705F62B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C868-33E1-4AA6-A4E0-8ECDA3059810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71FC-3BBD-4B8B-9764-1A327C224878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d2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ffffd2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ff953e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f8bd52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46a6b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7a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cb7a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10F9-19C8-4218-8CC5-E3DE90F6A0A2}" type="slidenum">
              <a:rPr b="0" lang="en-US" sz="1400" spc="-1" strike="noStrike">
                <a:solidFill>
                  <a:srgbClr val="bcb7a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http://www.uoregon.edu/~kimball/images/1492.discovery-CWA156.jpg"/>
          <p:cNvPicPr/>
          <p:nvPr/>
        </p:nvPicPr>
        <p:blipFill>
          <a:blip r:embed="rId1"/>
          <a:srcRect l="0" t="24877" r="0" b="0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pic>
        <p:nvPicPr>
          <p:cNvPr id="221" name="Title 1" descr=""/>
          <p:cNvPicPr/>
          <p:nvPr/>
        </p:nvPicPr>
        <p:blipFill>
          <a:blip r:embed="rId2"/>
          <a:stretch/>
        </p:blipFill>
        <p:spPr>
          <a:xfrm>
            <a:off x="176040" y="378000"/>
            <a:ext cx="8517240" cy="23716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51055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Corbel"/>
              </a:rPr>
              <a:t>The Americas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1" descr=""/>
          <p:cNvPicPr/>
          <p:nvPr/>
        </p:nvPicPr>
        <p:blipFill>
          <a:blip r:embed="rId1"/>
          <a:stretch/>
        </p:blipFill>
        <p:spPr>
          <a:xfrm>
            <a:off x="79200" y="-463680"/>
            <a:ext cx="8614080" cy="15670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304560" y="914400"/>
            <a:ext cx="46479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, from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Italy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, wants to discover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 route to Asia sailing w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ortugal will not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sponsor his trip</a:t>
            </a:r>
            <a:r>
              <a:rPr b="1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ut </a:t>
            </a:r>
            <a:r>
              <a:rPr b="1" i="1" lang="en-US" sz="3000" spc="-1" strike="noStrike">
                <a:solidFill>
                  <a:srgbClr val="ffffff"/>
                </a:solidFill>
                <a:latin typeface="Corbel"/>
              </a:rPr>
              <a:t>Spain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will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pain wants </a:t>
            </a:r>
            <a:r>
              <a:rPr b="1" i="1" lang="en-US" sz="2600" spc="-1" strike="noStrike">
                <a:solidFill>
                  <a:srgbClr val="ffffff"/>
                </a:solidFill>
                <a:latin typeface="Corbel"/>
              </a:rPr>
              <a:t>pow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01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King Ferdinand and Queen Isabella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commission Columbus’ tr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n 1492 Columbus believes he has found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West Indi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but he is in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Caribbean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5" name="Picture 2" descr="http://www.edunetconnect.com/TimeMachine/contentimages/ccport2.jpg"/>
          <p:cNvPicPr/>
          <p:nvPr/>
        </p:nvPicPr>
        <p:blipFill>
          <a:blip r:embed="rId2"/>
          <a:stretch/>
        </p:blipFill>
        <p:spPr>
          <a:xfrm>
            <a:off x="4800600" y="1295280"/>
            <a:ext cx="3191040" cy="39672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4800600" y="5257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lumbus lan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79200" y="-85680"/>
            <a:ext cx="8614080" cy="1573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-360" y="1447920"/>
            <a:ext cx="48769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>
              <a:spcBef>
                <a:spcPts val="751"/>
              </a:spcBef>
              <a:buClr>
                <a:srgbClr val="cc4757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pain and Portugal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divide up the globe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through the </a:t>
            </a:r>
            <a:r>
              <a:rPr b="1" lang="en-US" sz="3000" spc="-1" strike="noStrike" u="sng">
                <a:solidFill>
                  <a:srgbClr val="ffffff"/>
                </a:solidFill>
                <a:uFillTx/>
                <a:latin typeface="Corbel"/>
              </a:rPr>
              <a:t>Line of Demarcatio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uropean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nds west of the line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re reserved for Spanish conqu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01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ll non-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European</a:t>
            </a:r>
            <a:r>
              <a:rPr b="1" i="1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nds east of the line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re reserved for Portuguese conqu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98680" indent="-259560">
              <a:spcBef>
                <a:spcPts val="649"/>
              </a:spcBef>
              <a:buClr>
                <a:srgbClr val="ff6f61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Portugal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&amp;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Spain</a:t>
            </a:r>
            <a:r>
              <a:rPr b="1" i="1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sign the Treaty of Tordesillas agreeing to the l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9" name="Picture 5" descr="http://redglobal.com/wp-content/themes/mimbo2.2/images/today/2008_06/06_07_1494b_en_300.jpg"/>
          <p:cNvPicPr/>
          <p:nvPr/>
        </p:nvPicPr>
        <p:blipFill>
          <a:blip r:embed="rId2"/>
          <a:stretch/>
        </p:blipFill>
        <p:spPr>
          <a:xfrm>
            <a:off x="5148360" y="1828800"/>
            <a:ext cx="39956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79200" y="-463680"/>
            <a:ext cx="8614080" cy="1567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0" y="1142640"/>
            <a:ext cx="4952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60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olumbus calls where he land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The West Indies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                          because he believe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he has found a </a:t>
            </a:r>
            <a:r>
              <a:rPr b="1" lang="en-US" sz="2400" spc="-1" strike="noStrike">
                <a:solidFill>
                  <a:srgbClr val="ffffff"/>
                </a:solidFill>
                <a:latin typeface="Corbel"/>
              </a:rPr>
              <a:t>western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 route to Asia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96280" indent="-296280">
              <a:spcBef>
                <a:spcPts val="751"/>
              </a:spcBef>
              <a:buClr>
                <a:srgbClr val="cc475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mericas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re named after Aimergo Vespucc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01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Vespucci is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an Italian sea captain who sails to S. Americ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586080" indent="-253800">
              <a:spcBef>
                <a:spcPts val="649"/>
              </a:spcBef>
              <a:buClr>
                <a:srgbClr val="ff6f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cribes land in his journal. These descriptions are used to: </a:t>
            </a: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make a map of the region.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2" name="Picture 2" descr="http://freepages.history.rootsweb.ancestry.com/~wcarr1/Lossing1/00-11.gif"/>
          <p:cNvPicPr/>
          <p:nvPr/>
        </p:nvPicPr>
        <p:blipFill>
          <a:blip r:embed="rId2"/>
          <a:stretch/>
        </p:blipFill>
        <p:spPr>
          <a:xfrm>
            <a:off x="4876920" y="1676520"/>
            <a:ext cx="40050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4:37:28Z</dcterms:created>
  <dc:creator>TPS</dc:creator>
  <dc:description/>
  <dc:language>en-US</dc:language>
  <cp:lastModifiedBy>IT Clone User</cp:lastModifiedBy>
  <dcterms:modified xsi:type="dcterms:W3CDTF">2010-11-22T13:38:51Z</dcterms:modified>
  <cp:revision>146</cp:revision>
  <dc:subject/>
  <dc:title>Exploration</dc:title>
</cp:coreProperties>
</file>