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7F8-5462-42A9-81E9-88D9E072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5E1-215F-4A8F-9AEA-EA6AB099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361-ED4B-48BF-981F-A2C02956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ECD-98A1-4026-9C26-6E96E33A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373C-4016-455F-A439-2C8AF66E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3F0A-82BE-43F2-9E35-23B40041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19DB6-A8C8-4AF2-848C-380B7855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2CA6-8273-4D6F-90A7-23146DAC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451A-9A52-4216-9B8C-4082D91F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EB84-3877-4773-90C0-54D554DE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196E-F0BE-4324-BF08-B7CAFAAC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0D6-A503-45B8-A578-86D854BD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694E-57AC-4D12-8D33-59F24BB6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8BB9-C1A1-415B-8D90-833B1269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92FA-922C-4C15-9CD3-DE7193CB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9BE1-0B8D-4569-82DC-72CE0B56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6153-2AFA-4F95-A764-F3E70EA0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1F6BA-5A02-4582-99B0-EDFA12E7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1147-0C37-4446-B1AE-2B85ED6B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241DD-3264-4DF9-B193-36DBA8EB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051FF-FC1D-416E-BE9D-32121A02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65F5C-7A7B-479F-8900-331062BB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4E8-9F51-49A7-AF73-E219378F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02C6C-B46B-4C18-8B8B-E87F51E2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FF31B-0383-4749-A160-652CA172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BBCB2-ABD6-4844-A199-E561C45B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4BBC2-382E-456E-87BD-693CFB1A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B0987-1F25-4CB6-81D6-A7A202B6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8D18-1A31-4896-8605-EDDEFBA53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A3025-1AA3-4C3E-A974-A30A9D121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2E69D-4FBF-4A77-A97A-2CD8E02D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6F8F7-4103-42B5-9B29-CF93D392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81621-C6FD-40CF-BE7D-500F5305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646-F3E7-4B40-B8BD-CDDC5A99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B07E2-E237-4D59-AEED-3B8BF4BE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FEF1-90E4-4385-979F-751203EA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08B2-6232-47A8-AC6B-75A63448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86045-94CF-47FD-A360-5E95F068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317F4-BDEA-41C7-A733-1844D5C0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32944-613E-4D80-9702-43508FB9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599A1-833E-4B59-B3B7-9B151473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A5744-2CB1-4FA7-B2A5-50379773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AB9A3-2D99-4A72-8BA7-FA9794EAE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B58BA-259C-4DA9-9C1F-E5AD0B6D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37E-1C79-403E-97BB-0C5100B9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FE320-944D-4C92-94B3-CD597F08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E31B9-F546-4238-ACC9-8318BF5B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F255A-83DD-4CF6-9401-12364272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4F204-AA37-4D50-951C-D9F74032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3AB96-DDD8-4FBF-A375-DA108219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7F263-190C-4CA7-B81B-5CDAF17F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A2C49-3CF0-44A4-ADA0-FF39C01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48748-C212-4E6A-B127-A3434BC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17E8F-91DF-4304-BB91-6A6D6E30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47610-C496-40C6-9334-2984B8BA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EB22-0119-4F1D-87EC-5B2CB5CF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BE24C-E6D8-4F47-9346-F93B66D4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79B3-8106-4F7E-8294-43DD5359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9D8-E377-4957-AF19-B44A6287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AED-F9B5-4AD5-A534-AF8A0905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7E39-57AF-448E-B660-AE7075B2A5A9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84A1-902B-4F0D-968B-7203F0A81A43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744E-AC96-4284-BAD6-25D9E413D559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7CA1-3A6C-4617-96BB-7DEDF92CAFE8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550F-5790-41ED-BF55-BF48843F4788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ttp://www.uoregon.edu/~kimball/images/1492.discovery-CWA156.jpg"/>
          <p:cNvPicPr/>
          <p:nvPr/>
        </p:nvPicPr>
        <p:blipFill>
          <a:blip r:embed="rId1"/>
          <a:srcRect l="0" t="24877" r="0" b="0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  <p:pic>
        <p:nvPicPr>
          <p:cNvPr id="221" name="Title 1" descr=""/>
          <p:cNvPicPr/>
          <p:nvPr/>
        </p:nvPicPr>
        <p:blipFill>
          <a:blip r:embed="rId2"/>
          <a:stretch/>
        </p:blipFill>
        <p:spPr>
          <a:xfrm>
            <a:off x="176040" y="378000"/>
            <a:ext cx="8517240" cy="2371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Corbel"/>
              </a:rPr>
              <a:t>The America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79200" y="-463680"/>
            <a:ext cx="8614080" cy="1567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04560" y="914400"/>
            <a:ext cx="46479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umbus, from </a:t>
            </a: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Italy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wants to discover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A route to Asia sailing wes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96280" indent="-29628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rtugal will not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sponsor his trip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ut </a:t>
            </a: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pai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will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586080" indent="-253800">
              <a:spcBef>
                <a:spcPts val="649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pain wants </a:t>
            </a:r>
            <a:r>
              <a:rPr b="1" i="1" lang="en-US" sz="2600" spc="-1" strike="noStrike">
                <a:solidFill>
                  <a:srgbClr val="ffffff"/>
                </a:solidFill>
                <a:latin typeface="Corbel"/>
              </a:rPr>
              <a:t>pow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86080" indent="-253800">
              <a:spcBef>
                <a:spcPts val="601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ing Ferdinand and Queen Isabella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commission Columbus’ trip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96280" indent="-296280">
              <a:spcBef>
                <a:spcPts val="60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492 Columbus believes he has found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the West Indie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but he is in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the Caribbean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5" name="Picture 2" descr="http://www.edunetconnect.com/TimeMachine/contentimages/ccport2.jpg"/>
          <p:cNvPicPr/>
          <p:nvPr/>
        </p:nvPicPr>
        <p:blipFill>
          <a:blip r:embed="rId2"/>
          <a:stretch/>
        </p:blipFill>
        <p:spPr>
          <a:xfrm>
            <a:off x="4800600" y="1295280"/>
            <a:ext cx="3191040" cy="39672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4800600" y="5257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lumbus lan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79200" y="-85680"/>
            <a:ext cx="8614080" cy="1573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-360" y="1447920"/>
            <a:ext cx="4876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ain and Portugal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divide up the glob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through th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Line of Demarca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598680" indent="-259560">
              <a:spcBef>
                <a:spcPts val="60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l non-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European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nds west of the line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are reserved for Spanish conques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98680" indent="-259560">
              <a:spcBef>
                <a:spcPts val="60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l non-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European</a:t>
            </a: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nds east of the line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are reserved for Portuguese conques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98680" indent="-25956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Portugal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&amp;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Spain</a:t>
            </a:r>
            <a:r>
              <a:rPr b="1" i="1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gn the Treaty of Tordesillas agreeing to the lin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9" name="Picture 5" descr="http://redglobal.com/wp-content/themes/mimbo2.2/images/today/2008_06/06_07_1494b_en_300.jpg"/>
          <p:cNvPicPr/>
          <p:nvPr/>
        </p:nvPicPr>
        <p:blipFill>
          <a:blip r:embed="rId2"/>
          <a:stretch/>
        </p:blipFill>
        <p:spPr>
          <a:xfrm>
            <a:off x="5148360" y="1828800"/>
            <a:ext cx="39956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79200" y="-463680"/>
            <a:ext cx="8614080" cy="1567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umbus calls where he lands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The West Indie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  because he believes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he has found a 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western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 route to Asi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96280" indent="-29628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Americas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re named after Aimergo Vespucc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586080" indent="-253800">
              <a:spcBef>
                <a:spcPts val="601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Vespucci is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an Italian sea captain who sails to S. Americ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86080" indent="-253800">
              <a:spcBef>
                <a:spcPts val="649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scribes land in his journal. These descriptions are used to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make a map of the region.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2" name="Picture 2" descr="http://freepages.history.rootsweb.ancestry.com/~wcarr1/Lossing1/00-11.gif"/>
          <p:cNvPicPr/>
          <p:nvPr/>
        </p:nvPicPr>
        <p:blipFill>
          <a:blip r:embed="rId2"/>
          <a:stretch/>
        </p:blipFill>
        <p:spPr>
          <a:xfrm>
            <a:off x="4876920" y="1676520"/>
            <a:ext cx="4005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4:37:28Z</dcterms:created>
  <dc:creator>TPS</dc:creator>
  <dc:description/>
  <dc:language>en-US</dc:language>
  <cp:lastModifiedBy>IT Clone User</cp:lastModifiedBy>
  <dcterms:modified xsi:type="dcterms:W3CDTF">2010-11-22T13:38:51Z</dcterms:modified>
  <cp:revision>146</cp:revision>
  <dc:subject/>
  <dc:title>Exploration</dc:title>
</cp:coreProperties>
</file>