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BC0-A55A-4548-BF4A-411261C6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308A-D07D-414A-84F0-1393DC36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91AB-5208-4642-B949-9A05C5DF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7461-0B65-4E1C-8EA6-E026944D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0AF7-B31E-4061-BC38-49A143C8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B605-B18A-4CA4-A7E3-60C7013C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FDE-8E88-4E8A-B65C-2C24EC6F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2EB-F066-46D6-A38D-C8EFBE5B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ADF-00F2-4BA3-862A-E738ECDB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EDA6-9D4A-4803-BFE0-44575F40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E6C-0CA4-48D4-9A38-C9A40653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91F-B5B6-4C14-B310-6EA3B15F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8E84-124D-44A4-81B9-2051E448B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11/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to page 333. Read the Primary Document on that page and answer the 2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om Compromise to Confl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olitics of sla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pping the Compromis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an “F” in the states you believe to be fre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an “S” in those you believe to be slav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review the terms of the MO Comprom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our discussion correct you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romise of 18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# of free and slave states are same per the MO Co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a applies for statehood as a fre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ance is thrown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archives.gov/exhibits/treasures_of_congress/Images/page_11/37a.jpg"/>
          <p:cNvPicPr/>
          <p:nvPr/>
        </p:nvPicPr>
        <p:blipFill>
          <a:blip r:embed="rId1"/>
          <a:srcRect l="17337" t="17334" r="0" b="0"/>
          <a:stretch/>
        </p:blipFill>
        <p:spPr>
          <a:xfrm>
            <a:off x="4114800" y="2925720"/>
            <a:ext cx="50292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rms of Comprom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a = fre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as = slav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Mexico &amp; Utah = popular sovereign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gitive Slav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lave trade in D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http://americancivilwar.com/pictures/comp1850.jpg"/>
          <p:cNvPicPr/>
          <p:nvPr/>
        </p:nvPicPr>
        <p:blipFill>
          <a:blip r:embed="rId1"/>
          <a:srcRect l="2361" t="9058" r="44839" b="19924"/>
          <a:stretch/>
        </p:blipFill>
        <p:spPr>
          <a:xfrm>
            <a:off x="4800600" y="3052800"/>
            <a:ext cx="43434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pping Compromi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the terms of the Compromise of 1850 correct your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 “PS” in the regions where Popular Sovereignty will decided whether slavery will be per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ansas-Nebraska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029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id Stephen Douglas have to do with this 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R in unsettled territory…proposes to open region west of Iowa and Missou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 would not allow settlement of anymore “free” territory s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uglas proposes to repeal the MO Comp. in favor of Popular Sovereignty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http://americancivilwar.com/pictures/comp1850.jpg"/>
          <p:cNvPicPr/>
          <p:nvPr/>
        </p:nvPicPr>
        <p:blipFill>
          <a:blip r:embed="rId1"/>
          <a:srcRect l="20503" t="8339" r="32303" b="32310"/>
          <a:stretch/>
        </p:blipFill>
        <p:spPr>
          <a:xfrm>
            <a:off x="4800600" y="3298680"/>
            <a:ext cx="43434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pping Compromis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three colors; one to represent free states, one for slave states and one for Popular Sovereign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key on your map indicating which color means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 Comp. and the KS-NA Act overlap; how can you show this on your ma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bigpicture.typepad.com/writing/images/then_map_2.jpg"/>
          <p:cNvPicPr/>
          <p:nvPr/>
        </p:nvPicPr>
        <p:blipFill>
          <a:blip r:embed="rId1"/>
          <a:stretch/>
        </p:blipFill>
        <p:spPr>
          <a:xfrm>
            <a:off x="380880" y="50760"/>
            <a:ext cx="838224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23:31:02Z</dcterms:created>
  <dc:creator>TPS</dc:creator>
  <dc:description/>
  <dc:language>en-US</dc:language>
  <cp:lastModifiedBy>TPS</cp:lastModifiedBy>
  <dcterms:modified xsi:type="dcterms:W3CDTF">2008-11-21T17:10:28Z</dcterms:modified>
  <cp:revision>5</cp:revision>
  <dc:subject/>
  <dc:title>From Compromise to Conflict</dc:title>
</cp:coreProperties>
</file>