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659B-0140-4475-A5BF-60C0159BA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A36D-6424-4FB6-B57A-A2767F5C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4B0-2945-4413-B86A-C74399AB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201D-7C52-4AFA-B754-0477AB8E2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8381-A3E6-4F5B-B5EB-9FB269DA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813C-C227-418C-BFA0-2DA904AE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1050-4BEA-42BD-A5E0-450705D3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375-410F-424F-AE76-0AA0DE26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2D45-AA60-411B-A86D-03FB56F0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BA25-BAE9-4220-8C81-59AC5E74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F8B-7D82-4DCF-8A4A-401845B1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BF8-30B8-43AF-92A2-D2DFF1EE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6A20-E3B8-44CE-AE8A-BB99BAD99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1/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520" y="1752480"/>
            <a:ext cx="80769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n to page 333. Read the Primary Document on that page and answer the 2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From Compromise to Confli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olitics of sla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pping the Compromis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an “F” in the states you believe to be fre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an “S” in those you believe to be slave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will review the terms of the MO Comprom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our discussion correct you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mpromise of 18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# of free and slave states are same per the MO Co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a applies for statehood as a fre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lance is thrown 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http://www.archives.gov/exhibits/treasures_of_congress/Images/page_11/37a.jpg"/>
          <p:cNvPicPr/>
          <p:nvPr/>
        </p:nvPicPr>
        <p:blipFill>
          <a:blip r:embed="rId1"/>
          <a:srcRect l="17337" t="17334" r="0" b="0"/>
          <a:stretch/>
        </p:blipFill>
        <p:spPr>
          <a:xfrm>
            <a:off x="4114800" y="2925720"/>
            <a:ext cx="50292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erms of Comprom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ifornia = fre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as = slav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Mexico &amp; Utah = popular sovereign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gitive Slave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lave trade in D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http://americancivilwar.com/pictures/comp1850.jpg"/>
          <p:cNvPicPr/>
          <p:nvPr/>
        </p:nvPicPr>
        <p:blipFill>
          <a:blip r:embed="rId1"/>
          <a:srcRect l="2361" t="9058" r="44839" b="19924"/>
          <a:stretch/>
        </p:blipFill>
        <p:spPr>
          <a:xfrm>
            <a:off x="4800600" y="3052800"/>
            <a:ext cx="43434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pping Compromi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the terms of the Compromise of 1850 correct your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 “PS” in the regions where Popular Sovereignty will decided whether slavery will be per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Kansas-Nebraska 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5029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id Stephen Douglas have to do with this 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R in unsettled territory…proposes to open region west of Iowa and Missou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th would not allow settlement of anymore “free” territory s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uglas proposes to repeal the MO Comp. in favor of Popular Sovereignty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http://americancivilwar.com/pictures/comp1850.jpg"/>
          <p:cNvPicPr/>
          <p:nvPr/>
        </p:nvPicPr>
        <p:blipFill>
          <a:blip r:embed="rId1"/>
          <a:srcRect l="20503" t="8339" r="32303" b="32310"/>
          <a:stretch/>
        </p:blipFill>
        <p:spPr>
          <a:xfrm>
            <a:off x="4800600" y="3298680"/>
            <a:ext cx="43434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apping Compromis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art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oose three colors; one to represent free states, one for slave states and one for Popular Sovereign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key on your map indicating which color means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 Comp. and the KS-NA Act overlap; how can you show this on your ma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bigpicture.typepad.com/writing/images/then_map_2.jpg"/>
          <p:cNvPicPr/>
          <p:nvPr/>
        </p:nvPicPr>
        <p:blipFill>
          <a:blip r:embed="rId1"/>
          <a:stretch/>
        </p:blipFill>
        <p:spPr>
          <a:xfrm>
            <a:off x="380880" y="50760"/>
            <a:ext cx="8382240" cy="67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23:31:02Z</dcterms:created>
  <dc:creator>TPS</dc:creator>
  <dc:description/>
  <dc:language>en-US</dc:language>
  <cp:lastModifiedBy>TPS</cp:lastModifiedBy>
  <dcterms:modified xsi:type="dcterms:W3CDTF">2008-11-21T17:10:28Z</dcterms:modified>
  <cp:revision>5</cp:revision>
  <dc:subject/>
  <dc:title>From Compromise to Conflict</dc:title>
</cp:coreProperties>
</file>