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1C02-EB42-43B2-AA69-500E8B4FF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838-FDC6-4694-A169-09002295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80A0-26F2-491B-A51C-6B6130F1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920-5EB4-4D70-A6AC-2A382CBF5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48CF-62EF-4CE7-BA39-2508797C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DFD-9AD0-4DA4-9327-88CA18B6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56AE-A9FE-49D0-8D05-91B35452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3E36-7356-41F4-B4F8-2216597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7ADC-9F00-4FA1-9755-1B5C9A76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65F8-C65D-41ED-9461-9378CCD3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E6F0-63EE-4107-8FF4-16A4A4E3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455-CFDF-46BE-B59F-4910559B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386F-182F-45A4-B4EC-4D522CF7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555E-DB75-4DA9-8DB5-DBF4FD63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ECF7-D144-425C-8467-257AE552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313B-D6E5-470F-9CB7-49752282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2738-65ED-4D4E-8E90-4B1F67E7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D98E-6219-43F5-AD7B-2C8778BAA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2117-FC08-469D-9299-40EFEE37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995E-72A3-4B8E-AB0F-3D413833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49B58-9A36-4A11-A9A7-8AF25EE5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E9EB0-CE68-4F9B-9D49-B89FB248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7AD-F800-4421-B430-AE5ABCA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DCB0-1A9E-4F3B-8AEF-CC80382E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5851E-1A65-4485-8712-D9550589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B33D-1F59-4227-AAC5-F000806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C62BD-BF37-43E3-A806-044E671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38CEA-3456-458C-9B9F-79BDBB4B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EBE3C-4CD4-4885-9BAA-1AE6C5A8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C989C-BAE5-47D1-B08F-A35185CFE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D6AB9-3CDD-4A8F-9E3F-98B13907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73D1-1A27-4BD9-BBA9-AB0FC771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BB522-CEF5-42A0-99C6-3BF0CDE2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4D7B-DCD5-4412-ADC7-D410E528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DBEFB-A2E2-4913-BA46-4A24895A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10CAC-BF8A-4B3D-B918-9020CEB9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40E1-41AD-464D-A84F-B0FADD7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E6D9F-57AD-4D42-9D92-731D7CA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B16BE-01B1-4073-97B3-47BC1E61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857ED-5029-411B-9A50-029D63EE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3C71B-EA7A-4316-B85E-470E7705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AB58E-30BA-41F9-BA64-D45B679B3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C4B84-D13E-47E1-9AF9-98D34D34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D594-6D0B-46C7-ACA8-34A1684B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4CE-2637-4AD8-8463-81D73B1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0AE4C-CCC8-4A7D-B22C-5A21F951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4DEF6-FAA7-4C7D-9C84-CFFCC373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14A70-F4AF-400F-9393-410EF862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D3D14-EB29-4073-8E7A-C8ABF580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C4305-53B1-49DC-B5CE-EC16F4D5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9627A-2A26-4332-B8D8-D0062417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6D6B3-68AA-4526-8C9B-30EF57AE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BE8AE-15A5-47C5-BC3D-2D7F2E33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355D3-13BD-49B9-B1E7-8BA3F920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03BFB-A685-4753-AE31-5B1D6AA0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713-F449-4CD7-8349-4F88A086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AE94F-4DDF-4E07-BB42-639088CA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7B926-2D05-4E43-AB64-454D962F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56E28-7191-480C-B1B0-172475DB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E1B7C-26ED-405B-8B79-90495330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E6CAD-4419-492F-91B8-A9DC151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BA99A-603D-401D-A74C-1358AD3C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AC90-8FBB-4B4A-B93B-9E7A87E5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FB25A-A682-4D21-9403-B2CF0F8F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251AD-3462-4C5C-9C1C-34D35C9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67386-35C7-4FCF-8B7D-75F56E43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F7A-0FB0-4061-8EA3-F6EF6D1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C53D5-EDBF-491F-AEB2-BFAD0F69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A2835-48F0-4A2B-B4CF-125D8A4C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74706-272A-4A48-9601-79E7355F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598EE-D445-43F6-A5B1-03EEEE0E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B79CF-5BDF-4993-9117-4981FE0B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CF7F9-21A2-43BC-B85E-4F9C088E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7937C-B066-4EE0-97E8-FE493ADB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29C37-59E1-4843-86FC-A37B5753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D262B-3E41-409F-82FA-54FEAB14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6027-9408-46AC-83DF-744BC5B7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044-C7B6-4237-8714-33827F0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43B7D-126B-4B33-8D8B-498501C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56E58-7C43-47FF-99C2-BB270772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3077-120A-4206-A693-D5BC91B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4E4B3-562E-4A87-ACD8-005037635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C35C8-7BA6-4472-9E80-C9073625D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7F2-E2C5-417F-AE4B-8077210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E700-8DD3-4A0A-8F5B-07F734BFD673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BA55-7BE5-4316-9D53-9F16CF2A2C1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48B7-40F0-4C6A-A8D3-123EB4D2D994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CC58-A5AC-43F2-904C-DA179851C65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6615-8843-40E3-A7FD-FF6C81C3E02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4604-AFAA-43A0-BF20-90F8715D3E95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0BFB-5B2B-4AAD-BD0D-8B386DF84E3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urn to page 120-121 read about Athens and Sparta. Compare and contrast the cultures of each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440" y="28429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dawn of modern civiliz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-360" y="1774800"/>
            <a:ext cx="4267080" cy="5083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graphy makes Greece har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_________ divide Greece into valley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lands cut off by_____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editerranean is us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upload.wikimedia.org/wikipedia/commons/thumb/b/b6/Balkan_topo_en.jpg/350px-Balkan_topo_en.jpg"/>
          <p:cNvPicPr/>
          <p:nvPr/>
        </p:nvPicPr>
        <p:blipFill>
          <a:blip r:embed="rId2"/>
          <a:srcRect l="5467" t="13547" r="10867" b="0"/>
          <a:stretch/>
        </p:blipFill>
        <p:spPr>
          <a:xfrm>
            <a:off x="4495680" y="2468520"/>
            <a:ext cx="4648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ity-State’s citizens are fiercely ______ to their C-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eeks called the City-State _______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cropoli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ean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Main city ha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2" descr="Acropolis from Filopappou Hill"/>
          <p:cNvPicPr/>
          <p:nvPr/>
        </p:nvPicPr>
        <p:blipFill>
          <a:blip r:embed="rId2"/>
          <a:srcRect l="38681" t="0" r="0" b="0"/>
          <a:stretch/>
        </p:blipFill>
        <p:spPr>
          <a:xfrm>
            <a:off x="5105520" y="2401920"/>
            <a:ext cx="4038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agine you are a 17 year old male; would you rather live in Sparta or Athens? Wh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w imagine you are a 17 year old female; same ques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urn to page 126. Read about Pericles and Athenian Democracy. Imagine that you could only tell me 5 things about Athenian Democracy…what would those 5 things be, (hint they should be the 5 most important thing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Periclean  Athens was a direct democra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ericles helps poor ppl serve in gov’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Athenians started the concept of trial by jury of ones pe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) The Athenians had the right to do away with/stop/suspend the gov’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) Pericles turns Athens into cultural center of Gree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48:45Z</dcterms:created>
  <dc:creator>TPS</dc:creator>
  <dc:description/>
  <dc:language>en-US</dc:language>
  <cp:lastModifiedBy>IT Clone User</cp:lastModifiedBy>
  <dcterms:modified xsi:type="dcterms:W3CDTF">2010-09-01T12:11:11Z</dcterms:modified>
  <cp:revision>229</cp:revision>
  <dc:subject/>
  <dc:title>The Ancient Greeks</dc:title>
</cp:coreProperties>
</file>