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6E7-4208-48C5-AD48-22ECB70F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4BC3-308B-47A4-91C1-93AFB1FD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0CB-6137-4E6D-BC0A-6F4EA251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0403-9235-46AC-B88C-7A667C0AA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BA7FB-369B-4442-9AD7-D608680A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FE36-8D6D-4ADC-A142-0021BF2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4799-2F00-441D-85F7-39C80742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1DF-BED8-4AC9-9BCE-7913FF3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B0D1-1666-45E0-AB1D-BB348CC3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25CD-76FC-4701-8B0D-4AD2ED4B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B4F5-404C-4CF0-A54A-39FEDEA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FFC-21B6-46A2-81CF-FC7344A1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3297-142C-4432-BB3B-3097CE5F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E53E-567D-47BD-B667-98494CA4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DDC9-EDBB-4EF1-B948-F32BFDB2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C76F-1C82-4B63-855B-8A688530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2049-75E8-421D-BDAA-D4EC6D12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5C11C-F9D0-4F7A-9B80-AA44BD6F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3DB6-A303-476D-B1F5-969745D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9D0B-F0C1-4F87-AA18-1AA4084F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BEDFB-4AEB-4F09-91E1-D3DF75F5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26A4A-178F-4D21-9247-01EE9176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2DE-2BAE-4088-9CC4-E914EFF0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62B6B-7809-4B79-ABEB-B413946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1FBB9-53AF-4C21-87E5-29DDA07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B218-D79B-45CC-A95F-5C3284AC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719F-5394-46AF-A9F0-DFC1E1A2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5340D-575D-4291-AB42-6F690C05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6575-4844-45B2-B845-BE6D1A244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C176-6827-4FC2-9FB0-54F0FEC5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344C5-B126-4A39-81F8-C956F5AA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8681F-86AB-4036-8063-E37DDB8D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04E6B-7F2D-45C8-8FF8-08F5A90E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4F8-F274-40F2-8E28-E55A5B9A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CCF77-F517-4D56-9075-7FCBFC89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B471-70C5-4E83-9572-6778C251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6EC6B-0932-4C64-A918-9DA6E43B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E6F77-770C-40DF-BCCF-1CA9558A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47B2-8825-4FC0-B3C8-9770633F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BD0E-1B85-4578-8491-FEB0EA73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803F-BCE9-4C0F-BE18-C8D8A0A8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12337-EBD2-4B6C-9063-0D065207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656D-C38D-42FA-AB1A-72071BFB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61434-A242-4B09-B847-C1337304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5F7E-2B34-4702-843B-C0F3DC91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D4A27-8AC5-4083-AC4D-A65BBD4B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D258A-BCF3-4024-A3B4-88B0C50D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EC60-C2E2-42A0-80B8-77732033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22C8E-18FA-465D-9BBD-08D2C87B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6BEDE-6225-47FA-8A55-427BAA27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03C4-BE65-409B-B5C4-1DFE174C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8BE2-E995-4E26-9D4E-A49F09C5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6301-BF42-48C5-ADF7-37CF8C6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A0D9-0E53-48CE-A5AE-FC10BA2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A3F5-D1C4-43E8-9517-2B909ADA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948A-3D2C-4510-BD87-8293F74A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8F9D7-D81B-4D7A-87FC-6776F8F0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B3411-1C1D-4E72-9239-C5C76809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56D0-54AE-4199-8FD6-1AE46795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88CE-C501-4806-AD8E-02A0D77B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CCAB7-A82B-4D31-BFED-4032291C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8E43-01D4-465F-84ED-E68EF33C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FB463-EA20-4F89-BF5D-6D86792F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FC90-FA5C-4F6E-9DD2-F3991EF7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CFF8-A231-4F76-B0EB-3CB97CFE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3796D-21C4-4BBC-A126-8BA6D4B3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156-B446-490D-9144-C55C2CC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55A10-37A5-4578-A036-77DFD1FC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70973-0FB3-4BBB-9D6E-BEC246AF9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3888E-CDEA-441E-9D52-5D764691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FD0FE-952D-40AA-8D69-76103366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6CC3-15EB-4EEE-BBE9-C181C91C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87ED3-D989-4F00-8323-160D2507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49EF0-BEB5-4381-B12E-52E246F6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6294D-1191-47EC-BD21-C4C3F0FB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DF9ED-9F8B-48A4-90E8-042CC201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AD19D-B09C-49E3-B3CF-0E78EE8F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4D6-6977-4FF3-B409-755CAFA9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7F7C1-BED3-4899-B048-C9ED0B7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6E09F-9D40-45FF-9B5C-842E336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54805-9BF8-4D2B-B00A-1663909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E743D-A2A5-48E2-86D7-40218C4E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8EA0A-8449-442F-82F4-43A61079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B8E8-B21C-45DA-9540-BACDE638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7C65-2C47-4BD6-9020-DB16A9E1203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48A7-B781-40B8-A6DA-8D44037ADB6B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6B81-940E-4EDE-B824-09B8819329AA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8B67-17A6-4087-944E-CFC4E63D1C3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B78-F4E3-4C87-984A-B2FFA3387192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E88A-F61B-46E6-9189-8DCC25B016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1C02-EE51-48D9-9924-D3F4BE2148B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Turn to page 120-121 read about Athens and Sparta. Compare and contrast the cultures of each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440" y="28429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 dawn of modern civiliz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-360" y="1774800"/>
            <a:ext cx="4267080" cy="50832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graphy makes Greece har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_________ divide Greece into valle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lands cut off by_____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Mediterranean is used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2" descr="http://upload.wikimedia.org/wikipedia/commons/thumb/b/b6/Balkan_topo_en.jpg/350px-Balkan_topo_en.jpg"/>
          <p:cNvPicPr/>
          <p:nvPr/>
        </p:nvPicPr>
        <p:blipFill>
          <a:blip r:embed="rId2"/>
          <a:srcRect l="5467" t="13547" r="10867" b="0"/>
          <a:stretch/>
        </p:blipFill>
        <p:spPr>
          <a:xfrm>
            <a:off x="4495680" y="2468520"/>
            <a:ext cx="4648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ity-State’s citizens are fiercely ______ to their C-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reeks called the City-State _______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Acropoli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ean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Main city ha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2" descr="Acropolis from Filopappou Hill"/>
          <p:cNvPicPr/>
          <p:nvPr/>
        </p:nvPicPr>
        <p:blipFill>
          <a:blip r:embed="rId2"/>
          <a:srcRect l="38681" t="0" r="0" b="0"/>
          <a:stretch/>
        </p:blipFill>
        <p:spPr>
          <a:xfrm>
            <a:off x="5105520" y="2401920"/>
            <a:ext cx="403848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magine you are a 17 year old male; would you rather live in Sparta or Athens? Why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w imagine you are a 17 year old female; same ques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urn to page 126. Read about Pericles and Athenian Democracy. Imagine that you could only tell me 5 things about Athenian Democracy…what would those 5 things be, (hint they should be the 5 most important things)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1)Periclean  Athens was a direct democrac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) Pericles helps poor ppl serve in gov’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) Athenians started the concept of trial by jury of ones pe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4) The Athenians had the right to do away with/stop/suspend the gov’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5) Pericles turns Athens into cultural center of Gree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48:45Z</dcterms:created>
  <dc:creator>TPS</dc:creator>
  <dc:description/>
  <dc:language>en-US</dc:language>
  <cp:lastModifiedBy>IT Clone User</cp:lastModifiedBy>
  <dcterms:modified xsi:type="dcterms:W3CDTF">2010-09-01T12:11:11Z</dcterms:modified>
  <cp:revision>229</cp:revision>
  <dc:subject/>
  <dc:title>The Ancient Greeks</dc:title>
</cp:coreProperties>
</file>