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0E3-89FC-48BA-B5D0-75D8DD73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868-839E-4FBC-B770-89A5D8AA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D82-1285-4B5C-8D40-59A40CD6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68B6-8456-4DB0-B100-9A2745C7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607-D2A4-42A0-B15C-13EC63A7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648-F355-4AC3-9CE5-7211BBE2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611-B7D4-4AC1-8267-EC710220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E446-B11D-4096-8C26-84683763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CDB-90A7-4733-B89E-1189B2AB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08DE-1EA4-4642-A345-481031F7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0B5A-8E54-4CE5-B582-6EAAD041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8F2-ACF1-401C-A492-70B5168F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44F5-3F7B-4D6E-B5F0-2F46DF440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.about.com/d/geography/1/0/4/L/afric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9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057040"/>
            <a:ext cx="7543800" cy="3505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poems by Langston Hughes, “I, Too” and the Claude McKay poem “America.” After you read make a list of  similar characteristics you find in the two poe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can Americans during WWI 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t Migration, Harlem Renaissance and Marcus Ga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://www.barbsbooks.com/images/GrtMigration.jpg"/>
          <p:cNvPicPr/>
          <p:nvPr/>
        </p:nvPicPr>
        <p:blipFill>
          <a:blip r:embed="rId1"/>
          <a:stretch/>
        </p:blipFill>
        <p:spPr>
          <a:xfrm>
            <a:off x="4495680" y="1825560"/>
            <a:ext cx="4648320" cy="366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Great 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uthern Blacks move _______to esc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outbreak of _______ cre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s movement of people from the ______to the _______ is cal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st popular citi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people.cohums.ohio-state.edu/childs1/Outline%20Black%20Americans%20in%20the%201920s_files/image008.jpg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rlem Re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fter WWI blacks expect: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city Blacks move to in greatest numbers is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comes the unofficial capitol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u Bois’ magazin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Cris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promo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usinfo.org/enus/life/people/afrhist/images/dairy.jpg"/>
          <p:cNvPicPr/>
          <p:nvPr/>
        </p:nvPicPr>
        <p:blipFill>
          <a:blip r:embed="rId1"/>
          <a:stretch/>
        </p:blipFill>
        <p:spPr>
          <a:xfrm>
            <a:off x="5257800" y="1417680"/>
            <a:ext cx="32004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rlem Renaissance: Marcus Ga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couraged African American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) Take pride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) Look out for their own interests w/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veloped Universal Negro ___________ Association (UNIA) whose motto was “Back to___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ttp://www.geocities.com/clintonbennett/Lectures/garvey.jpg"/>
          <p:cNvPicPr/>
          <p:nvPr/>
        </p:nvPicPr>
        <p:blipFill>
          <a:blip r:embed="rId1"/>
          <a:stretch/>
        </p:blipFill>
        <p:spPr>
          <a:xfrm>
            <a:off x="5105520" y="1595520"/>
            <a:ext cx="33908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rlem Renaissance: The Art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 themes in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) Defiance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)_____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) African American ________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R also gave birth to _______ music and some of the first respectable role for Black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www.catalyst-chicago.org/assets/blog/louis_armstrong_1.jpg"/>
          <p:cNvPicPr/>
          <p:nvPr/>
        </p:nvPicPr>
        <p:blipFill>
          <a:blip r:embed="rId1"/>
          <a:stretch/>
        </p:blipFill>
        <p:spPr>
          <a:xfrm>
            <a:off x="4800600" y="1447920"/>
            <a:ext cx="3019320" cy="37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www.kodiakschools.org/khs/departments/englishdepartment/American_Literature/assets/robeson.jpg"/>
          <p:cNvPicPr/>
          <p:nvPr/>
        </p:nvPicPr>
        <p:blipFill>
          <a:blip r:embed="rId2"/>
          <a:stretch/>
        </p:blipFill>
        <p:spPr>
          <a:xfrm>
            <a:off x="6629400" y="3733920"/>
            <a:ext cx="2236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Africa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400"/>
            <a:ext cx="5410080" cy="6816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562720" y="0"/>
            <a:ext cx="33526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ern 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nea Biss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kina F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24:08Z</dcterms:created>
  <dc:creator>Christine Sturges</dc:creator>
  <dc:description/>
  <dc:language>en-US</dc:language>
  <cp:lastModifiedBy>IT Clone User</cp:lastModifiedBy>
  <dcterms:modified xsi:type="dcterms:W3CDTF">2009-09-08T14:24:35Z</dcterms:modified>
  <cp:revision>24</cp:revision>
  <dc:subject/>
  <dc:title>Journal 3/10</dc:title>
</cp:coreProperties>
</file>