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D3F-C778-4357-BAE8-85634105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5C80-84EE-4447-9EB0-2772F60B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BC91-2CB0-49AF-9817-6EF3E744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EA5D-7089-423E-A47B-0CE45769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58D-CDA9-4F90-9DD2-FC529777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AD8-BF01-4C6A-AC93-4E8EC4AB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A249-7E6A-42FF-9D9B-A3038143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DC4-7E92-4748-AF04-9AED6E70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32F-974F-40C7-BE3B-2650B3F1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5CF-8A43-4476-A7B7-939BE00B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8F5-5B61-44C2-B30E-46999DA5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4544-2151-4962-8DA4-1456612A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2AF1-061F-4201-9764-342AC2CEFC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z.about.com/d/geography/1/0/4/L/africa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9/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2057040"/>
            <a:ext cx="7543800" cy="3505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the poems by Langston Hughes, “I, Too” and the Claude McKay poem “America.” After you read make a list of  similar characteristics you find in the two poem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rican Americans during WWI Er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360" y="3809880"/>
            <a:ext cx="7543800" cy="1447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reat Migration, Harlem Renaissance and Marcus Ga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http://www.barbsbooks.com/images/GrtMigration.jpg"/>
          <p:cNvPicPr/>
          <p:nvPr/>
        </p:nvPicPr>
        <p:blipFill>
          <a:blip r:embed="rId1"/>
          <a:stretch/>
        </p:blipFill>
        <p:spPr>
          <a:xfrm>
            <a:off x="4495680" y="1825560"/>
            <a:ext cx="4648320" cy="366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he Great Mig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419720" cy="5486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uthern Blacks move _______to esca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outbreak of _______ crea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s movement of people from the ______to the _______ is call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st popular citi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http://people.cohums.ohio-state.edu/childs1/Outline%20Black%20Americans%20in%20the%201920s_files/image008.jpg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arlem Renaiss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419720" cy="5486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fter WWI blacks expect: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e city Blacks move to in greatest numbers is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ecomes the unofficial capitol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u Bois’ magazine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The Crisi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promo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usinfo.org/enus/life/people/afrhist/images/dairy.jpg"/>
          <p:cNvPicPr/>
          <p:nvPr/>
        </p:nvPicPr>
        <p:blipFill>
          <a:blip r:embed="rId1"/>
          <a:stretch/>
        </p:blipFill>
        <p:spPr>
          <a:xfrm>
            <a:off x="5257800" y="1417680"/>
            <a:ext cx="320040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arlem Renaissance: Marcus Garv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419720" cy="5486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couraged African Americans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) Take pride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) Look out for their own interests w/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eveloped Universal Negro ___________ Association (UNIA) whose motto was “Back to________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5" descr="http://www.geocities.com/clintonbennett/Lectures/garvey.jpg"/>
          <p:cNvPicPr/>
          <p:nvPr/>
        </p:nvPicPr>
        <p:blipFill>
          <a:blip r:embed="rId1"/>
          <a:stretch/>
        </p:blipFill>
        <p:spPr>
          <a:xfrm>
            <a:off x="5105520" y="1595520"/>
            <a:ext cx="339084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arlem Renaissance: The Art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419720" cy="5486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mon themes inclu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) Defiance again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)_____for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) African American ________ experi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R also gave birth to _______ music and some of the first respectable role for Black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http://www.catalyst-chicago.org/assets/blog/louis_armstrong_1.jpg"/>
          <p:cNvPicPr/>
          <p:nvPr/>
        </p:nvPicPr>
        <p:blipFill>
          <a:blip r:embed="rId1"/>
          <a:stretch/>
        </p:blipFill>
        <p:spPr>
          <a:xfrm>
            <a:off x="4800600" y="1447920"/>
            <a:ext cx="3019320" cy="37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www.kodiakschools.org/khs/departments/englishdepartment/American_Literature/assets/robeson.jpg"/>
          <p:cNvPicPr/>
          <p:nvPr/>
        </p:nvPicPr>
        <p:blipFill>
          <a:blip r:embed="rId2"/>
          <a:stretch/>
        </p:blipFill>
        <p:spPr>
          <a:xfrm>
            <a:off x="6629400" y="3733920"/>
            <a:ext cx="2236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Africa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1400"/>
            <a:ext cx="5410080" cy="68166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562720" y="0"/>
            <a:ext cx="33526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ern Sah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i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urit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nea Biss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ory Co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kina F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5:24:08Z</dcterms:created>
  <dc:creator>Christine Sturges</dc:creator>
  <dc:description/>
  <dc:language>en-US</dc:language>
  <cp:lastModifiedBy>IT Clone User</cp:lastModifiedBy>
  <dcterms:modified xsi:type="dcterms:W3CDTF">2009-09-08T14:24:35Z</dcterms:modified>
  <cp:revision>24</cp:revision>
  <dc:subject/>
  <dc:title>Journal 3/10</dc:title>
</cp:coreProperties>
</file>