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01D1-C8D6-4FDF-AC9D-98941A6B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598-6B4A-4D77-8F6D-29AA321A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8649-DCF4-42FC-8193-A9FA6019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91D-B30E-4B48-9F30-DA2CEBD5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78E-1A1B-467E-9E5B-B8B997F8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80E2-CA8C-4513-A045-C742F4C5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6A1-BEE1-46E1-9A59-31938B75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D8F1-E486-444B-8526-7AC3EA11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FF6-F30B-4CAE-9BDD-D67372F5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1D7-18C9-4E0E-8C3E-D3C8EBF1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43E-4089-4546-919E-5822D12E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FD4A-B880-4C6C-A1B5-07F81BBF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74DC-1DB2-4CE2-9DD4-EC8307C71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 Rounded MT Bold"/>
              </a:rPr>
              <a:t>Health Car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7621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. A. are more likely to die before age 45 than any other race or ethnic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re are only 96 doctors per 100,000 N. A. compared with 208 per 100,000 of the general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.A. have more diseases such as(mental health, nutrition, diabetes and alcoholism)and shorter life spans than the 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f the popul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na health.jpg"/>
          <p:cNvPicPr/>
          <p:nvPr/>
        </p:nvPicPr>
        <p:blipFill>
          <a:blip r:embed="rId1"/>
          <a:stretch/>
        </p:blipFill>
        <p:spPr>
          <a:xfrm>
            <a:off x="3809880" y="3962520"/>
            <a:ext cx="480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Environme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90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nvironmental issues: Land rights, Environmental justice, Economic development, and Spiritua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 1967 the Council of Energy Resource Tribes (CERT) was formed by 25 leaders of the west’s largest trib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ERT represents 48 tribes in the U.S. and 4 in Can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na environment.jpg"/>
          <p:cNvPicPr/>
          <p:nvPr/>
        </p:nvPicPr>
        <p:blipFill>
          <a:blip r:embed="rId1"/>
          <a:stretch/>
        </p:blipFill>
        <p:spPr>
          <a:xfrm>
            <a:off x="4114800" y="4191120"/>
            <a:ext cx="5029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20:48:58Z</dcterms:created>
  <dc:creator>TPS</dc:creator>
  <dc:description/>
  <dc:language>en-US</dc:language>
  <cp:lastModifiedBy>TPS</cp:lastModifiedBy>
  <dcterms:modified xsi:type="dcterms:W3CDTF">2009-01-26T21:20:28Z</dcterms:modified>
  <cp:revision>4</cp:revision>
  <dc:subject/>
  <dc:title>Health Care</dc:title>
</cp:coreProperties>
</file>