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79A-3936-4F5B-A481-E8F9BBDEA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7B50-D8BE-42C4-BA6B-7F8A4CB4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4739-5D24-4D8E-BE2D-0C1D31E9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F2B5-591C-4019-88EE-3AF2D8F3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7A1-4D6C-400D-97FC-8F1B8B93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8FC-A644-40DC-910B-F1E84070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9C5A-F3C3-4A81-8CBD-6B5FDDE8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67E-1587-4597-B752-911213CA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D76-F86E-4BD8-B208-9ADC2AE6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3FD-7D10-40F8-AE57-F1CC1868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328-E19E-441B-820F-4C1EDCEE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754-61B0-4A32-8154-67ABDC94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0662-637A-40D5-A79D-29FD0ECEA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 Rounded MT Bold"/>
              </a:rPr>
              <a:t>Health Car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762120"/>
            <a:ext cx="9144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. A. are more likely to die before age 45 than any other race or ethnic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are only 96 doctors per 100,000 N. A. compared with 208 per 100,000 of the general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N.A. have more diseases such as(mental health, nutrition, diabetes and alcoholism)and shorter life spans than the 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f the popul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na health.jpg"/>
          <p:cNvPicPr/>
          <p:nvPr/>
        </p:nvPicPr>
        <p:blipFill>
          <a:blip r:embed="rId1"/>
          <a:stretch/>
        </p:blipFill>
        <p:spPr>
          <a:xfrm>
            <a:off x="3809880" y="3962520"/>
            <a:ext cx="4800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Environmen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vironmental issues: Land rights, Environmental justice, Economic development, and Spiritua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 1967 the Council of Energy Resource Tribes (CERT) was formed by 25 leaders of the west’s largest trib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ERT represents 48 tribes in the U.S. and 4 in Can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na environment.jpg"/>
          <p:cNvPicPr/>
          <p:nvPr/>
        </p:nvPicPr>
        <p:blipFill>
          <a:blip r:embed="rId1"/>
          <a:stretch/>
        </p:blipFill>
        <p:spPr>
          <a:xfrm>
            <a:off x="4114800" y="4191120"/>
            <a:ext cx="5029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20:48:58Z</dcterms:created>
  <dc:creator>TPS</dc:creator>
  <dc:description/>
  <dc:language>en-US</dc:language>
  <cp:lastModifiedBy>TPS</cp:lastModifiedBy>
  <dcterms:modified xsi:type="dcterms:W3CDTF">2009-01-26T21:20:28Z</dcterms:modified>
  <cp:revision>4</cp:revision>
  <dc:subject/>
  <dc:title>Health Care</dc:title>
</cp:coreProperties>
</file>