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A300-E898-46A3-AE4D-B9A2BB77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26A-8CDC-460F-9B3E-52AC3848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0B5-1A9B-4F67-84F4-2CB7D6F16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372-FA8E-4A22-887D-BAC9305F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620-772D-4BED-9AA7-F7DCB4A7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8015-BFD9-4E71-A76E-9897DB79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C0A-02A8-49E8-B8C6-0F29A969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BCE-351B-45B5-B627-E20B2326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F0B3-1305-4DF0-9C46-9ED4678F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5E55-8C05-4A71-AEF5-21FE554E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E864-3996-4703-963D-ED24DF1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03E5-B87D-430E-AF0A-24B97CB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546E-7F6E-4CBD-8BC4-2887AC5CA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2011/11/18/politics/gerrymandering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Dates on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Watch video. Answer questions. DUE 2/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79680"/>
            <a:ext cx="91440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errymande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states do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ule(s) do states have to follow when redistrict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is controversia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page 311 Due 2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mean that priorities are reflected by the bud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to the budget when the congress and the White House are different par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2 characteristics of budgeting. Why are budgets incremen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for there to be exceptions to the budget process? Ex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the budget be scrutinized more so than other bills? Ex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/what sets the rules for the budget pro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problems with the budget proce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page 314 Due2/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a brochure for new members of congress with these headings and answering these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How should I vo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 How should I conduct busines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Talk about logrolling and specializ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) Should I form allianc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or get kicked off the isle?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mportance of personal friends and PA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) Media?! Use it? Or Bewar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) How do I manage my time? When do I use my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ection of your brochu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ust include one of the follow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a chart or graph, a picture, an historical example from US gov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e sure you know these terms before your Chapter 10 exam on 2/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ib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k-Barrel 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umbent (know in which house of congress is it harder for the challenger to win…why? Also what are the advantages of incumbenc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ing Commit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enc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ker v Ca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12:11Z</dcterms:created>
  <dc:creator>IT Clone User</dc:creator>
  <dc:description/>
  <dc:language>en-US</dc:language>
  <cp:lastModifiedBy>IT Clone User</cp:lastModifiedBy>
  <dcterms:modified xsi:type="dcterms:W3CDTF">2013-02-12T16:41:28Z</dcterms:modified>
  <cp:revision>3</cp:revision>
  <dc:subject/>
  <dc:title>Homework PowerPoint</dc:title>
</cp:coreProperties>
</file>