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A9BE-E4A0-4F80-87D8-03098476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966-3424-4B58-89E3-C7FDB82E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5308-85B1-458E-88B7-8CEC4917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584-913B-4358-8B80-D5F0CE03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8A5-E1B7-4467-AE25-B67B1451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087-153D-4A5C-8F50-40739758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8C6-5C56-4E89-9F41-2389BED3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3C4-F009-4070-BDAB-871B3C2C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20B9-FB85-487C-BD4C-AC664722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1C33-0BA1-4858-AA6A-99C9C96D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9506-5DBB-4F63-ACC0-10DD3330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507-E7B4-421E-B317-02D10C0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6752-ACD0-4876-B98A-6F43EA595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nn.com/2011/11/18/politics/gerrymandering/index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ework Power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ue Dates on s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</a:t>
            </a: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ER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Watch video. Answer questions. DUE 2/1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579680"/>
            <a:ext cx="914400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Gerrymander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2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 states do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2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rule(s) do states have to follow when redistrict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2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is this controversial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on page 311 Due 2/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mean that priorities are reflected by the budge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to the budget when the congress and the White House are different part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2 characteristics of budgeting. Why are budgets incremen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it ok for there to be exceptions to the budget process? Expl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uld the budget be scrutinized more so than other bills? Expl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/what sets the rules for the budget proce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problems with the budget proces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rt on page 314 Due2/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eate a brochure for new members of congress with these headings and answering these quest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) How should I vot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) How should I conduct busines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Talk about logrolling and specializ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) Should I form alliance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(or get kicked off the isle?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-importance of personal friends and PA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) Media?! Use it? Or Bewar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) How do I manage my time? When do I use my staff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15960" indent="-5090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section of your brochur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must include one of the following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; a chart or graph, a picture, an historical example from US gov’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ke sure you know these terms before your Chapter 10 exam on 2/2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2189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ibu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k-Barrel legi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umbent (know in which house of congress is it harder for the challenger to win…why? Also what are the advantages of incumbency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nding Committ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erence 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aker v Car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6:12:11Z</dcterms:created>
  <dc:creator>IT Clone User</dc:creator>
  <dc:description/>
  <dc:language>en-US</dc:language>
  <cp:lastModifiedBy>IT Clone User</cp:lastModifiedBy>
  <dcterms:modified xsi:type="dcterms:W3CDTF">2013-02-12T16:41:28Z</dcterms:modified>
  <cp:revision>3</cp:revision>
  <dc:subject/>
  <dc:title>Homework PowerPoint</dc:title>
</cp:coreProperties>
</file>