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B7BD-EC64-42FD-8F36-B04BBB71D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E35-890E-4409-8F49-85C32B43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824E-5525-43E1-88FF-D351D5FA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497-CD81-41BE-8DCA-1D66A729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BE5E-0EE9-44CD-9292-FB3559ED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1FD-8BEA-441F-818B-65047250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FDA-C264-4EF4-95EB-2EF5707F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56D-FE6D-402E-AF40-397928B7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619-2859-48F7-BCBD-9DFF9BD4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A810-7C84-435F-BACC-213E25E0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63DE-D6E2-4DFB-8ACB-A23F66B4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4C6-9979-4D6F-9132-BBF64E00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0B85-8FA4-43B6-BF23-D4DF7E169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sconsin. c.190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http://www.dwd.state.wi.us/dwd/DWDHistory/images/child_labor_big.jpg"/>
          <p:cNvPicPr/>
          <p:nvPr/>
        </p:nvPicPr>
        <p:blipFill>
          <a:blip r:embed="rId1"/>
          <a:stretch/>
        </p:blipFill>
        <p:spPr>
          <a:xfrm>
            <a:off x="0" y="145728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w Cen MT Condensed Extra Bold"/>
              </a:rPr>
              <a:t>In 1910 1 in 12 Americans are born in another count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http://bilan.usherbrooke.ca/voutes/voute3/immigrantsAttendantExamenMedical_1900.jpg"/>
          <p:cNvPicPr/>
          <p:nvPr/>
        </p:nvPicPr>
        <p:blipFill>
          <a:blip r:embed="rId1"/>
          <a:stretch/>
        </p:blipFill>
        <p:spPr>
          <a:xfrm>
            <a:off x="1847880" y="2481120"/>
            <a:ext cx="531504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w Cen MT Condensed Extra Bold"/>
              </a:rPr>
              <a:t>The journey to America is har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80880" y="2133720"/>
            <a:ext cx="78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How did the Immigrants get to docks?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buClr>
                <a:srgbClr val="ffffff"/>
              </a:buClr>
              <a:buFont typeface="Tw Cen MT Condensed Extra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Train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buClr>
                <a:srgbClr val="ffffff"/>
              </a:buClr>
              <a:buFont typeface="Tw Cen MT Condensed Extra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Wagon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buClr>
                <a:srgbClr val="ffffff"/>
              </a:buClr>
              <a:buFont typeface="Tw Cen MT Condensed Extra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_______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How did they get to US?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Steerage was the cheapest and most_________ way to travel.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Conditions of steerage passengers: 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pic>
        <p:nvPicPr>
          <p:cNvPr id="62" name="Picture 3" descr="http://www.pc.gc.ca/lhn-nhs/qc/grosseile/images/evolut_40.jpg"/>
          <p:cNvPicPr/>
          <p:nvPr/>
        </p:nvPicPr>
        <p:blipFill>
          <a:blip r:embed="rId1"/>
          <a:stretch/>
        </p:blipFill>
        <p:spPr>
          <a:xfrm>
            <a:off x="1143000" y="1905120"/>
            <a:ext cx="60199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w Cen MT Condensed Extra Bold"/>
              </a:rPr>
              <a:t>Immigration inspec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80880" y="1752480"/>
            <a:ext cx="85345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 Condensed Extra Bold"/>
              </a:rPr>
              <a:t>Before Immigrants got on board to come to US they had to</a:t>
            </a:r>
            <a:endParaRPr b="0" lang="en-US" sz="36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 Condensed Extra Bold"/>
              </a:rPr>
              <a:t>1)Be approved by:</a:t>
            </a:r>
            <a:endParaRPr b="0" lang="en-US" sz="36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 Condensed Extra Bold"/>
              </a:rPr>
              <a:t>2)Pass a:</a:t>
            </a:r>
            <a:endParaRPr b="0" lang="en-US" sz="36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 Condensed Extra Bold"/>
              </a:rPr>
              <a:t>3) Have $30 and ____________</a:t>
            </a:r>
            <a:endParaRPr b="0" lang="en-US" sz="36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pic>
        <p:nvPicPr>
          <p:cNvPr id="65" name="Picture 5" descr="http://rpp.english.ucsb.edu/wp-content/uploads/2006/08/angel_island_1_lg.jpg"/>
          <p:cNvPicPr/>
          <p:nvPr/>
        </p:nvPicPr>
        <p:blipFill>
          <a:blip r:embed="rId1"/>
          <a:stretch/>
        </p:blipFill>
        <p:spPr>
          <a:xfrm>
            <a:off x="609480" y="457200"/>
            <a:ext cx="762012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w Cen MT Condensed Extra Bold"/>
              </a:rPr>
              <a:t>The land of opportunity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0" y="1066680"/>
            <a:ext cx="4191120" cy="10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Immigration stations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Ellis Island on the: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Angel Island on the: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First/second class passengers: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w Cen MT Condensed Extra Bold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2)</a:t>
            </a:r>
            <a:r>
              <a:rPr b="0" lang="en-US" sz="3600" spc="-1" strike="noStrike">
                <a:solidFill>
                  <a:srgbClr val="ffffff"/>
                </a:solidFill>
                <a:latin typeface="Tw Cen MT Condensed Extra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 Condensed Extra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pic>
        <p:nvPicPr>
          <p:cNvPr id="68" name="Picture 5" descr="Image 4.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33920" y="3135240"/>
            <a:ext cx="518148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w Cen MT Condensed Extra Bold"/>
              </a:rPr>
              <a:t>Angel Island on the West Coa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0" y="1981080"/>
            <a:ext cx="5334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w Cen MT Condensed Extra Bold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w Cen MT Condensed Extra Bold"/>
              </a:rPr>
              <a:t>People detained at Angel Island faced prison like conditions” </a:t>
            </a:r>
            <a:endParaRPr b="0" lang="en-US" sz="48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pic>
        <p:nvPicPr>
          <p:cNvPr id="71" name="Picture 5" descr="http://www.digitalhistory.uh.edu/asian_voices/images/angel_island_lg.jpg"/>
          <p:cNvPicPr/>
          <p:nvPr/>
        </p:nvPicPr>
        <p:blipFill>
          <a:blip r:embed="rId1"/>
          <a:srcRect l="0" t="8139" r="0" b="0"/>
          <a:stretch/>
        </p:blipFill>
        <p:spPr>
          <a:xfrm>
            <a:off x="3048120" y="3581280"/>
            <a:ext cx="6095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w Cen MT Condensed Extra Bold"/>
              </a:rPr>
              <a:t>Life in Amer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http://www.swvamuseum.org/P-4.jpg"/>
          <p:cNvPicPr/>
          <p:nvPr/>
        </p:nvPicPr>
        <p:blipFill>
          <a:blip r:embed="rId1"/>
          <a:stretch/>
        </p:blipFill>
        <p:spPr>
          <a:xfrm>
            <a:off x="457200" y="1442880"/>
            <a:ext cx="8534520" cy="5415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www.lotusorganics.com/articles/sweatshop2.jpg"/>
          <p:cNvPicPr/>
          <p:nvPr/>
        </p:nvPicPr>
        <p:blipFill>
          <a:blip r:embed="rId2"/>
          <a:stretch/>
        </p:blipFill>
        <p:spPr>
          <a:xfrm>
            <a:off x="0" y="114480"/>
            <a:ext cx="86868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w Cen MT Condensed Extra Bold"/>
              </a:rPr>
              <a:t>Reactions to Immig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38080" y="1981080"/>
            <a:ext cx="76201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w Cen MT Condensed Extra Bold"/>
              </a:rPr>
              <a:t>Chinese Exclusion Act (1882)</a:t>
            </a:r>
            <a:endParaRPr b="0" lang="en-US" sz="54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w Cen MT Condensed Extra Bold"/>
              </a:rPr>
              <a:t>Segregation</a:t>
            </a:r>
            <a:endParaRPr b="0" lang="en-US" sz="54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w Cen MT Condensed Extra Bold"/>
              </a:rPr>
              <a:t>Literacy Tests</a:t>
            </a:r>
            <a:endParaRPr b="0" lang="en-US" sz="5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www.rothcpa.com/archives/misc/Child%20Labor.jpg"/>
          <p:cNvPicPr/>
          <p:nvPr/>
        </p:nvPicPr>
        <p:blipFill>
          <a:blip r:embed="rId1"/>
          <a:stretch/>
        </p:blipFill>
        <p:spPr>
          <a:xfrm>
            <a:off x="0" y="0"/>
            <a:ext cx="483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http://members.aol.com/nachamon/10.htm6.jpg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http://freepages.genealogy.rootsweb.com/~nepaphotos/november/November1/Breaker%20Men%20after%20the%201920s%20Child%20Labor%20Laws%20Went%20into%20Effect.jpg"/>
          <p:cNvPicPr/>
          <p:nvPr/>
        </p:nvPicPr>
        <p:blipFill>
          <a:blip r:embed="rId1"/>
          <a:srcRect l="3884" t="3876" r="4845" b="5130"/>
          <a:stretch/>
        </p:blipFill>
        <p:spPr>
          <a:xfrm>
            <a:off x="609480" y="20520"/>
            <a:ext cx="784872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http://viewfinder.english-heritage.org.uk/gallery/450/bl_/bl_15892.jpg"/>
          <p:cNvPicPr/>
          <p:nvPr/>
        </p:nvPicPr>
        <p:blipFill>
          <a:blip r:embed="rId1"/>
          <a:stretch/>
        </p:blipFill>
        <p:spPr>
          <a:xfrm>
            <a:off x="457200" y="-7920"/>
            <a:ext cx="8229600" cy="68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http://library.thinkquest.org/trio/TTQ02189/clothersfactory.gif"/>
          <p:cNvPicPr/>
          <p:nvPr/>
        </p:nvPicPr>
        <p:blipFill>
          <a:blip r:embed="rId1"/>
          <a:stretch/>
        </p:blipFill>
        <p:spPr>
          <a:xfrm>
            <a:off x="0" y="177840"/>
            <a:ext cx="914400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http://www.historyplace.com/unitedstates/childlabor/glimpse.jpg"/>
          <p:cNvPicPr/>
          <p:nvPr/>
        </p:nvPicPr>
        <p:blipFill>
          <a:blip r:embed="rId1"/>
          <a:stretch/>
        </p:blipFill>
        <p:spPr>
          <a:xfrm>
            <a:off x="685800" y="835200"/>
            <a:ext cx="7772400" cy="60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w Cen MT Condensed Extra Bold"/>
              </a:rPr>
              <a:t>American Diversi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Image 1.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17680" y="1676520"/>
            <a:ext cx="431172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w Cen MT Condensed Extra Bold"/>
              </a:rPr>
              <a:t>1800-1880=10 million immigr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838080" y="2971800"/>
            <a:ext cx="7467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Tw Cen MT Condensed Extra Bold"/>
              </a:rPr>
              <a:t>1880-1910=18 million new immigrants</a:t>
            </a:r>
            <a:endParaRPr b="0" lang="en-US" sz="5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7:22:24Z</dcterms:created>
  <dc:creator>TPS</dc:creator>
  <dc:description/>
  <dc:language>en-US</dc:language>
  <cp:lastModifiedBy>IT Clone User</cp:lastModifiedBy>
  <dcterms:modified xsi:type="dcterms:W3CDTF">2009-09-17T20:11:09Z</dcterms:modified>
  <cp:revision>26</cp:revision>
  <dc:subject/>
  <dc:title>Wisconsin. c.1907 </dc:title>
</cp:coreProperties>
</file>