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49F8-EE1A-4D52-9F51-9309BAF1A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A568-B7D2-44F2-AD25-C79BF43B4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C980-8349-4C30-A8D1-6CBAAE75A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11ED-C7E3-4D8D-96B0-1AF4CE3C0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C4B2-C5CE-41E3-83A2-CBD2FEB7A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475A-BC8C-41DF-99B1-AED817954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C26B-4C4E-4B58-9E2A-B150BAE47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0789-862E-4201-848A-C607660D7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ED90-F6F5-4410-86F5-F1ED578B0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65BF-A38D-4933-8CA4-8BACE17D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8C79-BDC8-4D9D-B79B-06808171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56F0-CE34-4963-9F94-DCB0D9DB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w Cen MT Condensed Extra Bol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w Cen MT Condensed Extra Bol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91DBE-EC29-4FA3-B7D2-B20BF6DE74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 Condensed Extra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isconsin. c.1907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" descr="http://www.dwd.state.wi.us/dwd/DWDHistory/images/child_labor_big.jpg"/>
          <p:cNvPicPr/>
          <p:nvPr/>
        </p:nvPicPr>
        <p:blipFill>
          <a:blip r:embed="rId1"/>
          <a:stretch/>
        </p:blipFill>
        <p:spPr>
          <a:xfrm>
            <a:off x="0" y="1457280"/>
            <a:ext cx="9144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w Cen MT Condensed Extra Bold"/>
              </a:rPr>
              <a:t>In 1910 1 in 12 Americans are born in another countr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http://bilan.usherbrooke.ca/voutes/voute3/immigrantsAttendantExamenMedical_1900.jpg"/>
          <p:cNvPicPr/>
          <p:nvPr/>
        </p:nvPicPr>
        <p:blipFill>
          <a:blip r:embed="rId1"/>
          <a:stretch/>
        </p:blipFill>
        <p:spPr>
          <a:xfrm>
            <a:off x="1847880" y="2481120"/>
            <a:ext cx="531504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w Cen MT Condensed Extra Bold"/>
              </a:rPr>
              <a:t>The journey to America is har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80880" y="2133720"/>
            <a:ext cx="7848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 Condensed Extra Bold"/>
              </a:rPr>
              <a:t>How did the Immigrants get to docks?</a:t>
            </a:r>
            <a:endParaRPr b="0" lang="en-US" sz="3200" spc="-1" strike="noStrike">
              <a:solidFill>
                <a:srgbClr val="000000"/>
              </a:solidFill>
              <a:latin typeface="Tw Cen MT Condensed Extra Bold"/>
            </a:endParaRPr>
          </a:p>
          <a:p>
            <a:pPr>
              <a:buClr>
                <a:srgbClr val="ffffff"/>
              </a:buClr>
              <a:buFont typeface="Tw Cen MT Condensed Extra Bol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 Condensed Extra Bold"/>
              </a:rPr>
              <a:t>Train</a:t>
            </a:r>
            <a:endParaRPr b="0" lang="en-US" sz="3200" spc="-1" strike="noStrike">
              <a:solidFill>
                <a:srgbClr val="000000"/>
              </a:solidFill>
              <a:latin typeface="Tw Cen MT Condensed Extra Bold"/>
            </a:endParaRPr>
          </a:p>
          <a:p>
            <a:pPr>
              <a:buClr>
                <a:srgbClr val="ffffff"/>
              </a:buClr>
              <a:buFont typeface="Tw Cen MT Condensed Extra Bol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 Condensed Extra Bold"/>
              </a:rPr>
              <a:t>Wagon</a:t>
            </a:r>
            <a:endParaRPr b="0" lang="en-US" sz="3200" spc="-1" strike="noStrike">
              <a:solidFill>
                <a:srgbClr val="000000"/>
              </a:solidFill>
              <a:latin typeface="Tw Cen MT Condensed Extra Bold"/>
            </a:endParaRPr>
          </a:p>
          <a:p>
            <a:pPr>
              <a:buClr>
                <a:srgbClr val="ffffff"/>
              </a:buClr>
              <a:buFont typeface="Tw Cen MT Condensed Extra Bol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 Condensed Extra Bold"/>
              </a:rPr>
              <a:t>_______</a:t>
            </a:r>
            <a:endParaRPr b="0" lang="en-US" sz="3200" spc="-1" strike="noStrike">
              <a:solidFill>
                <a:srgbClr val="000000"/>
              </a:solidFill>
              <a:latin typeface="Tw Cen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 Condensed Extra Bold"/>
              </a:rPr>
              <a:t>How did they get to US?</a:t>
            </a:r>
            <a:endParaRPr b="0" lang="en-US" sz="3200" spc="-1" strike="noStrike">
              <a:solidFill>
                <a:srgbClr val="000000"/>
              </a:solidFill>
              <a:latin typeface="Tw Cen MT Condensed Extra Bold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 Condensed Extra Bold"/>
              </a:rPr>
              <a:t>Steerage was the cheapest and most_________ way to travel.</a:t>
            </a:r>
            <a:endParaRPr b="0" lang="en-US" sz="3200" spc="-1" strike="noStrike">
              <a:solidFill>
                <a:srgbClr val="000000"/>
              </a:solidFill>
              <a:latin typeface="Tw Cen MT Condensed Extra Bold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 Condensed Extra Bold"/>
              </a:rPr>
              <a:t>Conditions of steerage passengers: </a:t>
            </a:r>
            <a:endParaRPr b="0" lang="en-US" sz="3200" spc="-1" strike="noStrike">
              <a:solidFill>
                <a:srgbClr val="000000"/>
              </a:solidFill>
              <a:latin typeface="Tw Cen MT Condensed Extra Bold"/>
            </a:endParaRPr>
          </a:p>
        </p:txBody>
      </p:sp>
      <p:pic>
        <p:nvPicPr>
          <p:cNvPr id="62" name="Picture 3" descr="http://www.pc.gc.ca/lhn-nhs/qc/grosseile/images/evolut_40.jpg"/>
          <p:cNvPicPr/>
          <p:nvPr/>
        </p:nvPicPr>
        <p:blipFill>
          <a:blip r:embed="rId1"/>
          <a:stretch/>
        </p:blipFill>
        <p:spPr>
          <a:xfrm>
            <a:off x="1143000" y="1905120"/>
            <a:ext cx="601992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w Cen MT Condensed Extra Bold"/>
              </a:rPr>
              <a:t>Immigration inspectio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380880" y="1752480"/>
            <a:ext cx="853452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 Condensed Extra Bold"/>
              </a:rPr>
              <a:t>Before Immigrants got on board to come to US they had to</a:t>
            </a:r>
            <a:endParaRPr b="0" lang="en-US" sz="3600" spc="-1" strike="noStrike">
              <a:solidFill>
                <a:srgbClr val="000000"/>
              </a:solidFill>
              <a:latin typeface="Tw Cen MT Condensed Extra Bold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 Condensed Extra Bold"/>
              </a:rPr>
              <a:t>1)Be approved by:</a:t>
            </a:r>
            <a:endParaRPr b="0" lang="en-US" sz="3600" spc="-1" strike="noStrike">
              <a:solidFill>
                <a:srgbClr val="000000"/>
              </a:solidFill>
              <a:latin typeface="Tw Cen MT Condensed Extra Bold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 Condensed Extra Bold"/>
              </a:rPr>
              <a:t>2)Pass a:</a:t>
            </a:r>
            <a:endParaRPr b="0" lang="en-US" sz="3600" spc="-1" strike="noStrike">
              <a:solidFill>
                <a:srgbClr val="000000"/>
              </a:solidFill>
              <a:latin typeface="Tw Cen MT Condensed Extra Bold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 Condensed Extra Bold"/>
              </a:rPr>
              <a:t>3) Have $30 and ____________</a:t>
            </a:r>
            <a:endParaRPr b="0" lang="en-US" sz="3600" spc="-1" strike="noStrike">
              <a:solidFill>
                <a:srgbClr val="000000"/>
              </a:solidFill>
              <a:latin typeface="Tw Cen MT Condensed Extra Bold"/>
            </a:endParaRPr>
          </a:p>
        </p:txBody>
      </p:sp>
      <p:pic>
        <p:nvPicPr>
          <p:cNvPr id="65" name="Picture 5" descr="http://rpp.english.ucsb.edu/wp-content/uploads/2006/08/angel_island_1_lg.jpg"/>
          <p:cNvPicPr/>
          <p:nvPr/>
        </p:nvPicPr>
        <p:blipFill>
          <a:blip r:embed="rId1"/>
          <a:stretch/>
        </p:blipFill>
        <p:spPr>
          <a:xfrm>
            <a:off x="609480" y="457200"/>
            <a:ext cx="762012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w Cen MT Condensed Extra Bold"/>
              </a:rPr>
              <a:t>The land of opportunity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0" y="1066680"/>
            <a:ext cx="4191120" cy="106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 Condensed Extra Bold"/>
              </a:rPr>
              <a:t>Immigration stations</a:t>
            </a:r>
            <a:endParaRPr b="0" lang="en-US" sz="3200" spc="-1" strike="noStrike">
              <a:solidFill>
                <a:srgbClr val="000000"/>
              </a:solidFill>
              <a:latin typeface="Tw Cen MT Condensed Extra Bold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 Condensed Extra Bold"/>
              </a:rPr>
              <a:t>Ellis Island on the:</a:t>
            </a:r>
            <a:endParaRPr b="0" lang="en-US" sz="3200" spc="-1" strike="noStrike">
              <a:solidFill>
                <a:srgbClr val="000000"/>
              </a:solidFill>
              <a:latin typeface="Tw Cen MT Condensed Extra Bold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 Condensed Extra Bold"/>
              </a:rPr>
              <a:t>Angel Island on the:</a:t>
            </a:r>
            <a:endParaRPr b="0" lang="en-US" sz="3200" spc="-1" strike="noStrike">
              <a:solidFill>
                <a:srgbClr val="000000"/>
              </a:solidFill>
              <a:latin typeface="Tw Cen MT Condensed Extra Bold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 Condensed Extra Bold"/>
              </a:rPr>
              <a:t>First/second class passengers:</a:t>
            </a:r>
            <a:endParaRPr b="0" lang="en-US" sz="3200" spc="-1" strike="noStrike">
              <a:solidFill>
                <a:srgbClr val="000000"/>
              </a:solidFill>
              <a:latin typeface="Tw Cen MT Condensed Extra Bold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 Condensed Extra Bold"/>
              </a:rPr>
              <a:t>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w Cen MT Condensed Extra Bold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Tw Cen MT Condensed Extra Bold"/>
              </a:rPr>
              <a:t> class</a:t>
            </a:r>
            <a:endParaRPr b="0" lang="en-US" sz="3200" spc="-1" strike="noStrike">
              <a:solidFill>
                <a:srgbClr val="000000"/>
              </a:solidFill>
              <a:latin typeface="Tw Cen MT Condensed Extra Bold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 Condensed Extra Bold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Tw Cen MT Condensed Extra Bold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 Condensed Extra Bold"/>
              </a:rPr>
              <a:t>2)</a:t>
            </a:r>
            <a:r>
              <a:rPr b="0" lang="en-US" sz="3600" spc="-1" strike="noStrike">
                <a:solidFill>
                  <a:srgbClr val="ffffff"/>
                </a:solidFill>
                <a:latin typeface="Tw Cen MT Condensed Extra Bold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w Cen MT Condensed Extra Bold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 Condensed Extra Bold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w Cen MT Condensed Extra Bold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w Cen MT Condensed Extra Bold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w Cen MT Condensed Extra Bold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w Cen MT Condensed Extra Bold"/>
            </a:endParaRPr>
          </a:p>
        </p:txBody>
      </p:sp>
      <p:pic>
        <p:nvPicPr>
          <p:cNvPr id="68" name="Picture 5" descr="Image 4.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733920" y="3135240"/>
            <a:ext cx="5181480" cy="31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w Cen MT Condensed Extra Bold"/>
              </a:rPr>
              <a:t>Angel Island on the West Coas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0" y="1981080"/>
            <a:ext cx="5334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w Cen MT Condensed Extra Bold"/>
              </a:rPr>
              <a:t>“</a:t>
            </a:r>
            <a:r>
              <a:rPr b="0" lang="en-US" sz="4800" spc="-1" strike="noStrike">
                <a:solidFill>
                  <a:srgbClr val="ffffff"/>
                </a:solidFill>
                <a:latin typeface="Tw Cen MT Condensed Extra Bold"/>
              </a:rPr>
              <a:t>People detained at Angel Island faced prison like conditions” </a:t>
            </a:r>
            <a:endParaRPr b="0" lang="en-US" sz="4800" spc="-1" strike="noStrike">
              <a:solidFill>
                <a:srgbClr val="000000"/>
              </a:solidFill>
              <a:latin typeface="Tw Cen MT Condensed Extra Bold"/>
            </a:endParaRPr>
          </a:p>
        </p:txBody>
      </p:sp>
      <p:pic>
        <p:nvPicPr>
          <p:cNvPr id="71" name="Picture 5" descr="http://www.digitalhistory.uh.edu/asian_voices/images/angel_island_lg.jpg"/>
          <p:cNvPicPr/>
          <p:nvPr/>
        </p:nvPicPr>
        <p:blipFill>
          <a:blip r:embed="rId1"/>
          <a:srcRect l="0" t="8139" r="0" b="0"/>
          <a:stretch/>
        </p:blipFill>
        <p:spPr>
          <a:xfrm>
            <a:off x="3048120" y="3581280"/>
            <a:ext cx="60958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w Cen MT Condensed Extra Bold"/>
              </a:rPr>
              <a:t>Life in Americ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http://www.swvamuseum.org/P-4.jpg"/>
          <p:cNvPicPr/>
          <p:nvPr/>
        </p:nvPicPr>
        <p:blipFill>
          <a:blip r:embed="rId1"/>
          <a:stretch/>
        </p:blipFill>
        <p:spPr>
          <a:xfrm>
            <a:off x="457200" y="1442880"/>
            <a:ext cx="8534520" cy="5415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http://www.lotusorganics.com/articles/sweatshop2.jpg"/>
          <p:cNvPicPr/>
          <p:nvPr/>
        </p:nvPicPr>
        <p:blipFill>
          <a:blip r:embed="rId2"/>
          <a:stretch/>
        </p:blipFill>
        <p:spPr>
          <a:xfrm>
            <a:off x="0" y="114480"/>
            <a:ext cx="868680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w Cen MT Condensed Extra Bold"/>
              </a:rPr>
              <a:t>Reactions to Immigr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838080" y="1981080"/>
            <a:ext cx="762012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w Cen MT Condensed Extra Bold"/>
              </a:rPr>
              <a:t>Chinese Exclusion Act (1882)</a:t>
            </a:r>
            <a:endParaRPr b="0" lang="en-US" sz="5400" spc="-1" strike="noStrike">
              <a:solidFill>
                <a:srgbClr val="000000"/>
              </a:solidFill>
              <a:latin typeface="Tw Cen MT Condensed Extra Bold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w Cen MT Condensed Extra Bold"/>
              </a:rPr>
              <a:t>Segregation</a:t>
            </a:r>
            <a:endParaRPr b="0" lang="en-US" sz="5400" spc="-1" strike="noStrike">
              <a:solidFill>
                <a:srgbClr val="000000"/>
              </a:solidFill>
              <a:latin typeface="Tw Cen MT Condensed Extra Bold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w Cen MT Condensed Extra Bold"/>
              </a:rPr>
              <a:t>Literacy Tests</a:t>
            </a:r>
            <a:endParaRPr b="0" lang="en-US" sz="5400" spc="-1" strike="noStrike">
              <a:solidFill>
                <a:srgbClr val="000000"/>
              </a:solidFill>
              <a:latin typeface="Tw Cen MT Condensed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http://www.rothcpa.com/archives/misc/Child%20Labor.jpg"/>
          <p:cNvPicPr/>
          <p:nvPr/>
        </p:nvPicPr>
        <p:blipFill>
          <a:blip r:embed="rId1"/>
          <a:stretch/>
        </p:blipFill>
        <p:spPr>
          <a:xfrm>
            <a:off x="0" y="0"/>
            <a:ext cx="4838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4" descr="http://members.aol.com/nachamon/10.htm6.jpg"/>
          <p:cNvPicPr/>
          <p:nvPr/>
        </p:nvPicPr>
        <p:blipFill>
          <a:blip r:embed="rId1"/>
          <a:stretch/>
        </p:blipFill>
        <p:spPr>
          <a:xfrm>
            <a:off x="0" y="47520"/>
            <a:ext cx="9144000" cy="68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4" descr="http://freepages.genealogy.rootsweb.com/~nepaphotos/november/November1/Breaker%20Men%20after%20the%201920s%20Child%20Labor%20Laws%20Went%20into%20Effect.jpg"/>
          <p:cNvPicPr/>
          <p:nvPr/>
        </p:nvPicPr>
        <p:blipFill>
          <a:blip r:embed="rId1"/>
          <a:srcRect l="3884" t="3876" r="4845" b="5130"/>
          <a:stretch/>
        </p:blipFill>
        <p:spPr>
          <a:xfrm>
            <a:off x="609480" y="20520"/>
            <a:ext cx="784872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http://viewfinder.english-heritage.org.uk/gallery/450/bl_/bl_15892.jpg"/>
          <p:cNvPicPr/>
          <p:nvPr/>
        </p:nvPicPr>
        <p:blipFill>
          <a:blip r:embed="rId1"/>
          <a:stretch/>
        </p:blipFill>
        <p:spPr>
          <a:xfrm>
            <a:off x="457200" y="-7920"/>
            <a:ext cx="8229600" cy="68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http://library.thinkquest.org/trio/TTQ02189/clothersfactory.gif"/>
          <p:cNvPicPr/>
          <p:nvPr/>
        </p:nvPicPr>
        <p:blipFill>
          <a:blip r:embed="rId1"/>
          <a:stretch/>
        </p:blipFill>
        <p:spPr>
          <a:xfrm>
            <a:off x="0" y="177840"/>
            <a:ext cx="9144000" cy="65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http://www.historyplace.com/unitedstates/childlabor/glimpse.jpg"/>
          <p:cNvPicPr/>
          <p:nvPr/>
        </p:nvPicPr>
        <p:blipFill>
          <a:blip r:embed="rId1"/>
          <a:stretch/>
        </p:blipFill>
        <p:spPr>
          <a:xfrm>
            <a:off x="685800" y="835200"/>
            <a:ext cx="7772400" cy="60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w Cen MT Condensed Extra Bold"/>
              </a:rPr>
              <a:t>American Diversit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8" descr="Image 1.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17680" y="1676520"/>
            <a:ext cx="431172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w Cen MT Condensed Extra Bold"/>
              </a:rPr>
              <a:t>1800-1880=10 million immigran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838080" y="2971800"/>
            <a:ext cx="7467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Tw Cen MT Condensed Extra Bold"/>
              </a:rPr>
              <a:t>1880-1910=18 million new immigrants</a:t>
            </a:r>
            <a:endParaRPr b="0" lang="en-US" sz="5400" spc="-1" strike="noStrike">
              <a:solidFill>
                <a:srgbClr val="000000"/>
              </a:solidFill>
              <a:latin typeface="Tw Cen MT Condensed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5T17:22:24Z</dcterms:created>
  <dc:creator>TPS</dc:creator>
  <dc:description/>
  <dc:language>en-US</dc:language>
  <cp:lastModifiedBy>IT Clone User</cp:lastModifiedBy>
  <dcterms:modified xsi:type="dcterms:W3CDTF">2009-09-17T20:11:09Z</dcterms:modified>
  <cp:revision>26</cp:revision>
  <dc:subject/>
  <dc:title>Wisconsin. c.1907 </dc:title>
</cp:coreProperties>
</file>