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0A92-7228-46DE-BCFC-35035379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FD94-C58E-467F-AF93-194B1DED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B53-D8F1-4C4A-AA4B-F681A87A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816-82BA-4FD3-8031-FB7017D1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FEC-C02E-40A7-9726-CC283FF6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679-25B4-42A7-8F59-DFA149AC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FCFB-ACB6-4D02-B388-4B3E4CC5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6CE-2C13-4582-BFBC-6B31A213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EC7-19C3-493F-A101-CFC05EB2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0EFF-66AE-4B97-9176-F84AB1F3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46D-BA8B-442D-B835-B3549CE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C115-98CB-4DE6-A348-A586870B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E773-2EDA-46A1-BA26-4DBF009A5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4/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e; the superintendent of WaRu district is now the head of 501. He has made the following chan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students will be escorted to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tudents outside classroom during class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vehicles will be searched da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feel about these changes? Why do you think they’re being mad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 ‘invasion’ be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4572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/f the:                                Euros. stay out of the:      b/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ger from Afric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in transport &amp;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onaries seek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rnalistic view of Afric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ans meet in_____ to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public.iastate.edu/~cfford/342colonialafrica.gif"/>
          <p:cNvPicPr/>
          <p:nvPr/>
        </p:nvPicPr>
        <p:blipFill>
          <a:blip r:embed="rId1"/>
          <a:stretch/>
        </p:blipFill>
        <p:spPr>
          <a:xfrm>
            <a:off x="4734000" y="1819440"/>
            <a:ext cx="4410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erialism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4572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an divided up Africa based on their _____ w/o regard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Africans were forc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mines as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ht in_____btw Euro. nations over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opt European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set up an all-____ gov’t in South Africa that lasted until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historyking.com/images/New-Imperialism-World-History.jpg"/>
          <p:cNvPicPr/>
          <p:nvPr/>
        </p:nvPicPr>
        <p:blipFill>
          <a:blip r:embed="rId1"/>
          <a:stretch/>
        </p:blipFill>
        <p:spPr>
          <a:xfrm>
            <a:off x="4800600" y="1295280"/>
            <a:ext cx="38098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viding up the g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mperialism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 Imperi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empires are interested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ers of empires may not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w Imperial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eading the “Blessings of_________ civiliz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Darwinis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did the Industrial Rev lead to Imperialis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in industry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population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cements justify Social 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Rev. doesn’t happen in____, ______ and Latin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ver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ial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apwhwiki.pbworks.com/f/1241373332/imperialism.jpg"/>
          <p:cNvPicPr/>
          <p:nvPr/>
        </p:nvPicPr>
        <p:blipFill>
          <a:blip r:embed="rId1"/>
          <a:stretch/>
        </p:blipFill>
        <p:spPr>
          <a:xfrm>
            <a:off x="4648320" y="1584360"/>
            <a:ext cx="42814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Kinds of European Imp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icial from the count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offici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orate: Local system is left in place b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ere of influence: Area is not a colony b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engagediversity.net/Social_Darwinism.jpg"/>
          <p:cNvPicPr/>
          <p:nvPr/>
        </p:nvPicPr>
        <p:blipFill>
          <a:blip r:embed="rId1"/>
          <a:stretch/>
        </p:blipFill>
        <p:spPr>
          <a:xfrm>
            <a:off x="5257800" y="1219320"/>
            <a:ext cx="30956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4.2) Answer the following questions on your ow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666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ole did religion play in uniting Africa in the early 1800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are the Boers? How do they represent industrialization while the Zulus represent the “old world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Social Darwinism applied in Africa, (look at paternalistic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ight the Berlin Conference be en example of Social Darwinism or paternalistic feelings in pract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chart discussing Belgium, Britain and France’s role in imperializing Afr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4/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756. Who was King Leopold II? What did he do in Africa? What was the Congo like under his ru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ERIALISM: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 Before Imp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4572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 is _______and un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m helps br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lim leaders contro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and edu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ulus in Souther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thless; great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quer_____but als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ers are Dutch farmers leaving old colon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ulus are no match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www.vibecircle.com/vc/Pics/Mem_2/KingShaka.jpg"/>
          <p:cNvPicPr/>
          <p:nvPr/>
        </p:nvPicPr>
        <p:blipFill>
          <a:blip r:embed="rId1"/>
          <a:stretch/>
        </p:blipFill>
        <p:spPr>
          <a:xfrm>
            <a:off x="5486400" y="1295280"/>
            <a:ext cx="285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5:16:29Z</dcterms:created>
  <dc:creator>IT Clone User</dc:creator>
  <dc:description/>
  <dc:language>en-US</dc:language>
  <cp:lastModifiedBy>IT Clone User</cp:lastModifiedBy>
  <dcterms:modified xsi:type="dcterms:W3CDTF">2010-04-15T16:57:49Z</dcterms:modified>
  <cp:revision>24</cp:revision>
  <dc:subject/>
  <dc:title>Imperialism</dc:title>
</cp:coreProperties>
</file>