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21BF-331E-4439-9B06-624E822E5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898C-1ECF-4C24-98DF-DDFA3661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5009-CAAA-4CDE-81B9-8D81D1342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7555-46DF-4440-B26B-359B5737D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B359-9C84-47EA-8572-E3724E09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735C-D656-4C66-BF4F-F7A94BA3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D821-2678-44C9-A8D9-B5A48FD2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62F5-A29B-4EE4-A4D1-D30FDC14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C5AE-58B9-4A44-B9F8-7F5CF2F8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C97A-B635-47F5-8C24-213A628B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D353-0321-443E-9139-3C29E6D4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B2A0-5187-41F9-B741-DA0E7FA4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36AC-CEA7-46EA-BBD9-3C67A0D3A9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urnal 4/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agine; the superintendent of WaRu district is now the head of 501. He has made the following chang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students will be escorted to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students outside classroom during class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 vehicles will be searched dail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you feel about these changes? Why do you think they’re being mad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uropean ‘invasion’ beg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457200"/>
            <a:ext cx="46483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/f the:                                Euros. stay out of the:      b/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nger from Africa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icult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e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in transport &amp;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ssionaries seeks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ernalistic view of Africa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ropeans meet in_____ to discus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www.public.iastate.edu/~cfford/342colonialafrica.gif"/>
          <p:cNvPicPr/>
          <p:nvPr/>
        </p:nvPicPr>
        <p:blipFill>
          <a:blip r:embed="rId1"/>
          <a:stretch/>
        </p:blipFill>
        <p:spPr>
          <a:xfrm>
            <a:off x="4734000" y="1819440"/>
            <a:ext cx="441000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erialism in Afr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457200"/>
            <a:ext cx="46483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ropean divided up Africa based on their _____ w/o regards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ve Africans were forced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in mines as 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ght in_____btw Euro. nations over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opt European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tish set up an all-____ gov’t in South Africa that lasted until 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www.historyking.com/images/New-Imperialism-World-History.jpg"/>
          <p:cNvPicPr/>
          <p:nvPr/>
        </p:nvPicPr>
        <p:blipFill>
          <a:blip r:embed="rId1"/>
          <a:stretch/>
        </p:blipFill>
        <p:spPr>
          <a:xfrm>
            <a:off x="4800600" y="1295280"/>
            <a:ext cx="380988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eri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ividing up the glo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 Imperialism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ld Imperia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 empires are interested 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ders of empires may not b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ew Imperialis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 inter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reading the “Blessings of_________ civilizatio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Darwinis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ow did the Industrial Rev lead to Imperialism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914400"/>
            <a:ext cx="4648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iciency in industry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wing population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vancements justify Social 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ustrial Rev. doesn’t happen in____, ______ and Latin 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vert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nialism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apwhwiki.pbworks.com/f/1241373332/imperialism.jpg"/>
          <p:cNvPicPr/>
          <p:nvPr/>
        </p:nvPicPr>
        <p:blipFill>
          <a:blip r:embed="rId1"/>
          <a:stretch/>
        </p:blipFill>
        <p:spPr>
          <a:xfrm>
            <a:off x="4648320" y="1584360"/>
            <a:ext cx="428148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 Kinds of European Imperi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761760"/>
            <a:ext cx="46483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 R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n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ficial from the countr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rect R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iti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l official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tectorate: Local system is left in place b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here of influence: Area is not a colony b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www.engagediversity.net/Social_Darwinism.jpg"/>
          <p:cNvPicPr/>
          <p:nvPr/>
        </p:nvPicPr>
        <p:blipFill>
          <a:blip r:embed="rId1"/>
          <a:stretch/>
        </p:blipFill>
        <p:spPr>
          <a:xfrm>
            <a:off x="5257800" y="1219320"/>
            <a:ext cx="309564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24.2) Answer the following questions on your own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106668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role did religion play in uniting Africa in the early 1800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 are the Boers? How do they represent industrialization while the Zulus represent the “old world”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is Social Darwinism applied in Africa, (look at paternalistic)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ight the Berlin Conference be en example of Social Darwinism or paternalistic feelings in practic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 a chart discussing Belgium, Britain and France’s role in imperializing Afric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urnal 4/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rn to 756. Who was King Leopold II? What did he do in Africa? What was the Congo like under his rul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MPERIALISM: AFR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frica Before Imperi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457200"/>
            <a:ext cx="46483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rica is _______and un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lam helps br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lim leaders contro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lth and educ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ulus in Southern Af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thless; great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quer_____but als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ers are Dutch farmers leaving old colon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ulus are no match f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http://www.vibecircle.com/vc/Pics/Mem_2/KingShaka.jpg"/>
          <p:cNvPicPr/>
          <p:nvPr/>
        </p:nvPicPr>
        <p:blipFill>
          <a:blip r:embed="rId1"/>
          <a:stretch/>
        </p:blipFill>
        <p:spPr>
          <a:xfrm>
            <a:off x="5486400" y="1295280"/>
            <a:ext cx="285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15:16:29Z</dcterms:created>
  <dc:creator>IT Clone User</dc:creator>
  <dc:description/>
  <dc:language>en-US</dc:language>
  <cp:lastModifiedBy>IT Clone User</cp:lastModifiedBy>
  <dcterms:modified xsi:type="dcterms:W3CDTF">2010-04-15T16:57:49Z</dcterms:modified>
  <cp:revision>24</cp:revision>
  <dc:subject/>
  <dc:title>Imperialism</dc:title>
</cp:coreProperties>
</file>