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760D-FD4F-4C13-927B-81CC6AA66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leaders in India are disconnected from th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) Highly educ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) Fairly w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andhi rejects the cast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himsa= Hindu principle of non-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ivil disobedience: to openly disobey unjust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D5C3-B8FA-456C-BE50-FBD80D3E8A82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nsions running high in the city of  Amrits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dians are reacting with violence towards the Br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aceful crowd gathers in the city even though Brits have banned public mee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rit. Guards open fire on the crowd killing about 400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CBF3-5DA8-413D-851E-22364DD1579F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exploit Indian diversity to gain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up of mostly Hindus and Musl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a is not un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s are in India to: make money and expand British infolu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BF88-0DC0-421E-987C-702F4A332E41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British Raj: Raj is an Indian word for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East India Company: is a trading company that runs Indian gov’t in the name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few Indians in the gov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Indian businesses so: they wont compete with British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s “modernize” India at the expense of Indian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d to be educated in 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s outlaw certain Hindu cus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DF52-2BB4-40DF-9FCB-DE67145AC354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poy is: An Indian in the British 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ritish laws make Indians break: religious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: forces Hindus to associate with lower cas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fle cartridges: coated in the fat of animals (Muslims don’t eat beef and Hindus don’t eat any meat at 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oy refuse to: use the new rifles and stage a pro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poy Rebel.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British crown to take direct and tighter control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Deep distrust between the British in India and the Indian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4E8-2296-48C0-8453-D61E2F6DC604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F88-933C-42FC-983A-5AB9C01C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DAF2-D539-429B-B79A-7C604D9F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1D6-8C03-4778-B1EF-89ACF23E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29A-DB61-44A6-BD31-6C4052AC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2915-A3DF-48C0-BE36-A91EA553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C31C-16FC-4C04-BE42-54ED1B53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EB8F-3A4B-411D-8912-A5B09790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22CA-70DC-428E-8324-6D342876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4ACB-B44D-464D-854B-E15129CE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9818-AA1F-4246-A677-3B408720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A64B-C9FD-4796-B7F0-1DD0866F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82B-986F-4FC1-BBAE-6ED11E70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0A17-EEA6-4026-AE37-086A8A4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E7EB-9103-40AF-AAFD-BA018F23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75E5-C6D1-4083-9771-F8A31F6E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876D-D297-46A9-99E3-A1CF0028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C793-F700-4ECC-94D0-11405F53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8AE2-35E2-4986-AC7C-3EC5FAF3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C2F-CF46-4DE5-8948-55C502DE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24C-AFDA-45A5-B507-58873EAF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4953-73D8-4E79-A525-C93AFA68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48C-FBC0-45E8-AABE-7BCD9EFC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35F-E504-4182-A9BC-76D78A21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BD34-C96A-4351-9FBE-782CDC17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Picture 5" descr="D:\FRONTPAGE THEMES\CONSTRUC\URBBANND.PNG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52E5-C636-4B81-BB44-EF2CD800CC7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Picture 5" descr="D:\FRONTPAGE THEMES\CONSTRUC\URBBANND.PNG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1BDD-BA1A-466B-B259-DDD8CEC3C470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bc03"/>
                </a:solidFill>
                <a:latin typeface="Impact"/>
              </a:rPr>
              <a:t>Fight for Indian Independence</a:t>
            </a:r>
            <a:endParaRPr b="0" lang="en-US" sz="4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andhi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The leaders in India are_____________ from the peopl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1) Highly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2) fairly__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Gandhi ______ the caste syst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Ahimsa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Civil disobedience: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3" name="Picture 7" descr="Mahatama Gandhi, Father of Modern India"/>
          <p:cNvPicPr/>
          <p:nvPr/>
        </p:nvPicPr>
        <p:blipFill>
          <a:blip r:embed="rId3"/>
          <a:stretch/>
        </p:blipFill>
        <p:spPr>
          <a:xfrm>
            <a:off x="4648320" y="1996920"/>
            <a:ext cx="380988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mritsar Massacre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1919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Tensions running high in the city of __________________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Indians are reacting with _________towards the Brit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Peaceful crowd gathers in the city even though Brits have banned public_____________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Brit. Guards ____  _____ on the crowd killing about 400</a:t>
            </a: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6" name="Picture 8" descr="http://brownskinzproductions.com/fa_images/AmritsarMassacre.gif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andhi: Boycott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British have a monopoly on _________; they force the Indians to buy cotton only from ___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Gandhi encourages Indians to ________their own cott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9" name="Picture 8" descr="http://houston.indymedia.org/uploads/2003/09/gandhi-wheel.jpg"/>
          <p:cNvPicPr/>
          <p:nvPr/>
        </p:nvPicPr>
        <p:blipFill>
          <a:blip r:embed="rId1"/>
          <a:stretch/>
        </p:blipFill>
        <p:spPr>
          <a:xfrm>
            <a:off x="4648320" y="2671920"/>
            <a:ext cx="3809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andhi: The Salt Mar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British have a monopoly on _________; natural salt can be obtained at the 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1930, 240 miles, 78 Indians (including Gandhi) march to 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Results of Salt March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Gandhi is________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Indians continue to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2" name="Picture 8" descr="http://upload.wikimedia.org/wikipedia/commons/7/76/Gandhi_Salt_March.jpg"/>
          <p:cNvPicPr/>
          <p:nvPr/>
        </p:nvPicPr>
        <p:blipFill>
          <a:blip r:embed="rId3"/>
          <a:stretch/>
        </p:blipFill>
        <p:spPr>
          <a:xfrm>
            <a:off x="4495680" y="2209680"/>
            <a:ext cx="4419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Journal 5/6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call what the terms 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Imperialism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d 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Social Darwinism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mean. How might this picture represent both?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1" name="il_fi" descr="http://www.tallarmeniantale.com/pics/britishraj_indianservant.JPG"/>
          <p:cNvPicPr/>
          <p:nvPr/>
        </p:nvPicPr>
        <p:blipFill>
          <a:blip r:embed="rId1"/>
          <a:stretch/>
        </p:blipFill>
        <p:spPr>
          <a:xfrm>
            <a:off x="4572000" y="1752480"/>
            <a:ext cx="4572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ritish Rule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ish exploit Indian _______ to gain powe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de up of mostly Hindus and _____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dia is not unifie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s are in India t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Picture 7" descr="http://freespace.virgin.net/andrew.randall1/indiaraj.gif"/>
          <p:cNvPicPr/>
          <p:nvPr/>
        </p:nvPicPr>
        <p:blipFill>
          <a:blip r:embed="rId3"/>
          <a:stretch/>
        </p:blipFill>
        <p:spPr>
          <a:xfrm>
            <a:off x="3886200" y="1817640"/>
            <a:ext cx="50292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Impact of British Rul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lled British Raj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ish East India Company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ery few_______in the gov’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lose_______businesses so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s “__________”India at the expense of ______cultur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orced to be educated in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rits outlaw certain Hindu ____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7" name="Picture 7" descr="http://images.google.com/url?q=http://upload.wikimedia.org/wikipedia/commons/thumb/b/be/British_Raj_Red_Ensign.svg/800px-British_Raj_Red_Ensign.svg.png&amp;usg=AFQjCNEWqA4k8AgrPa4byCciti9kOX0tDA"/>
          <p:cNvPicPr/>
          <p:nvPr/>
        </p:nvPicPr>
        <p:blipFill>
          <a:blip r:embed="rId5"/>
          <a:stretch/>
        </p:blipFill>
        <p:spPr>
          <a:xfrm>
            <a:off x="5181480" y="312408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poy Rebellion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6172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 Sepoy i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ome British laws make Indians break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ravel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ifle cartridge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poy refuse to: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d stage a protes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Sepoy Rebel. caus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1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2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0" name="Picture 6" descr="http://ram.nmolp.org/creativespaces/files/photos/photo-eb14e1dacd97703e8d2a235ed24cb18d.jpg"/>
          <p:cNvPicPr/>
          <p:nvPr/>
        </p:nvPicPr>
        <p:blipFill>
          <a:blip r:embed="rId5"/>
          <a:stretch/>
        </p:blipFill>
        <p:spPr>
          <a:xfrm>
            <a:off x="6934320" y="990720"/>
            <a:ext cx="140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Impact of British Rule:Indian famin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ish exploit Indian 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dustrialize which 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arm land has been converted from food production to __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people to feed but less food 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3" name="Picture 7" descr="http://www.gutenberg.org/files/13242/13242-h/images/418.jpg"/>
          <p:cNvPicPr/>
          <p:nvPr/>
        </p:nvPicPr>
        <p:blipFill>
          <a:blip r:embed="rId3"/>
          <a:stretch/>
        </p:blipFill>
        <p:spPr>
          <a:xfrm>
            <a:off x="4648320" y="2627280"/>
            <a:ext cx="3809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Impact of British Rule: Some positives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le of law 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-31212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dustrializat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676080" indent="-25992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ailroad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676080" indent="-25992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echnolog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-31212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________benefits from English education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-31212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Connection w/ other countries =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 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6" name="Picture 7" descr="http://www.textually.org/textually/archives/archives/images/set2/510Untitled-7-med.jpg"/>
          <p:cNvPicPr/>
          <p:nvPr/>
        </p:nvPicPr>
        <p:blipFill>
          <a:blip r:embed="rId3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Journal 2/23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Turn to page 762. Complete the note taking guide at the bottom left. As you read through the section answer the 4 check point questions.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If you finished this already…is your crossword finished? If so work on something else quietly.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Journal 5/8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oday we will learn about an Indian leader named Gandhi. One of my favorite Gandhi quotes i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“…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even if you are a minority of one, the truth is the truth.”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lect on this statement; what did Gandhi mean?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9:17:52Z</dcterms:created>
  <dc:creator>TPS</dc:creator>
  <dc:description/>
  <dc:language>en-US</dc:language>
  <cp:lastModifiedBy>IT Clone User</cp:lastModifiedBy>
  <dcterms:modified xsi:type="dcterms:W3CDTF">2013-05-08T18:20:43Z</dcterms:modified>
  <cp:revision>377</cp:revision>
  <dc:subject/>
  <dc:title>Fight for Indian Independence</dc:title>
</cp:coreProperties>
</file>