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move the slid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1588-12FF-4842-82E3-204E76DC5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leaders in India are disconnected from the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) Highly educ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) Fairly weal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andhi rejects the cast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himsa= Hindu principle of non-viol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ivil disobedience: to openly disobey unjust la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52FB-6D6E-48F4-A985-57532FC109B0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9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ensions running high in the city of  Amrits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dians are reacting with violence towards the Br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eaceful crowd gathers in the city even though Brits have banned public meet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rit. Guards open fire on the crowd killing about 400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ABFB-7EC6-41A8-AF56-48756A25995D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exploit Indian diversity to gain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de up of mostly Hindus and Musli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a is not unif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s are in India to: make money and expand British infolu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61AB-842B-4464-A701-FDF232878E61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 British Raj: Raj is an Indian word for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ish East India Company: is a trading company that runs Indian gov’t in the name of Eng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few Indians in the gov’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se Indian businesses so: they wont compete with British 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s “modernize” India at the expense of Indian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d to be educated in Eng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ts outlaw certain Hindu cus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AA56-709B-4330-9781-6C0954E71E00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poy is: An Indian in the British ar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ritish laws make Indians break: religious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: forces Hindus to associate with lower cas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fle cartridges: coated in the fat of animals (Muslims don’t eat beef and Hindus don’t eat any meat at 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oy refuse to: use the new rifles and stage a pro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poy Rebel.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British crown to take direct and tighter control of In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Deep distrust between the British in India and the Indian 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5C45-CCB2-44F0-AD3C-E304FF82ADDD}" type="slidenum">
              <a:rPr b="0" lang="en-US" sz="12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8e2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9CF8-52E3-473F-92D1-911B88780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3EB5-7B3C-4C6E-9BAE-FFB106AE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CB0-D6E5-41B0-9049-87C53B25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B7C4-D09B-4980-B824-FC9E3BFA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29D6-DD0A-48A5-866B-F9CC27DD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CE10-A93D-4291-A11C-361A377A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9E5B-A50B-43D7-95A7-7DE2CBD5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E5B8-36A5-4362-8970-348EB815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72BF-680B-451B-A404-97CEE3C2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4079-4CA8-4732-AF1F-A72A2386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B9AC-3A62-4828-9F1E-795C4F55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A9EF-349B-465C-A182-75166A1C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BB52-34CC-4987-87D7-4F3E0D98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8C55-78D4-4EF7-B50C-6E6370B8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A9E9-686B-4829-A4D6-61012FA8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E422-3E01-422E-9AE5-1DDAE648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B9FE-7B4D-4D1E-9B65-B33BA63A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EBE-20B8-46EA-B3EF-8D72007E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3B5-7A86-4DFE-B198-A3647D7F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488E-AC61-4BAA-86FB-F60F0D27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D9EC-A18F-419F-A66B-4C3CAE68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C2A-1CAD-4D10-9265-C6CE9DD4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208-9D03-4D74-BDD9-F5424B76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FDCD-197E-47FE-8A7E-A6A5901D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3" name="Picture 5" descr="D:\FRONTPAGE THEMES\CONSTRUC\URBBANND.PNG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76AC-870A-4872-AE57-BB8483E8902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8e2"/>
                </a:solidFill>
                <a:latin typeface="Times New Roman"/>
              </a:endParaRPr>
            </a:p>
          </p:txBody>
        </p:sp>
        <p:pic>
          <p:nvPicPr>
            <p:cNvPr id="48" name="Picture 5" descr="D:\FRONTPAGE THEMES\CONSTRUC\URBBANND.PNG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8e2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007A-7283-4911-805B-E605884B0923}" type="slidenum">
              <a:rPr b="0" lang="en-US" sz="1400" spc="-1" strike="noStrike">
                <a:solidFill>
                  <a:srgbClr val="eae8e2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bc03"/>
                </a:solidFill>
                <a:latin typeface="Impact"/>
              </a:rPr>
              <a:t>Fight for Indian Independence</a:t>
            </a:r>
            <a:endParaRPr b="0" lang="en-US" sz="48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Gandhi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The leaders in India are_____________ from the peopl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</a:rPr>
              <a:t>1) Highly_____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</a:rPr>
              <a:t>2) fairly_______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Gandhi ______ the caste system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Ahimsa=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Civil disobedience: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3" name="Picture 7" descr="Mahatama Gandhi, Father of Modern India"/>
          <p:cNvPicPr/>
          <p:nvPr/>
        </p:nvPicPr>
        <p:blipFill>
          <a:blip r:embed="rId3"/>
          <a:stretch/>
        </p:blipFill>
        <p:spPr>
          <a:xfrm>
            <a:off x="4648320" y="1996920"/>
            <a:ext cx="380988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Amritsar Massacre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</a:rPr>
              <a:t>1919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</a:rPr>
              <a:t>Tensions running high in the city of __________________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</a:rPr>
              <a:t>Indians are reacting with _________towards the Brits.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</a:rPr>
              <a:t>Peaceful crowd gathers in the city even though Brits have banned public_____________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8e2"/>
                </a:solidFill>
                <a:latin typeface="Arial Narrow"/>
              </a:rPr>
              <a:t>Brit. Guards ____  _____ on the crowd killing about 400</a:t>
            </a:r>
            <a:r>
              <a:rPr b="1" lang="en-US" sz="28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6" name="Picture 8" descr="http://brownskinzproductions.com/fa_images/AmritsarMassacre.gif"/>
          <p:cNvPicPr/>
          <p:nvPr/>
        </p:nvPicPr>
        <p:blipFill>
          <a:blip r:embed="rId1"/>
          <a:stretch/>
        </p:blipFill>
        <p:spPr>
          <a:xfrm>
            <a:off x="0" y="1327320"/>
            <a:ext cx="914400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Gandhi: Boycotts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British have a monopoly on _________; they force the Indians to buy cotton only from ____________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Gandhi encourages Indians to ________their own cott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29" name="Picture 8" descr="http://houston.indymedia.org/uploads/2003/09/gandhi-wheel.jpg"/>
          <p:cNvPicPr/>
          <p:nvPr/>
        </p:nvPicPr>
        <p:blipFill>
          <a:blip r:embed="rId1"/>
          <a:stretch/>
        </p:blipFill>
        <p:spPr>
          <a:xfrm>
            <a:off x="4648320" y="2671920"/>
            <a:ext cx="38098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Gandhi: The Salt March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British have a monopoly on _________; natural salt can be obtained at the _________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1930, 240 miles, 78 Indians (including Gandhi) march to ______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8e2"/>
                </a:solidFill>
                <a:latin typeface="Arial Narrow"/>
              </a:rPr>
              <a:t>Results of Salt March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</a:rPr>
              <a:t>Gandhi is_____________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8e2"/>
                </a:solidFill>
                <a:latin typeface="Arial Narrow"/>
              </a:rPr>
              <a:t>Indians continue to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32" name="Picture 8" descr="http://upload.wikimedia.org/wikipedia/commons/7/76/Gandhi_Salt_March.jpg"/>
          <p:cNvPicPr/>
          <p:nvPr/>
        </p:nvPicPr>
        <p:blipFill>
          <a:blip r:embed="rId3"/>
          <a:stretch/>
        </p:blipFill>
        <p:spPr>
          <a:xfrm>
            <a:off x="4495680" y="2209680"/>
            <a:ext cx="44197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Journal 5/6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call what the terms </a:t>
            </a:r>
            <a:r>
              <a:rPr b="0" i="1" lang="en-US" sz="3200" spc="-1" strike="noStrike">
                <a:solidFill>
                  <a:srgbClr val="eae8e2"/>
                </a:solidFill>
                <a:latin typeface="Arial Narrow"/>
              </a:rPr>
              <a:t>Imperialism 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nd </a:t>
            </a:r>
            <a:r>
              <a:rPr b="0" i="1" lang="en-US" sz="3200" spc="-1" strike="noStrike">
                <a:solidFill>
                  <a:srgbClr val="eae8e2"/>
                </a:solidFill>
                <a:latin typeface="Arial Narrow"/>
              </a:rPr>
              <a:t>Social Darwinism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 mean. How might this picture represent both?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1" name="il_fi" descr="http://www.tallarmeniantale.com/pics/britishraj_indianservant.JPG"/>
          <p:cNvPicPr/>
          <p:nvPr/>
        </p:nvPicPr>
        <p:blipFill>
          <a:blip r:embed="rId1"/>
          <a:stretch/>
        </p:blipFill>
        <p:spPr>
          <a:xfrm>
            <a:off x="4572000" y="1752480"/>
            <a:ext cx="45720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British Rule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ritish exploit Indian _______ to gain power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ade up of mostly Hindus and ______________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dia is not unified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rits are in India to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4" name="Picture 7" descr="http://freespace.virgin.net/andrew.randall1/indiaraj.gif"/>
          <p:cNvPicPr/>
          <p:nvPr/>
        </p:nvPicPr>
        <p:blipFill>
          <a:blip r:embed="rId3"/>
          <a:stretch/>
        </p:blipFill>
        <p:spPr>
          <a:xfrm>
            <a:off x="3886200" y="1817640"/>
            <a:ext cx="502920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Impact of British Rul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5105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alled British Raj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ritish East India Company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Very few_______in the gov’t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Close_______businesses so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rits “__________”India at the expense of ______culture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Forced to be educated in_____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Brits outlaw certain Hindu _________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07" name="Picture 7" descr="http://images.google.com/url?q=http://upload.wikimedia.org/wikipedia/commons/thumb/b/be/British_Raj_Red_Ensign.svg/800px-British_Raj_Red_Ensign.svg.png&amp;usg=AFQjCNEWqA4k8AgrPa4byCciti9kOX0tDA"/>
          <p:cNvPicPr/>
          <p:nvPr/>
        </p:nvPicPr>
        <p:blipFill>
          <a:blip r:embed="rId5"/>
          <a:stretch/>
        </p:blipFill>
        <p:spPr>
          <a:xfrm>
            <a:off x="5181480" y="3124080"/>
            <a:ext cx="3810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Sepoy Rebellion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	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6172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 Sepoy is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ome British laws make Indians break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Travel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Rifle cartridges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poy refuse to: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and stage a protes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e Sepoy Rebel. cause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1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SzPct val="1337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2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0" name="Picture 6" descr="http://ram.nmolp.org/creativespaces/files/photos/photo-eb14e1dacd97703e8d2a235ed24cb18d.jpg"/>
          <p:cNvPicPr/>
          <p:nvPr/>
        </p:nvPicPr>
        <p:blipFill>
          <a:blip r:embed="rId5"/>
          <a:stretch/>
        </p:blipFill>
        <p:spPr>
          <a:xfrm>
            <a:off x="6934320" y="990720"/>
            <a:ext cx="140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Impact of British Rule:Indian famine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British exploit Indian ____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dustrialize which =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arm land has been converted from food production to ___________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SzPct val="1170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More people to feed but less food =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3" name="Picture 7" descr="http://www.gutenberg.org/files/13242/13242-h/images/418.jpg"/>
          <p:cNvPicPr/>
          <p:nvPr/>
        </p:nvPicPr>
        <p:blipFill>
          <a:blip r:embed="rId3"/>
          <a:stretch/>
        </p:blipFill>
        <p:spPr>
          <a:xfrm>
            <a:off x="4648320" y="2627280"/>
            <a:ext cx="380988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Impact of British Rule: Some positives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ule of law =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12120" indent="-31212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Industrialization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676080" indent="-259920">
              <a:spcBef>
                <a:spcPts val="799"/>
              </a:spcBef>
              <a:buSzPct val="1170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ailroads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676080" indent="-259920">
              <a:spcBef>
                <a:spcPts val="799"/>
              </a:spcBef>
              <a:buSzPct val="1170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echnology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12120" indent="-312120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Arial Narrow"/>
              </a:rPr>
              <a:t>________benefits from English education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12120" indent="-312120">
              <a:spcBef>
                <a:spcPts val="901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Arial Narrow"/>
              </a:rPr>
              <a:t>Connection w/ other countries =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Arial Narrow"/>
              </a:rPr>
              <a:t>  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  <p:pic>
        <p:nvPicPr>
          <p:cNvPr id="116" name="Picture 7" descr="http://www.textually.org/textually/archives/archives/images/set2/510Untitled-7-med.jpg"/>
          <p:cNvPicPr/>
          <p:nvPr/>
        </p:nvPicPr>
        <p:blipFill>
          <a:blip r:embed="rId3"/>
          <a:stretch/>
        </p:blipFill>
        <p:spPr>
          <a:xfrm>
            <a:off x="4648320" y="2768760"/>
            <a:ext cx="380988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Journal 2/23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0" y="1218960"/>
            <a:ext cx="9144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Arial Narrow"/>
              </a:rPr>
              <a:t>Turn to page 762. Complete the note taking guide at the bottom left. As you read through the section answer the 4 check point questions. 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8e2"/>
                </a:solidFill>
                <a:latin typeface="Arial Narrow"/>
              </a:rPr>
              <a:t>If you finished this already…is your crossword finished? If so work on something else quietly. </a:t>
            </a:r>
            <a:endParaRPr b="0" lang="en-US" sz="36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Journal 5/8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oday we will learn about an Indian leader named Gandhi. One of my favorite Gandhi quotes is: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 </a:t>
            </a:r>
            <a:r>
              <a:rPr b="0" i="1" lang="en-US" sz="3200" spc="-1" strike="noStrike">
                <a:solidFill>
                  <a:srgbClr val="eae8e2"/>
                </a:solidFill>
                <a:latin typeface="Arial Narrow"/>
              </a:rPr>
              <a:t>“…</a:t>
            </a:r>
            <a:r>
              <a:rPr b="0" i="1" lang="en-US" sz="3200" spc="-1" strike="noStrike">
                <a:solidFill>
                  <a:srgbClr val="eae8e2"/>
                </a:solidFill>
                <a:latin typeface="Arial Narrow"/>
              </a:rPr>
              <a:t>even if you are a minority of one, the truth is the truth.”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Reflect on this statement; what did Gandhi mean?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9:17:52Z</dcterms:created>
  <dc:creator>TPS</dc:creator>
  <dc:description/>
  <dc:language>en-US</dc:language>
  <cp:lastModifiedBy>IT Clone User</cp:lastModifiedBy>
  <dcterms:modified xsi:type="dcterms:W3CDTF">2013-05-08T18:20:43Z</dcterms:modified>
  <cp:revision>377</cp:revision>
  <dc:subject/>
  <dc:title>Fight for Indian Independence</dc:title>
</cp:coreProperties>
</file>