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B72D-4ADE-4CA0-A9FF-921F1CC6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F03-A45E-478B-B85A-B55F084A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EC1-A388-472A-A97A-C1A4E4B2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0D90-5930-4DD6-B3B9-BCC3AF5F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703-DAFF-4BCA-AE7D-42AE26AA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5B4-4769-431B-804D-9DFF3239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0FDE-FD67-4B4C-B2ED-EA88925E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D58E-8731-4166-9540-E97BB3D2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F54-5A77-408D-B4A9-63372E79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F30-2A7B-4172-B0D7-697D6D70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A20B-6069-4204-A7C7-DB76E9DF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F71-028A-4841-8A8D-8D2BE941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738B-EF53-4719-BF24-57B4265AA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3/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855. Read about the H-bomb. What is the debate here? On which side do you fall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uclear2" descr=""/>
          <p:cNvPicPr/>
          <p:nvPr/>
        </p:nvPicPr>
        <p:blipFill>
          <a:blip r:embed="rId1"/>
          <a:stretch/>
        </p:blipFill>
        <p:spPr>
          <a:xfrm>
            <a:off x="121932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ATOMIC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Stencil"/>
              </a:rPr>
              <a:t>Sputnik, </a:t>
            </a: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the H-bomb and life in the Nuclear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uclear2" descr=""/>
          <p:cNvPicPr/>
          <p:nvPr/>
        </p:nvPicPr>
        <p:blipFill>
          <a:blip r:embed="rId1"/>
          <a:stretch/>
        </p:blipFill>
        <p:spPr>
          <a:xfrm>
            <a:off x="2440080" y="1292400"/>
            <a:ext cx="4263840" cy="427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The H-B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_______commissions the building of the H-bomb in late ’4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Far more powerful than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Truman says US must be able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bomb" descr=""/>
          <p:cNvPicPr/>
          <p:nvPr/>
        </p:nvPicPr>
        <p:blipFill>
          <a:blip r:embed="rId2"/>
          <a:stretch/>
        </p:blipFill>
        <p:spPr>
          <a:xfrm>
            <a:off x="4648320" y="2781360"/>
            <a:ext cx="4495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rimage" descr="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703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nuclear2" descr=""/>
          <p:cNvPicPr/>
          <p:nvPr/>
        </p:nvPicPr>
        <p:blipFill>
          <a:blip r:embed="rId1"/>
          <a:stretch/>
        </p:blipFill>
        <p:spPr>
          <a:xfrm>
            <a:off x="2440080" y="1292400"/>
            <a:ext cx="4263840" cy="427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An arms rac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Arms race btw ______&amp;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Shift in military reliance on________ to development of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______launch </a:t>
            </a:r>
            <a:r>
              <a:rPr b="0" i="1" lang="en-US" sz="2800" spc="-1" strike="noStrike">
                <a:solidFill>
                  <a:srgbClr val="cc0000"/>
                </a:solidFill>
                <a:latin typeface="Stencil"/>
              </a:rPr>
              <a:t>Sputnik </a:t>
            </a: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Stencil"/>
              </a:rPr>
              <a:t>Sputnik II</a:t>
            </a: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. Thes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US responds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putnik1_technician" descr=""/>
          <p:cNvPicPr/>
          <p:nvPr/>
        </p:nvPicPr>
        <p:blipFill>
          <a:blip r:embed="rId2"/>
          <a:srcRect l="3997" t="7967" r="6003" b="2019"/>
          <a:stretch/>
        </p:blipFill>
        <p:spPr>
          <a:xfrm>
            <a:off x="4648320" y="2438280"/>
            <a:ext cx="44956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uclear2" descr=""/>
          <p:cNvPicPr/>
          <p:nvPr/>
        </p:nvPicPr>
        <p:blipFill>
          <a:blip r:embed="rId1"/>
          <a:stretch/>
        </p:blipFill>
        <p:spPr>
          <a:xfrm>
            <a:off x="2440080" y="1292400"/>
            <a:ext cx="4263840" cy="427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American Reaction to Nuclear Thr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76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Fear of Nuclear ______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FCDA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1) Stresses the importanc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2)”Duck and Cover” &amp; 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3) Air-raid sir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uckandcover_bert" descr=""/>
          <p:cNvPicPr/>
          <p:nvPr/>
        </p:nvPicPr>
        <p:blipFill>
          <a:blip r:embed="rId2"/>
          <a:stretch/>
        </p:blipFill>
        <p:spPr>
          <a:xfrm>
            <a:off x="4648320" y="2624040"/>
            <a:ext cx="3809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8:46:30Z</dcterms:created>
  <dc:creator>TPS</dc:creator>
  <dc:description/>
  <dc:language>en-US</dc:language>
  <cp:lastModifiedBy>TPS</cp:lastModifiedBy>
  <dcterms:modified xsi:type="dcterms:W3CDTF">2008-03-25T20:47:14Z</dcterms:modified>
  <cp:revision>1</cp:revision>
  <dc:subject/>
  <dc:title>Journal 3/6</dc:title>
</cp:coreProperties>
</file>