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25991-EC28-46D2-9763-65A06789C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23044-0725-4FFA-8DA6-D70A789B2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4B463-E453-437F-A9E4-064A65125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CF067-EE60-464B-8DCC-79512F922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F8576-D54D-4770-92D9-9A9848AAF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5C95C-41BE-495E-91C7-0D6B341D4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4454E-E64A-4425-9658-20BD67581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DE9C8-8C82-4F2A-A405-628004AB1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FF9D3-02A2-4043-AF4F-7FBB8A8F3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5E527-5B23-4771-B18C-2082BC0BE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829B4-D339-4A77-9A79-C46F1C353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592D3-5337-4F33-B030-F574F4D97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F4D51-DA9F-4B67-8736-6D9532AC26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ournal 3/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09480" y="17521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urn to page 855. Read about the H-bomb. What is the debate here? On which side do you fall? Wh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nuclear2" descr=""/>
          <p:cNvPicPr/>
          <p:nvPr/>
        </p:nvPicPr>
        <p:blipFill>
          <a:blip r:embed="rId1"/>
          <a:stretch/>
        </p:blipFill>
        <p:spPr>
          <a:xfrm>
            <a:off x="1219320" y="0"/>
            <a:ext cx="684036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Stencil"/>
              </a:rPr>
              <a:t>ATOMIC ANXIE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cc0000"/>
                </a:solidFill>
                <a:latin typeface="Stencil"/>
              </a:rPr>
              <a:t>Sputnik, </a:t>
            </a:r>
            <a:r>
              <a:rPr b="0" lang="en-US" sz="3200" spc="-1" strike="noStrike">
                <a:solidFill>
                  <a:srgbClr val="cc0000"/>
                </a:solidFill>
                <a:latin typeface="Stencil"/>
              </a:rPr>
              <a:t>the H-bomb and life in the Nuclear 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nuclear2" descr=""/>
          <p:cNvPicPr/>
          <p:nvPr/>
        </p:nvPicPr>
        <p:blipFill>
          <a:blip r:embed="rId1"/>
          <a:stretch/>
        </p:blipFill>
        <p:spPr>
          <a:xfrm>
            <a:off x="2440080" y="1292400"/>
            <a:ext cx="4263840" cy="4275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Stencil"/>
              </a:rPr>
              <a:t>The H-Bom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47242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Font typeface="Stenci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Stencil"/>
              </a:rPr>
              <a:t>_______commissions the building of the H-bomb in late ’40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Font typeface="Stenci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Stencil"/>
              </a:rPr>
              <a:t>Far more powerful than______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Font typeface="Stenci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Stencil"/>
              </a:rPr>
              <a:t>Truman says US must be able to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hbomb" descr=""/>
          <p:cNvPicPr/>
          <p:nvPr/>
        </p:nvPicPr>
        <p:blipFill>
          <a:blip r:embed="rId2"/>
          <a:stretch/>
        </p:blipFill>
        <p:spPr>
          <a:xfrm>
            <a:off x="4648320" y="2781360"/>
            <a:ext cx="4495680" cy="31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crimage" descr=""/>
          <p:cNvPicPr/>
          <p:nvPr/>
        </p:nvPicPr>
        <p:blipFill>
          <a:blip r:embed="rId1"/>
          <a:stretch/>
        </p:blipFill>
        <p:spPr>
          <a:xfrm>
            <a:off x="0" y="-87480"/>
            <a:ext cx="9144000" cy="703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nuclear2" descr=""/>
          <p:cNvPicPr/>
          <p:nvPr/>
        </p:nvPicPr>
        <p:blipFill>
          <a:blip r:embed="rId1"/>
          <a:stretch/>
        </p:blipFill>
        <p:spPr>
          <a:xfrm>
            <a:off x="2440080" y="1292400"/>
            <a:ext cx="4263840" cy="4275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Stencil"/>
              </a:rPr>
              <a:t>Arms 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449568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Stenci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Stencil"/>
              </a:rPr>
              <a:t>An arms race i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Stenci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Stencil"/>
              </a:rPr>
              <a:t>Arms race btw ______&amp;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Stenci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Stencil"/>
              </a:rPr>
              <a:t>Shift in military reliance on________ to development of__________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Stenci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Stencil"/>
              </a:rPr>
              <a:t>______launch </a:t>
            </a:r>
            <a:r>
              <a:rPr b="0" i="1" lang="en-US" sz="2800" spc="-1" strike="noStrike">
                <a:solidFill>
                  <a:srgbClr val="cc0000"/>
                </a:solidFill>
                <a:latin typeface="Stencil"/>
              </a:rPr>
              <a:t>Sputnik </a:t>
            </a:r>
            <a:r>
              <a:rPr b="0" lang="en-US" sz="2800" spc="-1" strike="noStrike">
                <a:solidFill>
                  <a:srgbClr val="cc0000"/>
                </a:solidFill>
                <a:latin typeface="Stencil"/>
              </a:rPr>
              <a:t>and </a:t>
            </a:r>
            <a:r>
              <a:rPr b="0" i="1" lang="en-US" sz="2800" spc="-1" strike="noStrike">
                <a:solidFill>
                  <a:srgbClr val="cc0000"/>
                </a:solidFill>
                <a:latin typeface="Stencil"/>
              </a:rPr>
              <a:t>Sputnik II</a:t>
            </a:r>
            <a:r>
              <a:rPr b="0" lang="en-US" sz="2800" spc="-1" strike="noStrike">
                <a:solidFill>
                  <a:srgbClr val="cc0000"/>
                </a:solidFill>
                <a:latin typeface="Stencil"/>
              </a:rPr>
              <a:t>. These a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Stenci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Stencil"/>
              </a:rPr>
              <a:t>US responds by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sputnik1_technician" descr=""/>
          <p:cNvPicPr/>
          <p:nvPr/>
        </p:nvPicPr>
        <p:blipFill>
          <a:blip r:embed="rId2"/>
          <a:srcRect l="3997" t="7967" r="6003" b="2019"/>
          <a:stretch/>
        </p:blipFill>
        <p:spPr>
          <a:xfrm>
            <a:off x="4648320" y="2438280"/>
            <a:ext cx="4495680" cy="343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nuclear2" descr=""/>
          <p:cNvPicPr/>
          <p:nvPr/>
        </p:nvPicPr>
        <p:blipFill>
          <a:blip r:embed="rId1"/>
          <a:stretch/>
        </p:blipFill>
        <p:spPr>
          <a:xfrm>
            <a:off x="2440080" y="1292400"/>
            <a:ext cx="4263840" cy="42750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Stencil"/>
              </a:rPr>
              <a:t>American Reaction to Nuclear Thre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-360" y="1523880"/>
            <a:ext cx="487692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Font typeface="Stenci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Stencil"/>
              </a:rPr>
              <a:t>Fear of Nuclear ______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Font typeface="Stenci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Stencil"/>
              </a:rPr>
              <a:t>FCDA i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Font typeface="Stenci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Stencil"/>
              </a:rPr>
              <a:t>1) Stresses the importance of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Font typeface="Stenci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Stencil"/>
              </a:rPr>
              <a:t>2)”Duck and Cover” &amp; Be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Font typeface="Stenci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Stencil"/>
              </a:rPr>
              <a:t>3) Air-raid sir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duckandcover_bert" descr=""/>
          <p:cNvPicPr/>
          <p:nvPr/>
        </p:nvPicPr>
        <p:blipFill>
          <a:blip r:embed="rId2"/>
          <a:stretch/>
        </p:blipFill>
        <p:spPr>
          <a:xfrm>
            <a:off x="4648320" y="2624040"/>
            <a:ext cx="3809880" cy="28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6T18:46:30Z</dcterms:created>
  <dc:creator>TPS</dc:creator>
  <dc:description/>
  <dc:language>en-US</dc:language>
  <cp:lastModifiedBy>TPS</cp:lastModifiedBy>
  <dcterms:modified xsi:type="dcterms:W3CDTF">2008-03-25T20:47:14Z</dcterms:modified>
  <cp:revision>1</cp:revision>
  <dc:subject/>
  <dc:title>Journal 3/6</dc:title>
</cp:coreProperties>
</file>