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E9C2-CD5B-4343-9D28-6B20CF2B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B12-DD1A-40C5-A694-C355C916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E414-E47C-4E24-B4A4-98A009E6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F094-3FCC-49B3-92C6-0B7F19F1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9015-E47D-466C-8AA4-28FED3CD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477-080C-499E-B204-757CF8C9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F013-08C8-4D08-9AE6-47BD457F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B2E-7273-4165-895A-FBD32468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1343-134C-414E-82BF-CF418A6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337-D88B-4806-9FAB-D3998591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5E9-6D9E-40FD-BEC1-41108FE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C3D-68EB-4445-BF2B-15211A27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D855-BF3B-44CC-9011-39E5FC7F4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n to pg 246 in the US history text. Read about the Indian Removal Act and answer the follow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Why did president Jackson remove the India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Where did they 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Why were these tribe referred to as ‘civilized’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I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Worcester v Georgi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led against relocation why did the Cherokee have to le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 Why is the Trail of Tears so nam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5:39:43Z</dcterms:created>
  <dc:creator>TPS</dc:creator>
  <dc:description/>
  <dc:language>en-US</dc:language>
  <cp:lastModifiedBy>TPS</cp:lastModifiedBy>
  <dcterms:modified xsi:type="dcterms:W3CDTF">2009-08-20T15:40:20Z</dcterms:modified>
  <cp:revision>1</cp:revision>
  <dc:subject/>
  <dc:title>Journal 8/20</dc:title>
</cp:coreProperties>
</file>