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23B7-5B6A-41B4-98F9-2E60BBC50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9114-069C-4AD6-8181-99DA4847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44B8-C724-4F64-9C13-B2127798A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0071-70BE-4246-BEDB-134A79276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231C-DE04-4210-A747-3091B6BE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06F4-97F0-49E9-91B1-CF27595E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92DC-2563-4BAA-BB60-39FE7C259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FC2C-35C2-4047-A0EF-4AC3C3B0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180F-462D-4AA7-A968-D7B63B65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A7CC-6837-4D59-ADDA-129DEA46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7FFE-8312-4B3E-809D-1DA98666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4CBC-6C66-44C2-8531-B454824A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D16A-5659-4468-87F3-A2E513984F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urnal 8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urn to pg 246 in the US history text. Read about the Indian Removal Act and answer the following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 Why did president Jackson remove the Indian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 Where did they g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 Why were these tribe referred to as ‘civilized’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 If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Worcester v Georgia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uled against relocation why did the Cherokee have to lea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5 Why is the Trail of Tears so nam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0T15:39:43Z</dcterms:created>
  <dc:creator>TPS</dc:creator>
  <dc:description/>
  <dc:language>en-US</dc:language>
  <cp:lastModifiedBy>TPS</cp:lastModifiedBy>
  <dcterms:modified xsi:type="dcterms:W3CDTF">2009-08-20T15:40:20Z</dcterms:modified>
  <cp:revision>1</cp:revision>
  <dc:subject/>
  <dc:title>Journal 8/20</dc:title>
</cp:coreProperties>
</file>